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5.png" ContentType="image/png"/>
  <Override PartName="/ppt/media/image30.jpeg" ContentType="image/jpeg"/>
  <Override PartName="/ppt/media/image47.gif" ContentType="image/gif"/>
  <Override PartName="/ppt/media/image31.jpeg" ContentType="image/jpeg"/>
  <Override PartName="/ppt/media/image2.png" ContentType="image/png"/>
  <Override PartName="/ppt/media/image34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41.jpeg" ContentType="image/jpeg"/>
  <Override PartName="/ppt/media/image44.png" ContentType="image/png"/>
  <Override PartName="/ppt/media/image46.gif" ContentType="image/gif"/>
  <Override PartName="/ppt/media/image39.png" ContentType="image/png"/>
  <Override PartName="/ppt/media/image43.jpeg" ContentType="image/jpeg"/>
  <Override PartName="/ppt/media/image48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9AB-B815-4160-B818-9DBEFB4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A81-ABE5-4161-BA5F-37E4FFB2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7E5-9EC8-451A-9956-CD311B90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67E-B32F-4E84-AC5C-7B130EEF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B1D-0952-44A3-9CC2-EE677017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4A5-826E-46E5-B477-3884A465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468C-08D0-41D7-9325-BBF501CB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4565-A79C-40C5-83D9-616EA32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D403-F1D5-473E-9F49-DE53359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18E-4DC2-4849-A872-DB1A3CF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5DA-D6C3-477F-B6F5-5F68A59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CE9-6451-49E7-8DBF-5F33474E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5D81-2ADA-4961-AF18-CADE8EB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FF9-58C8-4F11-8593-C2181C2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5C2F-7618-479A-8362-BBC015C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A55-0FCB-4220-B721-525DF08A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B8AF-0ECA-4E78-935B-E85BF7E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B84-6862-4D3E-B183-1D9AF9B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A6D-9F2F-4EEB-BCC1-740069F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D19-D850-4932-B8D9-541D7F02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73A-A07D-4B0E-BC3B-70D7F142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87B-5B65-487C-947F-C48C4A5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E74-7067-4AD6-A50F-4A3A102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7DA-88E3-489B-8478-1349AE1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88B-A3BE-4E1A-8625-9ABC9B51D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2199-479F-49FF-A0A9-9274B0F11A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2193840" y="2548080"/>
            <a:ext cx="5085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2309760" y="133200"/>
            <a:ext cx="4859280" cy="622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76520" y="3200400"/>
            <a:ext cx="67816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anufacturer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ony, Foxconn and ASUSTeK for SC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C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Cell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G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RSX at 550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edia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:  Blu-ray Disc, DVD, Compact Disc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uper Audio (20 GB, 60 GB, 80 GB mod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 2.5" SATA hard drive (20 GB, 40 GB, 60 GB, or 80 GB inclu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Upto 7 wireless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215px-Playstation3vector.svg.png"/>
          <p:cNvPicPr/>
          <p:nvPr/>
        </p:nvPicPr>
        <p:blipFill>
          <a:blip r:embed="rId2"/>
          <a:stretch/>
        </p:blipFill>
        <p:spPr>
          <a:xfrm>
            <a:off x="228600" y="380880"/>
            <a:ext cx="204804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25px-PLAYSTATION_3_logo.svg.png"/>
          <p:cNvPicPr/>
          <p:nvPr/>
        </p:nvPicPr>
        <p:blipFill>
          <a:blip r:embed="rId3"/>
          <a:stretch/>
        </p:blipFill>
        <p:spPr>
          <a:xfrm>
            <a:off x="2219400" y="1457280"/>
            <a:ext cx="5705280" cy="749520"/>
          </a:xfrm>
          <a:prstGeom prst="rect">
            <a:avLst/>
          </a:prstGeom>
          <a:ln w="0">
            <a:noFill/>
          </a:ln>
        </p:spPr>
      </p:pic>
      <p:sp>
        <p:nvSpPr>
          <p:cNvPr id="136" name="U-Turn Arrow 1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8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50px-X360_Logo.png"/>
          <p:cNvPicPr/>
          <p:nvPr/>
        </p:nvPicPr>
        <p:blipFill>
          <a:blip r:embed="rId1"/>
          <a:stretch/>
        </p:blipFill>
        <p:spPr>
          <a:xfrm>
            <a:off x="3200400" y="152280"/>
            <a:ext cx="3174840" cy="80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250px-Xbox360.png"/>
          <p:cNvPicPr/>
          <p:nvPr/>
        </p:nvPicPr>
        <p:blipFill>
          <a:blip r:embed="rId2"/>
          <a:stretch/>
        </p:blipFill>
        <p:spPr>
          <a:xfrm>
            <a:off x="6172200" y="990720"/>
            <a:ext cx="217332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28600" y="3124080"/>
            <a:ext cx="891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3.2 GHz PPC Tri-Core X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GPU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500 MHz ATI Xe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DVD, DVD-DL, CD, Add-On: HD D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20 or 120 GB hard drive, 64, 256 or 512 MB memory c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4 maximum (wired or wireless or combination of either)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7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Wii.png"/>
          <p:cNvPicPr/>
          <p:nvPr/>
        </p:nvPicPr>
        <p:blipFill>
          <a:blip r:embed="rId1"/>
          <a:stretch/>
        </p:blipFill>
        <p:spPr>
          <a:xfrm>
            <a:off x="3733920" y="45720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60px-Wii_Wiimotea.png"/>
          <p:cNvPicPr/>
          <p:nvPr/>
        </p:nvPicPr>
        <p:blipFill>
          <a:blip r:embed="rId2"/>
          <a:stretch/>
        </p:blipFill>
        <p:spPr>
          <a:xfrm>
            <a:off x="0" y="0"/>
            <a:ext cx="2286000" cy="30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hrome-wii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657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3581280"/>
            <a:ext cx="93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Nint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IBM PowerPC-base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"Broadwa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PU: ATI "Hollywood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12 cm Wii Optical Disc 8 cm Nintendo GameCube Game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512 MiB Internal flash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ecure Digital car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Nintendo GameCube Memory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Wii Remote, Nintendo GameCube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4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17701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China online gamers has spent almost US$500m on online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icrosoft 360 has introduced a “Family Timer” to help prevent children from getting addicted to ga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ot all games are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cond Life is similar to The Sims which is also a virtual game except it is not on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ince the opening of Second Life, today it has been inhabited by millions of residents which are the players from all around the glo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the game players can create their own charac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yers also reserve the legal rights of what they own in the ga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ut it would also cause some social and ethical issues like people getting too serious in the g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1335240" y="133200"/>
            <a:ext cx="6638760" cy="622440"/>
          </a:xfrm>
          <a:prstGeom prst="rect">
            <a:avLst/>
          </a:prstGeom>
          <a:ln w="0">
            <a:noFill/>
          </a:ln>
        </p:spPr>
      </p:pic>
      <p:sp>
        <p:nvSpPr>
          <p:cNvPr id="147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Graham_Thorpe.jpg"/>
          <p:cNvPicPr/>
          <p:nvPr/>
        </p:nvPicPr>
        <p:blipFill>
          <a:blip r:embed="rId2"/>
          <a:srcRect l="2138" t="0" r="0" b="0"/>
          <a:stretch/>
        </p:blipFill>
        <p:spPr>
          <a:xfrm>
            <a:off x="2895480" y="1219320"/>
            <a:ext cx="3486240" cy="44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00400" y="762120"/>
            <a:ext cx="2981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 Narrow"/>
              </a:rPr>
              <a:t>and online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50" name="Picture 2" descr="video-trailer-shots-388861.jpg"/>
          <p:cNvPicPr/>
          <p:nvPr/>
        </p:nvPicPr>
        <p:blipFill>
          <a:blip r:embed="rId3"/>
          <a:stretch/>
        </p:blipFill>
        <p:spPr>
          <a:xfrm>
            <a:off x="5029200" y="5261040"/>
            <a:ext cx="3505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2511360" y="-92160"/>
            <a:ext cx="3975120" cy="622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ridge-racer-7-2"/>
          <p:cNvPicPr/>
          <p:nvPr/>
        </p:nvPicPr>
        <p:blipFill>
          <a:blip r:embed="rId2"/>
          <a:stretch/>
        </p:blipFill>
        <p:spPr>
          <a:xfrm>
            <a:off x="398520" y="762120"/>
            <a:ext cx="3792600" cy="21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ifa08sc8x02x11x07.jpg"/>
          <p:cNvPicPr/>
          <p:nvPr/>
        </p:nvPicPr>
        <p:blipFill>
          <a:blip r:embed="rId3"/>
          <a:stretch/>
        </p:blipFill>
        <p:spPr>
          <a:xfrm>
            <a:off x="4751280" y="762120"/>
            <a:ext cx="3783240" cy="21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s32637_ps3_3.jpg"/>
          <p:cNvPicPr/>
          <p:nvPr/>
        </p:nvPicPr>
        <p:blipFill>
          <a:blip r:embed="rId4"/>
          <a:stretch/>
        </p:blipFill>
        <p:spPr>
          <a:xfrm>
            <a:off x="380880" y="33526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.jpg"/>
          <p:cNvPicPr/>
          <p:nvPr/>
        </p:nvPicPr>
        <p:blipFill>
          <a:blip r:embed="rId5"/>
          <a:stretch/>
        </p:blipFill>
        <p:spPr>
          <a:xfrm>
            <a:off x="4724280" y="320040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020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Graphic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11548_full.jpg"/>
          <p:cNvPicPr/>
          <p:nvPr/>
        </p:nvPicPr>
        <p:blipFill>
          <a:blip r:embed="rId1"/>
          <a:stretch/>
        </p:blipFill>
        <p:spPr>
          <a:xfrm>
            <a:off x="609480" y="457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4572000"/>
            <a:ext cx="838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ughty, naugh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9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762360" cy="24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2819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 Kom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Coffee mod in GTA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n Andre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1036800" y="2073240"/>
            <a:ext cx="7192800" cy="1139760"/>
          </a:xfrm>
          <a:prstGeom prst="rect">
            <a:avLst/>
          </a:prstGeom>
          <a:ln w="0">
            <a:noFill/>
          </a:ln>
        </p:spPr>
      </p:pic>
      <p:sp>
        <p:nvSpPr>
          <p:cNvPr id="168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914400" y="12193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ambling- The voluntary risking of a sum of money on the outcome of a game or other 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Betting- To lay money on the correct prediction of an out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8534160" cy="1146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590920" y="47242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n online gambling people make money, and mostly they loose money. People use their own money as a prize to games they play against  other players. Each player has to put in money in order to particip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533520" y="46980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pread betting - 14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(Fixed Odds Betting Terminals) FOBT - 11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ting exchanges - 9.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merican Classic"/>
                <a:ea typeface="Times New Roman"/>
              </a:rPr>
              <a:t>Online gambling - 7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line betting - 6.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og racing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asino table games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s with bookmakers - 3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otball pools - 3.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ingo - 3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975040" y="3906720"/>
            <a:ext cx="3029040" cy="4636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4" descr=""/>
          <p:cNvPicPr/>
          <p:nvPr/>
        </p:nvPicPr>
        <p:blipFill>
          <a:blip r:embed="rId2"/>
          <a:stretch/>
        </p:blipFill>
        <p:spPr>
          <a:xfrm>
            <a:off x="469800" y="96840"/>
            <a:ext cx="4619880" cy="463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124080" y="4343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n urge to gamble despite harmful negative consequences or a desire to s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titlephoto_onlinegambling"/>
          <p:cNvPicPr/>
          <p:nvPr/>
        </p:nvPicPr>
        <p:blipFill>
          <a:blip r:embed="rId3"/>
          <a:stretch/>
        </p:blipFill>
        <p:spPr>
          <a:xfrm>
            <a:off x="4724280" y="1143000"/>
            <a:ext cx="411480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4" descr=""/>
          <p:cNvPicPr/>
          <p:nvPr/>
        </p:nvPicPr>
        <p:blipFill>
          <a:blip r:embed="rId1"/>
          <a:stretch/>
        </p:blipFill>
        <p:spPr>
          <a:xfrm>
            <a:off x="579600" y="285840"/>
            <a:ext cx="8223120" cy="622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609480" y="1143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ore and more clients are asking their lawyers whether Internet gambling is leg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09480" y="198468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s are beginning to operate online gambling games themselves, but restricting play to local pa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3139200"/>
            <a:ext cx="6477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 licensing sche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lling lic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mplete background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ntinuing oversight of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ximately 54 jurisdictions issuing licen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rimarily smaller nations, such as Antigua, and states and territories of larger nations, including those in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Prohibiting Wagering on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gambling4"/>
          <p:cNvPicPr/>
          <p:nvPr/>
        </p:nvPicPr>
        <p:blipFill>
          <a:blip r:embed="rId2"/>
          <a:stretch/>
        </p:blipFill>
        <p:spPr>
          <a:xfrm>
            <a:off x="6310440" y="1752480"/>
            <a:ext cx="2833560" cy="2133720"/>
          </a:xfrm>
          <a:prstGeom prst="rect">
            <a:avLst/>
          </a:prstGeom>
          <a:ln w="0">
            <a:noFill/>
          </a:ln>
        </p:spPr>
      </p:pic>
      <p:sp>
        <p:nvSpPr>
          <p:cNvPr id="18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828800" y="263376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The world of gaming is fairly young but is involving 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Graphic cards are now stronger than e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Faster processing units and  RAM  on graphic card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91216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U-Turn Arrow 6">
            <a:hlinkClick r:id="" action="ppaction://hlinkshowjump?jump=previousslide"/>
          </p:cNvPr>
          <p:cNvSpPr/>
          <p:nvPr/>
        </p:nvSpPr>
        <p:spPr>
          <a:xfrm rot="10800000">
            <a:off x="8838720" y="-36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763920"/>
            <a:ext cx="84582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 October 13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law prohibits the use of any bank instru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redi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lectronic funds trans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effective way to cut off the money supply that offshore and foreign gambling sites feed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The negative effects of gambling have been widely documented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ll too often, gambl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d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Bankrupt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Divor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C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False 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Moral dec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Internet gambling magnifies the destructiveness of gambling by bringing the casino into the home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One student reportedly lost $10,000 on Internet sports gambling over a three-month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2766960" y="60480"/>
            <a:ext cx="3700440" cy="622080"/>
          </a:xfrm>
          <a:prstGeom prst="rect">
            <a:avLst/>
          </a:prstGeom>
          <a:ln w="0">
            <a:noFill/>
          </a:ln>
        </p:spPr>
      </p:pic>
      <p:sp>
        <p:nvSpPr>
          <p:cNvPr id="18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bush.gif"/>
          <p:cNvPicPr/>
          <p:nvPr/>
        </p:nvPicPr>
        <p:blipFill>
          <a:blip r:embed="rId2"/>
          <a:stretch/>
        </p:blipFill>
        <p:spPr>
          <a:xfrm>
            <a:off x="7086600" y="2895480"/>
            <a:ext cx="174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Bodog Online Casino"/>
          <p:cNvPicPr/>
          <p:nvPr/>
        </p:nvPicPr>
        <p:blipFill>
          <a:blip r:embed="rId1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The Sands of the Caribbean® Online Casino"/>
          <p:cNvPicPr/>
          <p:nvPr/>
        </p:nvPicPr>
        <p:blipFill>
          <a:blip r:embed="rId2"/>
          <a:stretch/>
        </p:blipFill>
        <p:spPr>
          <a:xfrm>
            <a:off x="70102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http://banners.vipprofits.com/banners/125x125_bgd_newcasino_05_31.gif?CampaignID=14290"/>
          <p:cNvPicPr/>
          <p:nvPr/>
        </p:nvPicPr>
        <p:blipFill>
          <a:blip r:embed="rId3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38280" y="285840"/>
            <a:ext cx="6324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unded in 199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odog.com is now the global leader in safe and secure online casin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urrently processing around $6 billion per year in w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alued at more than US $1 b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rusted as a source for sports betting information by organizations such as ESPN and CN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2648160"/>
            <a:ext cx="685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ands Casino was picked as the number 1 online casino by Gambling Online Magazi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stablished, licensed, and in operation since August of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Sands of the Caribbean® Online Casino has safely and securely taken in millions of wag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Well over 120,000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apidly becoming THE LEADER in the online gaming indus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676520" y="5051160"/>
            <a:ext cx="769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 Game Day is Located on the island of Curaca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Licensed by the Central Government of the Netherlands Antil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ved by the Off-Shore Gaming Association, Gambling Advisor and BettorsWorl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lso been SafeBet certifi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ternet Gaming Commission Accredi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ambling Online Magazine also awarded them Top Sportsb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1143000" y="-1219320"/>
            <a:ext cx="66294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je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8583840" cy="699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80880" y="1447920"/>
            <a:ext cx="84582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merican Classic"/>
              </a:rPr>
              <a:t>Better Graphic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raphic cards on the console are very specialized and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ome have nearly the same inner working as a good as a graphic card of a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n example of this is the PS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eople say, that the PS3 graphic card is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SX 'Reality Synthesizer‘ of NVID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arly the same as NVIDIA 7800 for the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Xbox 360 uses the Xenos GP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custom designed at AT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GPU is the precursor to the Radeon 600 graphic card se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Eight%20Da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04920" y="205596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DVD : Digital Versatile Disc or Digital Video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D: Compact Dis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VR: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tereolithography: is a common rapid manufacturing, rapid prototyping technolog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vr_ring.jpg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2736720" y="158760"/>
            <a:ext cx="3651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228600" y="2076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wer ways of playing vide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.g.  Wii which uses motion sens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t isn’t  just pushing a button and playing anymore but people still prefer it that 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y still keep to the old style of playing g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This could be a positive for the gaming world and also a negativ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Fight-Night-Round-3-001"/>
          <p:cNvPicPr/>
          <p:nvPr/>
        </p:nvPicPr>
        <p:blipFill>
          <a:blip r:embed="rId2"/>
          <a:stretch/>
        </p:blipFill>
        <p:spPr>
          <a:xfrm>
            <a:off x="380880" y="3962520"/>
            <a:ext cx="3962520" cy="246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ec-20-06-screen-shots-sony-playstation-3-console-video-game-images-need-for-speed-carbon%20(1)"/>
          <p:cNvPicPr/>
          <p:nvPr/>
        </p:nvPicPr>
        <p:blipFill>
          <a:blip r:embed="rId3"/>
          <a:stretch/>
        </p:blipFill>
        <p:spPr>
          <a:xfrm>
            <a:off x="4495680" y="3962520"/>
            <a:ext cx="4319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vidia_logo3"/>
          <p:cNvPicPr/>
          <p:nvPr/>
        </p:nvPicPr>
        <p:blipFill>
          <a:blip r:embed="rId4"/>
          <a:stretch/>
        </p:blipFill>
        <p:spPr>
          <a:xfrm>
            <a:off x="7010280" y="762120"/>
            <a:ext cx="16765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828800" y="107820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re are many issues that are associated with video games nowad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ideo Games has been and still is a hot topic of controver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very first controversy with video games is Death Race of 197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caused a national outcry saying that this game, critics say that it simulated vehicular homicide.</a:t>
            </a:r>
            <a:r>
              <a:rPr b="0" lang="en-GB" sz="1800" spc="-1" strike="noStrike">
                <a:solidFill>
                  <a:srgbClr val="000000"/>
                </a:solidFill>
                <a:latin typeface="American Classic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39280" y="541476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tform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Arcad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ublish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, 197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evelop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105280" cy="1581120"/>
          </a:xfrm>
          <a:prstGeom prst="rect">
            <a:avLst/>
          </a:prstGeom>
          <a:ln w="0">
            <a:noFill/>
          </a:ln>
        </p:spPr>
      </p:pic>
      <p:sp>
        <p:nvSpPr>
          <p:cNvPr id="120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t caused a national outc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1px-Blu-ray_Disc.svg.png"/>
          <p:cNvPicPr/>
          <p:nvPr/>
        </p:nvPicPr>
        <p:blipFill>
          <a:blip r:embed="rId1"/>
          <a:stretch/>
        </p:blipFill>
        <p:spPr>
          <a:xfrm>
            <a:off x="3581280" y="380880"/>
            <a:ext cx="191448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447920" y="1676520"/>
          <a:ext cx="6705360" cy="45720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14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25 GB (single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50 GB (dual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Blu-ray Disc Assoc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ata Storage, High-definition video and Playstation 3 G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200px-HD-DVD.svg.png"/>
          <p:cNvPicPr/>
          <p:nvPr/>
        </p:nvPicPr>
        <p:blipFill>
          <a:blip r:embed="rId1"/>
          <a:stretch/>
        </p:blipFill>
        <p:spPr>
          <a:xfrm>
            <a:off x="3718080" y="231840"/>
            <a:ext cx="18237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23880" y="1646280"/>
          <a:ext cx="6096240" cy="2835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 typ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-density optical dis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GB (single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 GB (dual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 GB (triple layer)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D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storage, including high-definition 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7918200" cy="622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52280" y="9975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video game console is just a highly specialized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of the systems are based on the same Central processing unit (CPUs) in most of the desktop compu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basic pieces of the game system haven’t changed much since the birth of the Atari system but it has only inv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Here is a list of the common core component of the video game conso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User contro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oftware 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torage Medium for 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Vide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Audi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Pow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U-Turn Arrow 4">
            <a:hlinkClick r:id="rId2" action="ppaction://hlinksldjump"/>
          </p:cNvPr>
          <p:cNvSpPr/>
          <p:nvPr/>
        </p:nvSpPr>
        <p:spPr>
          <a:xfrm rot="10800000">
            <a:off x="8534520" y="228240"/>
            <a:ext cx="30456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naked-xbox360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24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1:15:44Z</dcterms:created>
  <dc:creator>e0705</dc:creator>
  <dc:description/>
  <dc:language>en-US</dc:language>
  <cp:lastModifiedBy>E1586-1</cp:lastModifiedBy>
  <dcterms:modified xsi:type="dcterms:W3CDTF">2007-12-03T01:35:26Z</dcterms:modified>
  <cp:revision>81</cp:revision>
  <dc:subject/>
  <dc:title>Slide 1</dc:title>
</cp:coreProperties>
</file>