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25.png" ContentType="image/png"/>
  <Override PartName="/ppt/media/image30.jpeg" ContentType="image/jpeg"/>
  <Override PartName="/ppt/media/image47.gif" ContentType="image/gif"/>
  <Override PartName="/ppt/media/image31.jpeg" ContentType="image/jpeg"/>
  <Override PartName="/ppt/media/image2.png" ContentType="image/png"/>
  <Override PartName="/ppt/media/image34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41.jpeg" ContentType="image/jpeg"/>
  <Override PartName="/ppt/media/image44.png" ContentType="image/png"/>
  <Override PartName="/ppt/media/image46.gif" ContentType="image/gif"/>
  <Override PartName="/ppt/media/image39.png" ContentType="image/png"/>
  <Override PartName="/ppt/media/image43.jpeg" ContentType="image/jpeg"/>
  <Override PartName="/ppt/media/image48.gif" ContentType="image/gif"/>
  <Override PartName="/ppt/media/image13.png" ContentType="image/pn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287-43B0-4DE9-BD23-6528009D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2A4-F7C6-467A-B0BF-EFA456E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D9E-CBA8-478E-B5CE-3FA65735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D2B-45F8-40B6-86DD-41E94B1A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692C-105A-4FE8-86F6-33E04E11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EF52-7AAB-4A39-80F3-1041A19A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280E-FFC1-4FF0-9914-DACEFA4A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7408-A02F-4F71-A040-A8BF5BA6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B719-7B87-4718-8188-3BD155B3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8DFD-29EC-4AA8-AA5E-EF29A076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8715-A7D7-4F24-B0E2-C6F7450F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6EA-814B-4159-8736-E590D211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4421-60FC-497F-8C37-6C9FEBE0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EE48-BABA-4FED-83D4-5387FCC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94BC-BED9-490E-8197-A885D06A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57E1-64ED-47ED-AE76-2420702C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235D-C3EF-4C39-A0B7-39BFB920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02A-3A80-4898-9319-3D3151FD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658-3DA6-4B35-AD17-537302CF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972-6821-45F3-915B-7B97D47B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770-D7C5-4478-9814-2AF959CE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F1D-1B7B-4F6C-8FE7-96814C2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B43-D603-4015-B480-6DD5201F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CBE-CE84-4EF0-AC16-05315C05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2503-D485-42A3-956B-2064E0527A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29B-BB7F-4ECA-9391-E955AB59C3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6" descr=""/>
          <p:cNvPicPr/>
          <p:nvPr/>
        </p:nvPicPr>
        <p:blipFill>
          <a:blip r:embed="rId1"/>
          <a:stretch/>
        </p:blipFill>
        <p:spPr>
          <a:xfrm>
            <a:off x="2193840" y="2548080"/>
            <a:ext cx="5085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1" descr=""/>
          <p:cNvPicPr/>
          <p:nvPr/>
        </p:nvPicPr>
        <p:blipFill>
          <a:blip r:embed="rId1"/>
          <a:stretch/>
        </p:blipFill>
        <p:spPr>
          <a:xfrm>
            <a:off x="2309760" y="133200"/>
            <a:ext cx="4859280" cy="622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76520" y="3200400"/>
            <a:ext cx="678168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Manufacturer: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ony, Foxconn and ASUSTeK for SC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CPU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Cell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GPU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RSX at 550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Media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:  Blu-ray Disc, DVD, Compact Disc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uper Audio (20 GB, 60 GB, 80 GB mode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 2.5" SATA hard drive (20 GB, 40 GB, 60 GB, or 80 GB includ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Upto 7 wireless contro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1" descr="215px-Playstation3vector.svg.png"/>
          <p:cNvPicPr/>
          <p:nvPr/>
        </p:nvPicPr>
        <p:blipFill>
          <a:blip r:embed="rId2"/>
          <a:stretch/>
        </p:blipFill>
        <p:spPr>
          <a:xfrm>
            <a:off x="228600" y="380880"/>
            <a:ext cx="2048040" cy="278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25px-PLAYSTATION_3_logo.svg.png"/>
          <p:cNvPicPr/>
          <p:nvPr/>
        </p:nvPicPr>
        <p:blipFill>
          <a:blip r:embed="rId3"/>
          <a:stretch/>
        </p:blipFill>
        <p:spPr>
          <a:xfrm>
            <a:off x="2219400" y="1457280"/>
            <a:ext cx="5705280" cy="749520"/>
          </a:xfrm>
          <a:prstGeom prst="rect">
            <a:avLst/>
          </a:prstGeom>
          <a:ln w="0">
            <a:noFill/>
          </a:ln>
        </p:spPr>
      </p:pic>
      <p:sp>
        <p:nvSpPr>
          <p:cNvPr id="136" name="U-Turn Arrow 1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8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250px-X360_Logo.png"/>
          <p:cNvPicPr/>
          <p:nvPr/>
        </p:nvPicPr>
        <p:blipFill>
          <a:blip r:embed="rId1"/>
          <a:stretch/>
        </p:blipFill>
        <p:spPr>
          <a:xfrm>
            <a:off x="3200400" y="152280"/>
            <a:ext cx="3174840" cy="80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250px-Xbox360.png"/>
          <p:cNvPicPr/>
          <p:nvPr/>
        </p:nvPicPr>
        <p:blipFill>
          <a:blip r:embed="rId2"/>
          <a:stretch/>
        </p:blipFill>
        <p:spPr>
          <a:xfrm>
            <a:off x="6172200" y="990720"/>
            <a:ext cx="2173320" cy="2895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28600" y="3124080"/>
            <a:ext cx="8915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anufacturer: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PU: </a:t>
            </a: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3.2 GHz PPC Tri-Core Xe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GPU: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500 MHz ATI Xe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edia: DVD, DVD-DL, CD, Add-On: HD D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20 or 120 GB hard drive, 64, 256 or 512 MB memory c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4 maximum (wired or wireless or combination of either)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7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Wii.png"/>
          <p:cNvPicPr/>
          <p:nvPr/>
        </p:nvPicPr>
        <p:blipFill>
          <a:blip r:embed="rId1"/>
          <a:stretch/>
        </p:blipFill>
        <p:spPr>
          <a:xfrm>
            <a:off x="3733920" y="457200"/>
            <a:ext cx="169380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260px-Wii_Wiimotea.png"/>
          <p:cNvPicPr/>
          <p:nvPr/>
        </p:nvPicPr>
        <p:blipFill>
          <a:blip r:embed="rId2"/>
          <a:stretch/>
        </p:blipFill>
        <p:spPr>
          <a:xfrm>
            <a:off x="0" y="0"/>
            <a:ext cx="2286000" cy="30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hrome-wii"/>
          <p:cNvPicPr/>
          <p:nvPr/>
        </p:nvPicPr>
        <p:blipFill>
          <a:blip r:embed="rId3"/>
          <a:stretch/>
        </p:blipFill>
        <p:spPr>
          <a:xfrm>
            <a:off x="6284880" y="0"/>
            <a:ext cx="2859120" cy="2657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0" y="3581280"/>
            <a:ext cx="9372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anufacturer: Ninte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PU: IBM PowerPC-base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"Broadway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PU: ATI "Hollywood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edia: 12 cm Wii Optical Disc 8 cm Nintendo GameCube Game D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512 MiB Internal flash mem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ecure Digital car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         Nintendo GameCube Memory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Wii Remote, Nintendo GameCube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4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0" y="177012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 China online gamers has spent almost US$500m on online ga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icrosoft 360 has introduced a “Family Timer” to help prevent children from getting addicted to gam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ot all games are b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econd Life is similar to The Sims which is also a virtual game except it is not onli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ince the opening of Second Life, today it has been inhabited by millions of residents which are the players from all around the glob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 the game players can create their own charac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layers also reserve the legal rights of what they own in the ga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ut it would also cause some social and ethical issues like people getting too serious in the g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1335240" y="133200"/>
            <a:ext cx="6638760" cy="622440"/>
          </a:xfrm>
          <a:prstGeom prst="rect">
            <a:avLst/>
          </a:prstGeom>
          <a:ln w="0">
            <a:noFill/>
          </a:ln>
        </p:spPr>
      </p:pic>
      <p:sp>
        <p:nvSpPr>
          <p:cNvPr id="147" name="U-Turn Arrow 3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Graham_Thorpe.jpg"/>
          <p:cNvPicPr/>
          <p:nvPr/>
        </p:nvPicPr>
        <p:blipFill>
          <a:blip r:embed="rId2"/>
          <a:srcRect l="2138" t="0" r="0" b="0"/>
          <a:stretch/>
        </p:blipFill>
        <p:spPr>
          <a:xfrm>
            <a:off x="2895480" y="1219320"/>
            <a:ext cx="3486240" cy="44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200400" y="762120"/>
            <a:ext cx="29811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atin typeface="Arial Narrow"/>
              </a:rPr>
              <a:t>and online gam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pic>
        <p:nvPicPr>
          <p:cNvPr id="150" name="Picture 2" descr="video-trailer-shots-388861.jpg"/>
          <p:cNvPicPr/>
          <p:nvPr/>
        </p:nvPicPr>
        <p:blipFill>
          <a:blip r:embed="rId3"/>
          <a:stretch/>
        </p:blipFill>
        <p:spPr>
          <a:xfrm>
            <a:off x="5029200" y="5261040"/>
            <a:ext cx="35053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ctangle 1" descr=""/>
          <p:cNvPicPr/>
          <p:nvPr/>
        </p:nvPicPr>
        <p:blipFill>
          <a:blip r:embed="rId1"/>
          <a:stretch/>
        </p:blipFill>
        <p:spPr>
          <a:xfrm>
            <a:off x="2511360" y="-92160"/>
            <a:ext cx="3975120" cy="622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ridge-racer-7-2"/>
          <p:cNvPicPr/>
          <p:nvPr/>
        </p:nvPicPr>
        <p:blipFill>
          <a:blip r:embed="rId2"/>
          <a:stretch/>
        </p:blipFill>
        <p:spPr>
          <a:xfrm>
            <a:off x="398520" y="762120"/>
            <a:ext cx="3792600" cy="213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fifa08sc8x02x11x07.jpg"/>
          <p:cNvPicPr/>
          <p:nvPr/>
        </p:nvPicPr>
        <p:blipFill>
          <a:blip r:embed="rId3"/>
          <a:stretch/>
        </p:blipFill>
        <p:spPr>
          <a:xfrm>
            <a:off x="4751280" y="762120"/>
            <a:ext cx="3783240" cy="21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s32637_ps3_3.jpg"/>
          <p:cNvPicPr/>
          <p:nvPr/>
        </p:nvPicPr>
        <p:blipFill>
          <a:blip r:embed="rId4"/>
          <a:stretch/>
        </p:blipFill>
        <p:spPr>
          <a:xfrm>
            <a:off x="380880" y="3352680"/>
            <a:ext cx="3886200" cy="2186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1.jpg"/>
          <p:cNvPicPr/>
          <p:nvPr/>
        </p:nvPicPr>
        <p:blipFill>
          <a:blip r:embed="rId5"/>
          <a:stretch/>
        </p:blipFill>
        <p:spPr>
          <a:xfrm>
            <a:off x="4724280" y="320040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0020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Graphic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11548_full.jpg"/>
          <p:cNvPicPr/>
          <p:nvPr/>
        </p:nvPicPr>
        <p:blipFill>
          <a:blip r:embed="rId1"/>
          <a:stretch/>
        </p:blipFill>
        <p:spPr>
          <a:xfrm>
            <a:off x="609480" y="457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819520" cy="2255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191120" y="320040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4572000"/>
            <a:ext cx="8380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ughty, naught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a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2971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572000" y="304920"/>
            <a:ext cx="3762360" cy="24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410080" y="2819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tal Kom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 Coffee mod in GTA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n Andre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1036800" y="2073240"/>
            <a:ext cx="7192800" cy="1139760"/>
          </a:xfrm>
          <a:prstGeom prst="rect">
            <a:avLst/>
          </a:prstGeom>
          <a:ln w="0">
            <a:noFill/>
          </a:ln>
        </p:spPr>
      </p:pic>
      <p:sp>
        <p:nvSpPr>
          <p:cNvPr id="168" name="U-Turn Arrow 3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914400" y="1219320"/>
            <a:ext cx="66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ambling- The voluntary risking of a sum of money on the outcome of a game or other e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Betting- To lay money on the correct prediction of an out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281160" y="12600"/>
            <a:ext cx="8534160" cy="11462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2590920" y="472428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In online gambling people make money, and mostly they loose money. People use their own money as a prize to games they play against  other players. Each player has to put in money in order to particip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533520" y="46980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pread betting - 14.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(Fixed Odds Betting Terminals) FOBT - 11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ting exchanges - 9.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merican Classic"/>
                <a:ea typeface="Times New Roman"/>
              </a:rPr>
              <a:t>Online gambling - 7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Online betting - 6.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Dog racing - 5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asino table games - 5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s with bookmakers - 3.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Football pools - 3.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ingo - 3.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2975040" y="3906720"/>
            <a:ext cx="3029040" cy="46368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4" descr=""/>
          <p:cNvPicPr/>
          <p:nvPr/>
        </p:nvPicPr>
        <p:blipFill>
          <a:blip r:embed="rId2"/>
          <a:stretch/>
        </p:blipFill>
        <p:spPr>
          <a:xfrm>
            <a:off x="469800" y="96840"/>
            <a:ext cx="4619880" cy="463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124080" y="43434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n urge to gamble despite harmful negative consequences or a desire to sto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titlephoto_onlinegambling"/>
          <p:cNvPicPr/>
          <p:nvPr/>
        </p:nvPicPr>
        <p:blipFill>
          <a:blip r:embed="rId3"/>
          <a:stretch/>
        </p:blipFill>
        <p:spPr>
          <a:xfrm>
            <a:off x="4724280" y="1143000"/>
            <a:ext cx="4114800" cy="2625840"/>
          </a:xfrm>
          <a:prstGeom prst="rect">
            <a:avLst/>
          </a:prstGeom>
          <a:ln w="0">
            <a:noFill/>
          </a:ln>
        </p:spPr>
      </p:pic>
      <p:sp>
        <p:nvSpPr>
          <p:cNvPr id="178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4" descr=""/>
          <p:cNvPicPr/>
          <p:nvPr/>
        </p:nvPicPr>
        <p:blipFill>
          <a:blip r:embed="rId1"/>
          <a:stretch/>
        </p:blipFill>
        <p:spPr>
          <a:xfrm>
            <a:off x="579600" y="285840"/>
            <a:ext cx="8223120" cy="622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609480" y="11430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ore and more clients are asking their lawyers whether Internet gambling is leg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609480" y="1984680"/>
            <a:ext cx="609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overnments are beginning to operate online gambling games themselves, but restricting play to local pa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09480" y="3139200"/>
            <a:ext cx="6477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overnment licensing schem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elling lic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omplete background che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ontinuing oversight of oper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pproximately 54 jurisdictions issuing licen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rimarily smaller nations, such as Antigua, and states and territories of larger nations, including those in Austr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Prohibiting Wagering on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gambling4"/>
          <p:cNvPicPr/>
          <p:nvPr/>
        </p:nvPicPr>
        <p:blipFill>
          <a:blip r:embed="rId2"/>
          <a:stretch/>
        </p:blipFill>
        <p:spPr>
          <a:xfrm>
            <a:off x="6310440" y="1752480"/>
            <a:ext cx="2833560" cy="2133720"/>
          </a:xfrm>
          <a:prstGeom prst="rect">
            <a:avLst/>
          </a:prstGeom>
          <a:ln w="0">
            <a:noFill/>
          </a:ln>
        </p:spPr>
      </p:pic>
      <p:sp>
        <p:nvSpPr>
          <p:cNvPr id="184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828800" y="2633760"/>
            <a:ext cx="579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The world of gaming is fairly young but is involving f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Graphic cards are now stronger than e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Faster processing units and  RAM  on graphic card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912160" cy="1487520"/>
          </a:xfrm>
          <a:prstGeom prst="rect">
            <a:avLst/>
          </a:prstGeom>
          <a:ln w="0">
            <a:noFill/>
          </a:ln>
        </p:spPr>
      </p:pic>
      <p:sp>
        <p:nvSpPr>
          <p:cNvPr id="101" name="U-Turn Arrow 6">
            <a:hlinkClick r:id="" action="ppaction://hlinkshowjump?jump=previousslide"/>
          </p:cNvPr>
          <p:cNvSpPr/>
          <p:nvPr/>
        </p:nvSpPr>
        <p:spPr>
          <a:xfrm rot="10800000">
            <a:off x="8838720" y="-36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80880" y="763920"/>
            <a:ext cx="8458200" cy="67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On October 13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law prohibits the use of any bank instru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redit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lectronic funds transf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ost effective way to cut off the money supply that offshore and foreign gambling sites feed 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The negative effects of gambling have been widely documented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ll too often, gambling resul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dd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Bankrupt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Divor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Cr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False Id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Moral dec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Internet gambling magnifies the destructiveness of gambling by bringing the casino into the home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One student reportedly lost $10,000 on Internet sports gambling over a three-month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2766960" y="60480"/>
            <a:ext cx="3700440" cy="622080"/>
          </a:xfrm>
          <a:prstGeom prst="rect">
            <a:avLst/>
          </a:prstGeom>
          <a:ln w="0">
            <a:noFill/>
          </a:ln>
        </p:spPr>
      </p:pic>
      <p:sp>
        <p:nvSpPr>
          <p:cNvPr id="187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bush.gif"/>
          <p:cNvPicPr/>
          <p:nvPr/>
        </p:nvPicPr>
        <p:blipFill>
          <a:blip r:embed="rId2"/>
          <a:stretch/>
        </p:blipFill>
        <p:spPr>
          <a:xfrm>
            <a:off x="7086600" y="2895480"/>
            <a:ext cx="17496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Bodog Online Casino"/>
          <p:cNvPicPr/>
          <p:nvPr/>
        </p:nvPicPr>
        <p:blipFill>
          <a:blip r:embed="rId1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The Sands of the Caribbean® Online Casino"/>
          <p:cNvPicPr/>
          <p:nvPr/>
        </p:nvPicPr>
        <p:blipFill>
          <a:blip r:embed="rId2"/>
          <a:stretch/>
        </p:blipFill>
        <p:spPr>
          <a:xfrm>
            <a:off x="70102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http://banners.vipprofits.com/banners/125x125_bgd_newcasino_05_31.gif?CampaignID=14290"/>
          <p:cNvPicPr/>
          <p:nvPr/>
        </p:nvPicPr>
        <p:blipFill>
          <a:blip r:embed="rId3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438280" y="285840"/>
            <a:ext cx="6324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Founded in 199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odog.com is now the global leader in safe and secure online casin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urrently processing around $6 billion per year in w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Valued at more than US $1 b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rusted as a source for sports betting information by organizations such as ESPN and CN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2648160"/>
            <a:ext cx="685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ands Casino was picked as the number 1 online casino by Gambling Online Magazin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stablished, licensed, and in operation since August of 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Sands of the Caribbean® Online Casino has safely and securely taken in millions of wager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Well over 120,000 custo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Rapidly becoming THE LEADER in the online gaming indust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676520" y="5051160"/>
            <a:ext cx="7696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 Game Day is Located on the island of Curaca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Licensed by the Central Government of the Netherlands Antill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pproved by the Off-Shore Gaming Association, Gambling Advisor and BettorsWorl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lso been SafeBet certifi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ternet Gaming Commission Accredi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ambling Online Magazine also awarded them Top Sportsboo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U-Turn Arrow 8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2"/>
          <p:cNvSpPr/>
          <p:nvPr/>
        </p:nvSpPr>
        <p:spPr>
          <a:xfrm>
            <a:off x="1143000" y="-1219320"/>
            <a:ext cx="66294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r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je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l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311040" y="347760"/>
            <a:ext cx="8583840" cy="699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380880" y="1447920"/>
            <a:ext cx="845820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merican Classic"/>
              </a:rPr>
              <a:t>Better Graphic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raphic cards on the console are very specialized and cus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ome have nearly the same inner working as a good as a graphic card of a P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n example of this is the PS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eople say, that the PS3 graphic card is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RSX 'Reality Synthesizer‘ of NVID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early the same as NVIDIA 7800 for the P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Xbox 360 uses the Xenos GP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 custom designed at AT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GPU is the precursor to the Radeon 600 graphic card ser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U-Turn Arrow 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" descr="Eight%20Day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304920" y="205596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DVD : Digital Versatile Disc or Digital Video D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D: Compact Dis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VR: Virtual Re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tereolithography: is a common rapid manufacturing, rapid prototyping technolog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vr_ring.jpg"/>
          <p:cNvPicPr/>
          <p:nvPr/>
        </p:nvPicPr>
        <p:blipFill>
          <a:blip r:embed="rId1"/>
          <a:stretch/>
        </p:blipFill>
        <p:spPr>
          <a:xfrm>
            <a:off x="5943600" y="3809880"/>
            <a:ext cx="25909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6" descr=""/>
          <p:cNvPicPr/>
          <p:nvPr/>
        </p:nvPicPr>
        <p:blipFill>
          <a:blip r:embed="rId2"/>
          <a:stretch/>
        </p:blipFill>
        <p:spPr>
          <a:xfrm>
            <a:off x="2736720" y="158760"/>
            <a:ext cx="36514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055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228600" y="2076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ewer ways of playing video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.g.  Wii which uses motion senso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t isn’t  just pushing a button and playing anymore but people still prefer it that 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y still keep to the old style of playing gam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This could be a positive for the gaming world and also a negative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Fight-Night-Round-3-001"/>
          <p:cNvPicPr/>
          <p:nvPr/>
        </p:nvPicPr>
        <p:blipFill>
          <a:blip r:embed="rId2"/>
          <a:stretch/>
        </p:blipFill>
        <p:spPr>
          <a:xfrm>
            <a:off x="380880" y="3962520"/>
            <a:ext cx="3962520" cy="246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ec-20-06-screen-shots-sony-playstation-3-console-video-game-images-need-for-speed-carbon%20(1)"/>
          <p:cNvPicPr/>
          <p:nvPr/>
        </p:nvPicPr>
        <p:blipFill>
          <a:blip r:embed="rId3"/>
          <a:stretch/>
        </p:blipFill>
        <p:spPr>
          <a:xfrm>
            <a:off x="4495680" y="3962520"/>
            <a:ext cx="431964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nvidia_logo3"/>
          <p:cNvPicPr/>
          <p:nvPr/>
        </p:nvPicPr>
        <p:blipFill>
          <a:blip r:embed="rId4"/>
          <a:stretch/>
        </p:blipFill>
        <p:spPr>
          <a:xfrm>
            <a:off x="7010280" y="762120"/>
            <a:ext cx="16765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05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828800" y="1078200"/>
            <a:ext cx="548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re are many issues that are associated with video games nowada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Video Games has been and still is a hot topic of controvers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very first controversy with video games is Death Race of 197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caused a national outcry saying that this game, critics say that it simulated vehicular homicide.</a:t>
            </a:r>
            <a:r>
              <a:rPr b="0" lang="en-GB" sz="1800" spc="-1" strike="noStrike">
                <a:solidFill>
                  <a:srgbClr val="000000"/>
                </a:solidFill>
                <a:latin typeface="American Classic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239280" y="541476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latform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Arcad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ublisher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Exidy, 1976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Developer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Exi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2105280" cy="1581120"/>
          </a:xfrm>
          <a:prstGeom prst="rect">
            <a:avLst/>
          </a:prstGeom>
          <a:ln w="0">
            <a:noFill/>
          </a:ln>
        </p:spPr>
      </p:pic>
      <p:sp>
        <p:nvSpPr>
          <p:cNvPr id="120" name="U-Turn Arrow 8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It caused a national outcr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01px-Blu-ray_Disc.svg.png"/>
          <p:cNvPicPr/>
          <p:nvPr/>
        </p:nvPicPr>
        <p:blipFill>
          <a:blip r:embed="rId1"/>
          <a:stretch/>
        </p:blipFill>
        <p:spPr>
          <a:xfrm>
            <a:off x="3581280" y="380880"/>
            <a:ext cx="191448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447920" y="1676520"/>
          <a:ext cx="6705360" cy="4572000"/>
        </p:xfrm>
        <a:graphic>
          <a:graphicData uri="http://schemas.openxmlformats.org/drawingml/2006/table">
            <a:tbl>
              <a:tblPr/>
              <a:tblGrid>
                <a:gridCol w="3352680"/>
                <a:gridCol w="3352680"/>
              </a:tblGrid>
              <a:tr h="14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Capacit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25 GB (single lay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50 GB (dual lay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Develop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Blu-ray Disc Associ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Usa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Data Storage, High-definition video and Playstation 3 Ga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200px-HD-DVD.svg.png"/>
          <p:cNvPicPr/>
          <p:nvPr/>
        </p:nvPicPr>
        <p:blipFill>
          <a:blip r:embed="rId1"/>
          <a:stretch/>
        </p:blipFill>
        <p:spPr>
          <a:xfrm>
            <a:off x="3718080" y="231840"/>
            <a:ext cx="182376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523880" y="1646280"/>
          <a:ext cx="6096240" cy="2835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 typ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-density optical dis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 GB (single laye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 GB (dual laye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 GB (triple layer)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VD For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storage, including high-definition vide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U-Turn Arrow 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646200" y="133200"/>
            <a:ext cx="7918200" cy="622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152280" y="997560"/>
            <a:ext cx="876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 video game console is just a highly specialized compu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ost of the systems are based on the same Central processing unit (CPUs) in most of the desktop compu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basic pieces of the game system haven’t changed much since the birth of the Atari system but it has only invol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Here is a list of the common core component of the video game conso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User contro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Software Ker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Storage Medium for g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Video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Audio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Power su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U-Turn Arrow 4">
            <a:hlinkClick r:id="rId2" action="ppaction://hlinksldjump"/>
          </p:cNvPr>
          <p:cNvSpPr/>
          <p:nvPr/>
        </p:nvSpPr>
        <p:spPr>
          <a:xfrm rot="10800000">
            <a:off x="8534520" y="228240"/>
            <a:ext cx="30456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naked-xbox360.jpg"/>
          <p:cNvPicPr/>
          <p:nvPr/>
        </p:nvPicPr>
        <p:blipFill>
          <a:blip r:embed="rId3"/>
          <a:stretch/>
        </p:blipFill>
        <p:spPr>
          <a:xfrm>
            <a:off x="4876920" y="3429000"/>
            <a:ext cx="3824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1:15:44Z</dcterms:created>
  <dc:creator>e0705</dc:creator>
  <dc:description/>
  <dc:language>en-US</dc:language>
  <cp:lastModifiedBy>E1586-1</cp:lastModifiedBy>
  <dcterms:modified xsi:type="dcterms:W3CDTF">2007-12-03T01:35:26Z</dcterms:modified>
  <cp:revision>81</cp:revision>
  <dc:subject/>
  <dc:title>Slide 1</dc:title>
</cp:coreProperties>
</file>