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1BDE8-FBE1-40D1-9417-9A10DDD13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8D867-0DEC-44EC-B6D2-54D2E5703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D56B7-3F30-46AC-B8D0-AB01948EA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55E26-80D7-4F72-BF00-A6314EDA0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3A463-6BDA-4B90-8445-9D57311F4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9D320-536C-4730-871B-9F126102A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C11D3-6F31-4CAE-ACFD-2F999974C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A56EA-CAE5-46B7-96B1-C61277F5A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791DA-74E1-4735-A695-EA751DEF4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B0E71-D275-4EB6-A9E5-1C5B01738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A3DFE-7247-4A90-A217-E9EFD01ED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0B61C-9065-4DB6-A1DE-83EA98A55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5E9AC-13C0-4FDE-95B9-7C11C318B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7754E-6F57-4312-8AE8-A89A007F7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CA06D-0D87-446F-B88E-8D6C2124A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E139B-1209-44CD-874F-D82FCD54F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E7555-8343-499E-BDB7-21231B005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A274F-CFBC-4F65-8ACC-FE7D7943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EEA26-6EB7-4DB3-91BB-47A38F156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312E9-5B01-46B9-81D2-9955C597E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2CF64-2B0B-4C85-BC1F-1D361B03B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AF10-D821-4DCE-B577-8DB846670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C8A7-045F-46FD-99CA-02A0C5691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B5F65-8F76-4867-89AE-F87A1BC35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FB50-28E9-467A-B421-32CC33E8EA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FEBD-66F2-45FF-BC87-4816141682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SETTING UP AN INTERNET NETWORK</a:t>
            </a:r>
            <a:endParaRPr b="1" lang="en-US" sz="4900" spc="-1" strike="noStrike">
              <a:solidFill>
                <a:srgbClr val="330066"/>
              </a:solidFill>
              <a:latin typeface="Arial"/>
            </a:endParaRPr>
          </a:p>
        </p:txBody>
      </p:sp>
      <p:sp>
        <p:nvSpPr>
          <p:cNvPr id="150" name="PlaceHolder 2"/>
          <p:cNvSpPr>
            <a:spLocks noGrp="1"/>
          </p:cNvSpPr>
          <p:nvPr>
            <p:ph type="subTitle"/>
          </p:nvPr>
        </p:nvSpPr>
        <p:spPr>
          <a:xfrm>
            <a:off x="304560" y="3047760"/>
            <a:ext cx="6792840" cy="2361960"/>
          </a:xfrm>
          <a:prstGeom prst="rect">
            <a:avLst/>
          </a:prstGeom>
          <a:noFill/>
          <a:ln w="0">
            <a:noFill/>
          </a:ln>
        </p:spPr>
        <p:txBody>
          <a:bodyPr lIns="90000" rIns="90000" tIns="46800" bIns="46800" anchor="t">
            <a:noAutofit/>
          </a:bodyPr>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ll need</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options</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data travel the Internet?</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rminology</a:t>
            </a:r>
            <a:endParaRPr b="0" lang="en-US" sz="3200" spc="-1" strike="noStrike">
              <a:solidFill>
                <a:srgbClr val="000000"/>
              </a:solidFill>
              <a:latin typeface="Arial"/>
            </a:endParaRPr>
          </a:p>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amp; HARDWARE REQUIRED</a:t>
            </a:r>
            <a:endParaRPr b="1" lang="en-US" sz="3600" spc="-1" strike="noStrike">
              <a:solidFill>
                <a:srgbClr val="330066"/>
              </a:solidFill>
              <a:latin typeface="Arial"/>
            </a:endParaRPr>
          </a:p>
        </p:txBody>
      </p:sp>
      <p:sp>
        <p:nvSpPr>
          <p:cNvPr id="152" name="PlaceHolder 2"/>
          <p:cNvSpPr>
            <a:spLocks noGrp="1"/>
          </p:cNvSpPr>
          <p:nvPr>
            <p:ph/>
          </p:nvPr>
        </p:nvSpPr>
        <p:spPr>
          <a:xfrm>
            <a:off x="152280" y="838080"/>
            <a:ext cx="8839440" cy="55627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of modem</a:t>
            </a:r>
            <a:r>
              <a:rPr b="0" lang="en-US" sz="2800" spc="-1" strike="noStrike">
                <a:solidFill>
                  <a:srgbClr val="000000"/>
                </a:solidFill>
                <a:latin typeface="Arial"/>
              </a:rPr>
              <a:t> – This converts the analog signal (Telephone) to a digital signal (Computers)</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a:t>
            </a:r>
            <a:r>
              <a:rPr b="0" lang="en-US" sz="2800" spc="-1" strike="noStrike">
                <a:solidFill>
                  <a:srgbClr val="000000"/>
                </a:solidFill>
                <a:latin typeface="Arial"/>
              </a:rPr>
              <a:t> – This is a device that connects all the computers up, also links to the rout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browser</a:t>
            </a:r>
            <a:r>
              <a:rPr b="0" lang="en-US" sz="2800" spc="-1" strike="noStrike">
                <a:solidFill>
                  <a:srgbClr val="000000"/>
                </a:solidFill>
                <a:latin typeface="Arial"/>
              </a:rPr>
              <a:t> –For e.g. Internet Explor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al emulator</a:t>
            </a:r>
            <a:r>
              <a:rPr b="0" lang="en-US" sz="2800" spc="-1" strike="noStrike">
                <a:solidFill>
                  <a:srgbClr val="000000"/>
                </a:solidFill>
                <a:latin typeface="Arial"/>
              </a:rPr>
              <a:t> - A program that allows computer to enter and receive data from a computer system as if it were a particular type of attached terminal.</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wall </a:t>
            </a:r>
            <a:r>
              <a:rPr b="0" lang="en-US" sz="2800" spc="-1" strike="noStrike">
                <a:solidFill>
                  <a:srgbClr val="000000"/>
                </a:solidFill>
                <a:latin typeface="Arial"/>
              </a:rPr>
              <a:t>– This protects networks from outside networks. The firewall can screen incoming viruses and only allow certain access to the internet.</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 virus, anti malware software</a:t>
            </a:r>
            <a:r>
              <a:rPr b="0" lang="en-US" sz="2800" spc="-1" strike="noStrike">
                <a:solidFill>
                  <a:srgbClr val="000000"/>
                </a:solidFill>
                <a:latin typeface="Arial"/>
              </a:rPr>
              <a:t> - Computer programs that attempt to identify, thwart and eliminate computer viruses and other malicious softwares. </a:t>
            </a:r>
            <a:endParaRPr b="0" lang="en-US" sz="2800" spc="-1" strike="noStrike">
              <a:solidFill>
                <a:srgbClr val="000000"/>
              </a:solidFill>
              <a:latin typeface="Arial"/>
            </a:endParaRPr>
          </a:p>
        </p:txBody>
      </p:sp>
    </p:spTree>
  </p:cSld>
  <p:transition advTm="13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22400"/>
            <a:ext cx="883944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TERNET CONNECTIVITY OPTIONS</a:t>
            </a:r>
            <a:endParaRPr b="1" lang="en-US" sz="3100" spc="-1" strike="noStrike">
              <a:solidFill>
                <a:srgbClr val="330066"/>
              </a:solidFill>
              <a:latin typeface="Arial"/>
            </a:endParaRPr>
          </a:p>
        </p:txBody>
      </p:sp>
      <p:graphicFrame>
        <p:nvGraphicFramePr>
          <p:cNvPr id="154" name=""/>
          <p:cNvGraphicFramePr/>
          <p:nvPr/>
        </p:nvGraphicFramePr>
        <p:xfrm>
          <a:off x="152280" y="533520"/>
          <a:ext cx="8915400" cy="6107040"/>
        </p:xfrm>
        <a:graphic>
          <a:graphicData uri="http://schemas.openxmlformats.org/drawingml/2006/table">
            <a:tbl>
              <a:tblPr/>
              <a:tblGrid>
                <a:gridCol w="3429000"/>
                <a:gridCol w="2438640"/>
                <a:gridCol w="3047760"/>
              </a:tblGrid>
              <a:tr h="2919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connectivity option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tage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advantag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61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al-up </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where a password and username is given to the user; they then login by using the dial-up connection program. They will need this every time they want to use the internet.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be accessed in any computer anywher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apest o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only use one computer at one tim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ower speed than other option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sword and username security.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wait for the modem to dial then there is connection</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one lines are busy because it uses the phone lin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35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peed</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peed users at higher speeds of 256kbit/s, 384kbit/s, 512kbit/s or 640kbit/s with unlimited surfing. More than one computer may use this.</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 router, internet can be shar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r speed than alternatives such as dialup.</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ways connect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n’t disturb phone line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need for passwords and usernam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pay flat rate every month even during times when internet is not being used e.g. holiday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es the computer’s vulnerability to viruses, spyware and hacking due to increased exposure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153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sed Line</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uNet Leased Line provides dedicated, high bandwidth Internet connectivity in applications where routing for multiple static IP Addresses and a high speed data transfer (greater than 56K) are required. The bandwidth that BruNet provided will be from 64Kbps to 2048Kbp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dicated to one user.</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st speed available.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eks or months to install.</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nsive to install.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st expensive option.</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advTm="13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590560"/>
            <a:ext cx="838224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ES DATA TRAVEL THE INTERNET?</a:t>
            </a:r>
            <a:br>
              <a:rPr sz="4000"/>
            </a:br>
            <a:endParaRPr b="1" lang="en-US" sz="4000" spc="-1" strike="noStrike">
              <a:solidFill>
                <a:srgbClr val="330066"/>
              </a:solidFill>
              <a:latin typeface="Arial"/>
            </a:endParaRPr>
          </a:p>
        </p:txBody>
      </p:sp>
      <p:sp>
        <p:nvSpPr>
          <p:cNvPr id="156" name="PlaceHolder 2"/>
          <p:cNvSpPr>
            <a:spLocks noGrp="1"/>
          </p:cNvSpPr>
          <p:nvPr>
            <p:ph/>
          </p:nvPr>
        </p:nvSpPr>
        <p:spPr>
          <a:xfrm>
            <a:off x="152280" y="2362320"/>
            <a:ext cx="883944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data is divided into small chunks called packets. These packets are sent with a header (contains the destination (recipient), origin (sender) and the sequence information used to reassemble the data at the destination and rearranged in ord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advTm="13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22400"/>
            <a:ext cx="8839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NTERNET PROTOCOL?</a:t>
            </a:r>
            <a:endParaRPr b="1" lang="en-US" sz="4000" spc="-1" strike="noStrike">
              <a:solidFill>
                <a:srgbClr val="330066"/>
              </a:solidFill>
              <a:latin typeface="Arial"/>
            </a:endParaRPr>
          </a:p>
        </p:txBody>
      </p:sp>
      <p:sp>
        <p:nvSpPr>
          <p:cNvPr id="158" name="PlaceHolder 2"/>
          <p:cNvSpPr>
            <a:spLocks noGrp="1"/>
          </p:cNvSpPr>
          <p:nvPr>
            <p:ph/>
          </p:nvPr>
        </p:nvSpPr>
        <p:spPr>
          <a:xfrm>
            <a:off x="152280" y="1719000"/>
            <a:ext cx="8839440" cy="4986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et protocol - This makes sure the data reaches the computer that has its own individual address. It determines how the packets are sent along the internet, which router to take, which path for each packet to use. IP defines the addressing system of the internet.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p:txBody>
      </p:sp>
    </p:spTree>
  </p:cSld>
  <p:transition advTm="10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P ADDRESS?</a:t>
            </a:r>
            <a:endParaRPr b="1" lang="en-US" sz="40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P address is a number that uniquely identifies each computer or device connected to the internet, consisting of four groups of numbers, each separated by a period.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10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1920"/>
            <a:ext cx="883944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OW TO CONTROL STUDENTS’ ACCESS?</a:t>
            </a:r>
            <a:endParaRPr b="1" lang="en-US" sz="3100" spc="-1" strike="noStrike">
              <a:solidFill>
                <a:srgbClr val="330066"/>
              </a:solidFill>
              <a:latin typeface="Arial"/>
            </a:endParaRPr>
          </a:p>
        </p:txBody>
      </p:sp>
      <p:sp>
        <p:nvSpPr>
          <p:cNvPr id="162" name="PlaceHolder 2"/>
          <p:cNvSpPr>
            <a:spLocks noGrp="1"/>
          </p:cNvSpPr>
          <p:nvPr>
            <p:ph/>
          </p:nvPr>
        </p:nvSpPr>
        <p:spPr>
          <a:xfrm>
            <a:off x="152280" y="685800"/>
            <a:ext cx="8686800" cy="601992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filtering software filters what websites students go on. This monitors what they look at.</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control software can then disallow websites such as social networking sites, sites that promote illegal activity, sites that are sexually explicit, sites that promote recreational drug and alcohol use and sites that promote bigotry and hate speech. They should disallow websites that the content filtering software picked up as most visited and are not related to a student’s studies. There should be netiquette information. </a:t>
            </a:r>
            <a:r>
              <a:rPr b="0" lang="en-US" sz="3000" spc="-1" strike="noStrike" u="sng">
                <a:solidFill>
                  <a:srgbClr val="7e9ce8"/>
                </a:solidFill>
                <a:uFillTx/>
                <a:latin typeface="Arial"/>
                <a:hlinkClick r:id="rId1" action="ppaction://hlinksldjump"/>
              </a:rPr>
              <a:t>(back)</a:t>
            </a:r>
            <a:endParaRPr b="0" lang="en-US" sz="3000" spc="-1" strike="noStrike">
              <a:solidFill>
                <a:srgbClr val="000000"/>
              </a:solidFill>
              <a:latin typeface="Arial"/>
            </a:endParaRPr>
          </a:p>
        </p:txBody>
      </p:sp>
    </p:spTree>
  </p:cSld>
  <p:transition advTm="1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4" name="PlaceHolder 2"/>
          <p:cNvSpPr>
            <a:spLocks noGrp="1"/>
          </p:cNvSpPr>
          <p:nvPr>
            <p:ph/>
          </p:nvPr>
        </p:nvSpPr>
        <p:spPr>
          <a:xfrm>
            <a:off x="152280" y="837720"/>
            <a:ext cx="8839440" cy="5867640"/>
          </a:xfrm>
          <a:prstGeom prst="rect">
            <a:avLst/>
          </a:prstGeom>
          <a:noFill/>
          <a:ln w="0">
            <a:noFill/>
          </a:ln>
        </p:spPr>
        <p:txBody>
          <a:bodyPr lIns="90000" rIns="90000" tIns="46800" bIns="4680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Protocol: It determines how the packets are sent along the internet</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HyperText Transfer Protocol. A protocol used to transmit data over the World Wide Web</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File transfer protocol; the method to upload and download files with other computers</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 TCP/IP (transmission control protocol/internet protocol) is technology that manages the transmission of data by breaking it up into packets and how they are sent along</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es listserv:</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am: Video camera with output than can be displayed on a webpage</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et Language: Languages that are used on the Internet to view pages.</a:t>
            </a:r>
            <a:endParaRPr b="0" lang="en-US" sz="2000" spc="-1" strike="noStrike">
              <a:solidFill>
                <a:srgbClr val="000000"/>
              </a:solidFill>
              <a:latin typeface="Arial"/>
            </a:endParaRPr>
          </a:p>
        </p:txBody>
      </p:sp>
    </p:spTree>
  </p:cSld>
  <p:transition advTm="15000">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iquette: (Short of Netiquette) the code of acceptable behavior users should follow whi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Internal network that applies Internet technologies; used to make company information accessible to employees and facilitate working in group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Uniform Resource Locator is the address of a resource availab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link: Web address that links to a document or webpage</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Width of the communication channel</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 The World Wide Web (WWW) is a means of accessing information over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 Software used to access and view WebPages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 Software used to find web sites, web pages and internet file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Transmission of messages and files via a computer network as a local network area or the interne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8:05:17Z</dcterms:created>
  <dc:creator>Owner</dc:creator>
  <dc:description/>
  <dc:language>en-US</dc:language>
  <cp:lastModifiedBy>jtuah</cp:lastModifiedBy>
  <dcterms:modified xsi:type="dcterms:W3CDTF">2006-10-11T02:53:06Z</dcterms:modified>
  <cp:revision>16</cp:revision>
  <dc:subject/>
  <dc:title>Slide 1</dc:title>
</cp:coreProperties>
</file>