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11.png" ContentType="image/png"/>
  <Override PartName="/ppt/media/image7.jpeg" ContentType="image/jpeg"/>
  <Override PartName="/ppt/media/image28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CD56-925A-4ED3-AF43-690C9343F1CB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5052-50B3-4EFB-8A7E-7EE8535BB20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ic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DCAE-1F59-48AA-9BE5-8DDFC91676B0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D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D305-F535-466E-8F5C-ACFA757A383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HD video 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3D8D-D547-4B98-8A0F-87DE8EBB2E6B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GB analog multi me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6948-6F41-4DB1-9D7E-191BC8EEFFD7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ED9D-087F-4687-8ED0-80BF2AF6C9E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556-5BD3-4248-A0A1-FACDAC616CF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bile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9C18-D509-4F1B-A27D-7F03F85EB2B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SPDA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7451-F686-4E68-AC4D-A06D80F88FBB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 on dem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8CE6-4D18-466D-97F4-4ED46688E5C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CEF8-F7F5-400A-AA74-32D1A69F789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8B5F-6EB9-461B-A0A7-3936C1E5491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LC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8362-F81E-4FB4-A037-FB0B657D4EA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B7C4-1B95-4CBD-B361-338D53C1E38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0E4-8D85-4A26-A956-585F586D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FFB-15E9-460C-8625-AE6DF33D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9EA-C384-481F-B491-9966291C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C39-80D0-4B30-BF5A-B42A882A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2E0-4E1C-452C-BDF9-6BE1C868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7E4-F09E-4E06-BD1F-A36112ED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21E-F2C9-48E9-AFE5-982EF00B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229-48F3-409D-BF4A-E45238A8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760-8272-49FC-B5E8-3E6AAB9E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41C-1391-436E-A543-92CEAF0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15B-96EB-4F42-B5FD-9364DDD5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DBF-00F6-4B02-955B-15F816A5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E1D1-DAE6-4FB5-A003-4924B24D6B0E}" type="slidenum">
              <a:rPr b="0" lang="en-S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RT.jpg"/>
          <p:cNvPicPr/>
          <p:nvPr/>
        </p:nvPicPr>
        <p:blipFill>
          <a:blip r:embed="rId1"/>
          <a:stretch/>
        </p:blipFill>
        <p:spPr>
          <a:xfrm>
            <a:off x="1143000" y="1357200"/>
            <a:ext cx="2625840" cy="242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water LCD TV.jpg"/>
          <p:cNvPicPr/>
          <p:nvPr/>
        </p:nvPicPr>
        <p:blipFill>
          <a:blip r:embed="rId2"/>
          <a:stretch/>
        </p:blipFill>
        <p:spPr>
          <a:xfrm>
            <a:off x="1000080" y="3776760"/>
            <a:ext cx="2786040" cy="308124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" descr=""/>
          <p:cNvPicPr/>
          <p:nvPr/>
        </p:nvPicPr>
        <p:blipFill>
          <a:blip r:embed="rId3"/>
          <a:stretch/>
        </p:blipFill>
        <p:spPr>
          <a:xfrm>
            <a:off x="0" y="103320"/>
            <a:ext cx="568152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" descr=""/>
          <p:cNvPicPr/>
          <p:nvPr/>
        </p:nvPicPr>
        <p:blipFill>
          <a:blip r:embed="rId4"/>
          <a:stretch/>
        </p:blipFill>
        <p:spPr>
          <a:xfrm>
            <a:off x="2292480" y="1146240"/>
            <a:ext cx="3932280" cy="113976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5"/>
          <a:stretch/>
        </p:blipFill>
        <p:spPr>
          <a:xfrm>
            <a:off x="3754440" y="5181480"/>
            <a:ext cx="2506680" cy="1103400"/>
          </a:xfrm>
          <a:prstGeom prst="rect">
            <a:avLst/>
          </a:prstGeom>
          <a:ln w="0">
            <a:noFill/>
          </a:ln>
        </p:spPr>
      </p:pic>
      <p:sp>
        <p:nvSpPr>
          <p:cNvPr id="53" name="Down Arrow 4"/>
          <p:cNvSpPr/>
          <p:nvPr/>
        </p:nvSpPr>
        <p:spPr>
          <a:xfrm rot="20742000">
            <a:off x="3933360" y="2071440"/>
            <a:ext cx="1040040" cy="3641760"/>
          </a:xfrm>
          <a:prstGeom prst="downArrow">
            <a:avLst>
              <a:gd name="adj1" fmla="val 48741"/>
              <a:gd name="adj2" fmla="val 786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athode ray tube.jpg"/>
          <p:cNvPicPr/>
          <p:nvPr/>
        </p:nvPicPr>
        <p:blipFill>
          <a:blip r:embed="rId6"/>
          <a:stretch/>
        </p:blipFill>
        <p:spPr>
          <a:xfrm>
            <a:off x="6072120" y="785880"/>
            <a:ext cx="2295720" cy="199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LCD TV.jpg"/>
          <p:cNvPicPr/>
          <p:nvPr/>
        </p:nvPicPr>
        <p:blipFill>
          <a:blip r:embed="rId7"/>
          <a:stretch/>
        </p:blipFill>
        <p:spPr>
          <a:xfrm>
            <a:off x="6072120" y="4429080"/>
            <a:ext cx="2714760" cy="2165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-171360" y="353880"/>
            <a:ext cx="5664240" cy="1200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071720" y="22860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mit 26% more backlighting to the user over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143000" y="400068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efully they will find their way into computers and will still give bright images in direct sunlight as opposed to current LCD’s and also reduce the 30% battery usage of conventional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pixel2-1.jpg"/>
          <p:cNvPicPr/>
          <p:nvPr/>
        </p:nvPicPr>
        <p:blipFill>
          <a:blip r:embed="rId1"/>
          <a:stretch/>
        </p:blipFill>
        <p:spPr>
          <a:xfrm>
            <a:off x="4143240" y="2357280"/>
            <a:ext cx="2820960" cy="3757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714240" y="71424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current is passed the primary mirror will form a parabola which focuses light onto the secondary mirror which will then reflect light out of the hole in the midd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HDMI.png"/>
          <p:cNvPicPr/>
          <p:nvPr/>
        </p:nvPicPr>
        <p:blipFill>
          <a:blip r:embed="rId1"/>
          <a:stretch/>
        </p:blipFill>
        <p:spPr>
          <a:xfrm>
            <a:off x="1214280" y="1357200"/>
            <a:ext cx="6953400" cy="1625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285920" y="41432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is i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are it’s altern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dmi_000.jpg"/>
          <p:cNvPicPr/>
          <p:nvPr/>
        </p:nvPicPr>
        <p:blipFill>
          <a:blip r:embed="rId2"/>
          <a:stretch/>
        </p:blipFill>
        <p:spPr>
          <a:xfrm>
            <a:off x="6643800" y="4500720"/>
            <a:ext cx="2119320" cy="21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071720" y="8571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DMI is a single output which sends out HD video and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8 channe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ound digitally the cable is similar in look to a USB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71680" y="15717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DMI cable comprises of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19 wi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a single cable transferring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GB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DR_Game_PS3_HDMI_G4cl.jpg"/>
          <p:cNvPicPr/>
          <p:nvPr/>
        </p:nvPicPr>
        <p:blipFill>
          <a:blip r:embed="rId1"/>
          <a:stretch/>
        </p:blipFill>
        <p:spPr>
          <a:xfrm>
            <a:off x="4000680" y="2224080"/>
            <a:ext cx="4714560" cy="431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RGB.jpg"/>
          <p:cNvPicPr/>
          <p:nvPr/>
        </p:nvPicPr>
        <p:blipFill>
          <a:blip r:embed="rId1"/>
          <a:stretch/>
        </p:blipFill>
        <p:spPr>
          <a:xfrm>
            <a:off x="214200" y="1071720"/>
            <a:ext cx="4610160" cy="464328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2" descr=""/>
          <p:cNvPicPr/>
          <p:nvPr/>
        </p:nvPicPr>
        <p:blipFill>
          <a:blip r:embed="rId2"/>
          <a:stretch/>
        </p:blipFill>
        <p:spPr>
          <a:xfrm>
            <a:off x="-384120" y="-73080"/>
            <a:ext cx="6242040" cy="1200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4857840" y="1285920"/>
            <a:ext cx="350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monly seen analog version called an RGB that only supports 2 channels of audio, supporting only stere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you-tube-logo-with-rss.png"/>
          <p:cNvPicPr/>
          <p:nvPr/>
        </p:nvPicPr>
        <p:blipFill>
          <a:blip r:embed="rId1"/>
          <a:stretch/>
        </p:blipFill>
        <p:spPr>
          <a:xfrm>
            <a:off x="714240" y="214200"/>
            <a:ext cx="7929720" cy="413244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3" descr=""/>
          <p:cNvPicPr/>
          <p:nvPr/>
        </p:nvPicPr>
        <p:blipFill>
          <a:blip r:embed="rId2"/>
          <a:stretch/>
        </p:blipFill>
        <p:spPr>
          <a:xfrm>
            <a:off x="-182520" y="165240"/>
            <a:ext cx="699120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etacafe-logo.jpg"/>
          <p:cNvPicPr/>
          <p:nvPr/>
        </p:nvPicPr>
        <p:blipFill>
          <a:blip r:embed="rId3"/>
          <a:stretch/>
        </p:blipFill>
        <p:spPr>
          <a:xfrm>
            <a:off x="714240" y="4429080"/>
            <a:ext cx="7572600" cy="209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28760" y="185724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YouTube hosts over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six million videos</a:t>
            </a:r>
            <a:r>
              <a:rPr b="0" i="1" lang="en-SG" sz="1800" spc="-1" strike="noStrike">
                <a:solidFill>
                  <a:srgbClr val="c0504d"/>
                </a:solidFill>
                <a:latin typeface="Calibri"/>
              </a:rPr>
              <a:t>,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growing at about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20 percent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every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4857840" y="3286080"/>
            <a:ext cx="371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Takes up to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45 terabytes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of stor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00040" y="5072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SG" sz="2000" spc="-1" strike="noStrike">
                <a:solidFill>
                  <a:srgbClr val="000000"/>
                </a:solidFill>
                <a:latin typeface="Calibri"/>
              </a:rPr>
              <a:t>one terabyte is 1000 gigab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ctangle 4" descr=""/>
          <p:cNvPicPr/>
          <p:nvPr/>
        </p:nvPicPr>
        <p:blipFill>
          <a:blip r:embed="rId1"/>
          <a:stretch/>
        </p:blipFill>
        <p:spPr>
          <a:xfrm>
            <a:off x="328680" y="171360"/>
            <a:ext cx="241452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5" descr=""/>
          <p:cNvPicPr/>
          <p:nvPr/>
        </p:nvPicPr>
        <p:blipFill>
          <a:blip r:embed="rId2"/>
          <a:stretch/>
        </p:blipFill>
        <p:spPr>
          <a:xfrm>
            <a:off x="1596960" y="201600"/>
            <a:ext cx="2706840" cy="134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73080" y="139680"/>
            <a:ext cx="3846600" cy="114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14200" y="2981160"/>
            <a:ext cx="1476360" cy="3876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untitled.bmp"/>
          <p:cNvPicPr/>
          <p:nvPr/>
        </p:nvPicPr>
        <p:blipFill>
          <a:blip r:embed="rId3"/>
          <a:stretch/>
        </p:blipFill>
        <p:spPr>
          <a:xfrm>
            <a:off x="6429240" y="2786040"/>
            <a:ext cx="2333880" cy="38577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1857240" y="3571920"/>
            <a:ext cx="44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ing Tv in the palm of your hand is the dream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3.5G and HSPD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the realization of tha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-96840" y="96840"/>
            <a:ext cx="7077240" cy="1951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071720" y="407196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practically mobile broad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new protocol for mobile communications which allows faster data transfer speed between 1.8-42Mb/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3" descr=""/>
          <p:cNvPicPr/>
          <p:nvPr/>
        </p:nvPicPr>
        <p:blipFill>
          <a:blip r:embed="rId1"/>
          <a:stretch/>
        </p:blipFill>
        <p:spPr>
          <a:xfrm>
            <a:off x="-85680" y="85680"/>
            <a:ext cx="5095800" cy="115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357880" y="2714760"/>
            <a:ext cx="3143160" cy="3495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928800" y="164304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does it mea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ere is it go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-42840" y="219240"/>
            <a:ext cx="8139240" cy="1139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RT.png"/>
          <p:cNvPicPr/>
          <p:nvPr/>
        </p:nvPicPr>
        <p:blipFill>
          <a:blip r:embed="rId2"/>
          <a:stretch/>
        </p:blipFill>
        <p:spPr>
          <a:xfrm>
            <a:off x="311040" y="1262160"/>
            <a:ext cx="608976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2286000" y="542916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When electrons hit the screen the phosphor lights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V="1">
            <a:off x="5285160" y="2642760"/>
            <a:ext cx="786600" cy="26438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285920" y="928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put TV when you wan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two was of getting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 streaming (e.g youtub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01520" y="2714760"/>
            <a:ext cx="9042480" cy="3929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4643280" y="23572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tw that idiot is 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5"/>
          <p:cNvCxnSpPr/>
          <p:nvPr/>
        </p:nvCxnSpPr>
        <p:spPr>
          <a:xfrm flipH="1">
            <a:off x="2499480" y="2713680"/>
            <a:ext cx="2644200" cy="15721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107172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By downloading the video’s and saving them in a device (e.g . Ipod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57280" y="135720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2786040" y="1357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00421_nokia_n95_camera.jpg"/>
          <p:cNvPicPr/>
          <p:nvPr/>
        </p:nvPicPr>
        <p:blipFill>
          <a:blip r:embed="rId1"/>
          <a:stretch/>
        </p:blipFill>
        <p:spPr>
          <a:xfrm>
            <a:off x="6786720" y="1444680"/>
            <a:ext cx="1792080" cy="427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ELL XPSM1330.bmp"/>
          <p:cNvPicPr/>
          <p:nvPr/>
        </p:nvPicPr>
        <p:blipFill>
          <a:blip r:embed="rId2"/>
          <a:stretch/>
        </p:blipFill>
        <p:spPr>
          <a:xfrm>
            <a:off x="214200" y="4143240"/>
            <a:ext cx="493416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pod_l.jpg"/>
          <p:cNvPicPr/>
          <p:nvPr/>
        </p:nvPicPr>
        <p:blipFill>
          <a:blip r:embed="rId3"/>
          <a:stretch/>
        </p:blipFill>
        <p:spPr>
          <a:xfrm>
            <a:off x="4143240" y="142884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" descr=""/>
          <p:cNvPicPr/>
          <p:nvPr/>
        </p:nvPicPr>
        <p:blipFill>
          <a:blip r:embed="rId1"/>
          <a:stretch/>
        </p:blipFill>
        <p:spPr>
          <a:xfrm>
            <a:off x="-122400" y="0"/>
            <a:ext cx="8107560" cy="1974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143000" y="25002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many debates on the future of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00040" y="3357720"/>
          <a:ext cx="8358120" cy="275112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ch TV whenever you w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on hosting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range of vid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cent video’s may pass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copies of video’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y write infring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control on viewing  censoring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accessibi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cy intr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 stor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racy la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1" descr=""/>
          <p:cNvPicPr/>
          <p:nvPr/>
        </p:nvPicPr>
        <p:blipFill>
          <a:blip r:embed="rId1"/>
          <a:stretch/>
        </p:blipFill>
        <p:spPr>
          <a:xfrm>
            <a:off x="1085760" y="2243160"/>
            <a:ext cx="6515280" cy="246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1" descr=""/>
          <p:cNvPicPr/>
          <p:nvPr/>
        </p:nvPicPr>
        <p:blipFill>
          <a:blip r:embed="rId1"/>
          <a:stretch/>
        </p:blipFill>
        <p:spPr>
          <a:xfrm>
            <a:off x="401760" y="255600"/>
            <a:ext cx="5084640" cy="1103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071720" y="214308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ing larger screens than a majority of CRT tele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they project the original image onto a larger screen through a le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1" descr=""/>
          <p:cNvPicPr/>
          <p:nvPr/>
        </p:nvPicPr>
        <p:blipFill>
          <a:blip r:embed="rId1"/>
          <a:stretch/>
        </p:blipFill>
        <p:spPr>
          <a:xfrm>
            <a:off x="-19080" y="152280"/>
            <a:ext cx="5359320" cy="1189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1720" y="150012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HD is high definition – meaning mainly higher resolutions and clearer sound over standard-definition T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643040" y="314316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is th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because with HD there is no conversion from digital to analog signals all signals are sent digitally hence no “error in translatio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1" descr=""/>
          <p:cNvPicPr/>
          <p:nvPr/>
        </p:nvPicPr>
        <p:blipFill>
          <a:blip r:embed="rId1"/>
          <a:stretch/>
        </p:blipFill>
        <p:spPr>
          <a:xfrm>
            <a:off x="-30240" y="182520"/>
            <a:ext cx="5400720" cy="1103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00080" y="2286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tegral part of digital television, there are many types of surround sound from 3.0 to 22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2786040" y="428616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round sound simply gives sound a 3D effect giving movies more depth and imm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1" descr=""/>
          <p:cNvPicPr/>
          <p:nvPr/>
        </p:nvPicPr>
        <p:blipFill>
          <a:blip r:embed="rId1"/>
          <a:stretch/>
        </p:blipFill>
        <p:spPr>
          <a:xfrm>
            <a:off x="79200" y="146160"/>
            <a:ext cx="4194360" cy="1139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785880" y="14288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n passing a current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643200" y="521496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ifferent shades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are changed due to intensity not changing the cur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xenon.jpg"/>
          <p:cNvPicPr/>
          <p:nvPr/>
        </p:nvPicPr>
        <p:blipFill>
          <a:blip r:embed="rId2"/>
          <a:stretch/>
        </p:blipFill>
        <p:spPr>
          <a:xfrm>
            <a:off x="214200" y="235728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neon_advertisement_5.jpg"/>
          <p:cNvPicPr/>
          <p:nvPr/>
        </p:nvPicPr>
        <p:blipFill>
          <a:blip r:embed="rId3"/>
          <a:stretch/>
        </p:blipFill>
        <p:spPr>
          <a:xfrm>
            <a:off x="5715000" y="357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357720" y="36432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t releases electrons hitting the screen causing it to light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1" descr=""/>
          <p:cNvPicPr/>
          <p:nvPr/>
        </p:nvPicPr>
        <p:blipFill>
          <a:blip r:embed="rId1"/>
          <a:stretch/>
        </p:blipFill>
        <p:spPr>
          <a:xfrm>
            <a:off x="96840" y="396720"/>
            <a:ext cx="192708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LCD TV.bmp"/>
          <p:cNvPicPr/>
          <p:nvPr/>
        </p:nvPicPr>
        <p:blipFill>
          <a:blip r:embed="rId2"/>
          <a:stretch/>
        </p:blipFill>
        <p:spPr>
          <a:xfrm>
            <a:off x="214200" y="2857680"/>
            <a:ext cx="3619440" cy="315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enQ_LCD_V2400W-thumb-450x400.jpg"/>
          <p:cNvPicPr/>
          <p:nvPr/>
        </p:nvPicPr>
        <p:blipFill>
          <a:blip r:embed="rId3"/>
          <a:stretch/>
        </p:blipFill>
        <p:spPr>
          <a:xfrm>
            <a:off x="5429160" y="214200"/>
            <a:ext cx="3516480" cy="312588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3929040" y="3357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e popular display in TV’s and computer scre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asus-mw221-lcd.jpg"/>
          <p:cNvPicPr/>
          <p:nvPr/>
        </p:nvPicPr>
        <p:blipFill>
          <a:blip r:embed="rId4"/>
          <a:stretch/>
        </p:blipFill>
        <p:spPr>
          <a:xfrm>
            <a:off x="5286240" y="4017960"/>
            <a:ext cx="3341880" cy="284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000160" y="2000160"/>
            <a:ext cx="1042920" cy="3129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14200" y="50004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D’s have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backl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diffus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front of it which spreads the light across the screen eve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000680" y="171468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polariz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ves the liquid crystal to change the shade and depth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color’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each pix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429080" y="4929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the backlight does have a half life of close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0,000 hou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6"/>
          <p:cNvCxnSpPr/>
          <p:nvPr/>
        </p:nvCxnSpPr>
        <p:spPr>
          <a:xfrm>
            <a:off x="1285920" y="1500120"/>
            <a:ext cx="643320" cy="1286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3071520" y="2713680"/>
            <a:ext cx="135792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" descr=""/>
          <p:cNvPicPr/>
          <p:nvPr/>
        </p:nvPicPr>
        <p:blipFill>
          <a:blip r:embed="rId1"/>
          <a:stretch/>
        </p:blipFill>
        <p:spPr>
          <a:xfrm>
            <a:off x="-92160" y="19080"/>
            <a:ext cx="2470320" cy="1150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571680" y="114300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c light emitting di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oled-cell.gif"/>
          <p:cNvPicPr/>
          <p:nvPr/>
        </p:nvPicPr>
        <p:blipFill>
          <a:blip r:embed="rId2"/>
          <a:stretch/>
        </p:blipFill>
        <p:spPr>
          <a:xfrm>
            <a:off x="500040" y="1857240"/>
            <a:ext cx="4143240" cy="3853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5429160" y="16430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nly screen that is roll able  and flexi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reen that i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200 tim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ner than a human 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3:04:55Z</dcterms:created>
  <dc:creator>Dell XPS</dc:creator>
  <dc:description/>
  <dc:language>en-US</dc:language>
  <cp:lastModifiedBy>Dell XPS</cp:lastModifiedBy>
  <dcterms:modified xsi:type="dcterms:W3CDTF">2008-12-02T22:48:39Z</dcterms:modified>
  <cp:revision>65</cp:revision>
  <dc:subject/>
  <dc:title>Slide 1</dc:title>
</cp:coreProperties>
</file>