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06A3-075E-4CF9-BA16-BB33ACCD3D0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B208-573C-4DB1-AAB6-11AD4E0795B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ic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75BD-968B-47A5-A2C7-1CCE5714A3C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5C67-7440-41A1-B23E-89B6E068729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HD video 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09B3-8992-4AEF-BA06-F6AA37EA151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GB analog multi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A192-607B-4CCC-9CC0-009998C0FEC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FDD7-ED57-4DE7-8322-4D894D1AAF0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0A9E-C23F-4820-A678-3740E2F2043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A412-DF46-4377-9128-C64F1EC02AE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SPDA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8AC3-5A9B-4CE8-9BD3-32B53AA3EE8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 on de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A9E-A141-44F8-935D-0AFBDF1C51E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BAA8-14DF-4E97-9B26-A89748B69AC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27EC-5DFD-4959-9AFC-2BB993EB1EA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LC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ABE6-0BA1-4E2B-83FA-5F5A63B533A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8040-D377-4487-8326-8836254B68B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BFB-DC09-4DFF-8F41-6A38E3F5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E60-168A-4098-ACD0-A22C67B4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0EB-12C7-46A5-B978-14BF4646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8B5-C8BA-44A1-9B86-FE0C083B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2B1-F839-4A4B-B5D2-434F1299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2D9-F808-4AB7-A60D-5FE267F9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F54-C4FB-4E36-A62C-60A2C375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7F7-CD28-422F-B125-CDF6013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1A6-A6EC-4A4B-A335-872D7D4B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0F7-DA6B-43B1-A539-CCA4D65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DB3-91F3-4318-A915-E6D8145B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B3F-FBB0-4DCD-AEA4-F410617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E7F5-3C9F-4747-BD67-CD1DFED6FD8E}" type="slidenum">
              <a:rPr b="0" lang="en-S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RT.jpg"/>
          <p:cNvPicPr/>
          <p:nvPr/>
        </p:nvPicPr>
        <p:blipFill>
          <a:blip r:embed="rId1"/>
          <a:stretch/>
        </p:blipFill>
        <p:spPr>
          <a:xfrm>
            <a:off x="1143000" y="1357200"/>
            <a:ext cx="262584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water LCD TV.jpg"/>
          <p:cNvPicPr/>
          <p:nvPr/>
        </p:nvPicPr>
        <p:blipFill>
          <a:blip r:embed="rId2"/>
          <a:stretch/>
        </p:blipFill>
        <p:spPr>
          <a:xfrm>
            <a:off x="1000080" y="3776760"/>
            <a:ext cx="2786040" cy="3081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" descr=""/>
          <p:cNvPicPr/>
          <p:nvPr/>
        </p:nvPicPr>
        <p:blipFill>
          <a:blip r:embed="rId3"/>
          <a:stretch/>
        </p:blipFill>
        <p:spPr>
          <a:xfrm>
            <a:off x="0" y="103320"/>
            <a:ext cx="568152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4"/>
          <a:stretch/>
        </p:blipFill>
        <p:spPr>
          <a:xfrm>
            <a:off x="2292480" y="1146240"/>
            <a:ext cx="3932280" cy="11397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5"/>
          <a:stretch/>
        </p:blipFill>
        <p:spPr>
          <a:xfrm>
            <a:off x="3754440" y="5181480"/>
            <a:ext cx="2506680" cy="110340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4"/>
          <p:cNvSpPr/>
          <p:nvPr/>
        </p:nvSpPr>
        <p:spPr>
          <a:xfrm rot="20742000">
            <a:off x="3933360" y="2071440"/>
            <a:ext cx="1040040" cy="3641760"/>
          </a:xfrm>
          <a:prstGeom prst="downArrow">
            <a:avLst>
              <a:gd name="adj1" fmla="val 48741"/>
              <a:gd name="adj2" fmla="val 786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athode ray tube.jpg"/>
          <p:cNvPicPr/>
          <p:nvPr/>
        </p:nvPicPr>
        <p:blipFill>
          <a:blip r:embed="rId6"/>
          <a:stretch/>
        </p:blipFill>
        <p:spPr>
          <a:xfrm>
            <a:off x="6072120" y="785880"/>
            <a:ext cx="2295720" cy="199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CD TV.jpg"/>
          <p:cNvPicPr/>
          <p:nvPr/>
        </p:nvPicPr>
        <p:blipFill>
          <a:blip r:embed="rId7"/>
          <a:stretch/>
        </p:blipFill>
        <p:spPr>
          <a:xfrm>
            <a:off x="6072120" y="4429080"/>
            <a:ext cx="2714760" cy="216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5664240" cy="12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071720" y="2286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t 26% more backlighting to the user over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143000" y="400068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fully they will find their way into computers and will still give bright images in direct sunlight as opposed to current LCD’s and also reduce the 30% battery usage of conventional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pixel2-1.jpg"/>
          <p:cNvPicPr/>
          <p:nvPr/>
        </p:nvPicPr>
        <p:blipFill>
          <a:blip r:embed="rId1"/>
          <a:stretch/>
        </p:blipFill>
        <p:spPr>
          <a:xfrm>
            <a:off x="4143240" y="2357280"/>
            <a:ext cx="2820960" cy="3757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14240" y="71424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current is passed the primary mirror will form a parabola which focuses light onto the secondary mirror which will then reflect light out of the hole in the mi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HDMI.png"/>
          <p:cNvPicPr/>
          <p:nvPr/>
        </p:nvPicPr>
        <p:blipFill>
          <a:blip r:embed="rId1"/>
          <a:stretch/>
        </p:blipFill>
        <p:spPr>
          <a:xfrm>
            <a:off x="1214280" y="1357200"/>
            <a:ext cx="6953400" cy="1625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85920" y="41432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is i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it’s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dmi_000.jpg"/>
          <p:cNvPicPr/>
          <p:nvPr/>
        </p:nvPicPr>
        <p:blipFill>
          <a:blip r:embed="rId2"/>
          <a:stretch/>
        </p:blipFill>
        <p:spPr>
          <a:xfrm>
            <a:off x="6643800" y="450072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071720" y="8571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MI is a single output which sends out HD video and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8 channe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und digitally the cable is similar in look to a USB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71680" y="1571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DMI cable comprises of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19 wi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a single cable transferring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GB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DR_Game_PS3_HDMI_G4cl.jpg"/>
          <p:cNvPicPr/>
          <p:nvPr/>
        </p:nvPicPr>
        <p:blipFill>
          <a:blip r:embed="rId1"/>
          <a:stretch/>
        </p:blipFill>
        <p:spPr>
          <a:xfrm>
            <a:off x="4000680" y="2224080"/>
            <a:ext cx="4714560" cy="431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RGB.jpg"/>
          <p:cNvPicPr/>
          <p:nvPr/>
        </p:nvPicPr>
        <p:blipFill>
          <a:blip r:embed="rId1"/>
          <a:stretch/>
        </p:blipFill>
        <p:spPr>
          <a:xfrm>
            <a:off x="214200" y="1071720"/>
            <a:ext cx="4610160" cy="46432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-384120" y="-73080"/>
            <a:ext cx="6242040" cy="1200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4857840" y="12859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monly seen analog version called an RGB that only supports 2 channels of audio, supporting only stere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you-tube-logo-with-rss.png"/>
          <p:cNvPicPr/>
          <p:nvPr/>
        </p:nvPicPr>
        <p:blipFill>
          <a:blip r:embed="rId1"/>
          <a:stretch/>
        </p:blipFill>
        <p:spPr>
          <a:xfrm>
            <a:off x="714240" y="214200"/>
            <a:ext cx="7929720" cy="41324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-182520" y="165240"/>
            <a:ext cx="699120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etacafe-logo.jpg"/>
          <p:cNvPicPr/>
          <p:nvPr/>
        </p:nvPicPr>
        <p:blipFill>
          <a:blip r:embed="rId3"/>
          <a:stretch/>
        </p:blipFill>
        <p:spPr>
          <a:xfrm>
            <a:off x="714240" y="4429080"/>
            <a:ext cx="7572600" cy="209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1857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YouTube hosts over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six million videos</a:t>
            </a:r>
            <a:r>
              <a:rPr b="0" i="1" lang="en-SG" sz="1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growing at about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20 percent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every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4857840" y="3286080"/>
            <a:ext cx="37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Takes up to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45 terabytes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of stor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00040" y="5072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SG" sz="2000" spc="-1" strike="noStrike">
                <a:solidFill>
                  <a:srgbClr val="000000"/>
                </a:solidFill>
                <a:latin typeface="Calibri"/>
              </a:rPr>
              <a:t>one terabyte is 1000 giga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328680" y="171360"/>
            <a:ext cx="24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" descr=""/>
          <p:cNvPicPr/>
          <p:nvPr/>
        </p:nvPicPr>
        <p:blipFill>
          <a:blip r:embed="rId2"/>
          <a:stretch/>
        </p:blipFill>
        <p:spPr>
          <a:xfrm>
            <a:off x="1596960" y="201600"/>
            <a:ext cx="270684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73080" y="139680"/>
            <a:ext cx="384660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981160"/>
            <a:ext cx="1476360" cy="387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ntitled.bmp"/>
          <p:cNvPicPr/>
          <p:nvPr/>
        </p:nvPicPr>
        <p:blipFill>
          <a:blip r:embed="rId3"/>
          <a:stretch/>
        </p:blipFill>
        <p:spPr>
          <a:xfrm>
            <a:off x="6429240" y="2786040"/>
            <a:ext cx="23338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857240" y="357192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ing Tv in the palm of your hand is the dream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3.5G and HSPD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realization of tha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-96840" y="96840"/>
            <a:ext cx="7077240" cy="1951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07172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ractically mobile broad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new protocol for mobile communications which allows faster data transfer speed between 1.8-42Mb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-85680" y="85680"/>
            <a:ext cx="509580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357880" y="2714760"/>
            <a:ext cx="3143160" cy="3495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928800" y="1643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i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re is it g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42840" y="219240"/>
            <a:ext cx="813924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RT.png"/>
          <p:cNvPicPr/>
          <p:nvPr/>
        </p:nvPicPr>
        <p:blipFill>
          <a:blip r:embed="rId2"/>
          <a:stretch/>
        </p:blipFill>
        <p:spPr>
          <a:xfrm>
            <a:off x="311040" y="1262160"/>
            <a:ext cx="60897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286000" y="54291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en electrons hit the screen the phosphor light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5285160" y="2642760"/>
            <a:ext cx="786600" cy="2643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285920" y="928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put TV when you wan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two was of getting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reaming (e.g youtub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1520" y="2714760"/>
            <a:ext cx="9042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643280" y="23572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tw that idiot is 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5"/>
          <p:cNvCxnSpPr/>
          <p:nvPr/>
        </p:nvCxnSpPr>
        <p:spPr>
          <a:xfrm flipH="1">
            <a:off x="2499480" y="2713680"/>
            <a:ext cx="2644200" cy="1572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10717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By downloading the video’s and saving them in a device (e.g . Ipod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57280" y="135720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786040" y="1357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421_nokia_n95_camera.jpg"/>
          <p:cNvPicPr/>
          <p:nvPr/>
        </p:nvPicPr>
        <p:blipFill>
          <a:blip r:embed="rId1"/>
          <a:stretch/>
        </p:blipFill>
        <p:spPr>
          <a:xfrm>
            <a:off x="6786720" y="1444680"/>
            <a:ext cx="1792080" cy="427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ELL XPSM1330.bmp"/>
          <p:cNvPicPr/>
          <p:nvPr/>
        </p:nvPicPr>
        <p:blipFill>
          <a:blip r:embed="rId2"/>
          <a:stretch/>
        </p:blipFill>
        <p:spPr>
          <a:xfrm>
            <a:off x="214200" y="4143240"/>
            <a:ext cx="493416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pod_l.jpg"/>
          <p:cNvPicPr/>
          <p:nvPr/>
        </p:nvPicPr>
        <p:blipFill>
          <a:blip r:embed="rId3"/>
          <a:stretch/>
        </p:blipFill>
        <p:spPr>
          <a:xfrm>
            <a:off x="4143240" y="142884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" descr=""/>
          <p:cNvPicPr/>
          <p:nvPr/>
        </p:nvPicPr>
        <p:blipFill>
          <a:blip r:embed="rId1"/>
          <a:stretch/>
        </p:blipFill>
        <p:spPr>
          <a:xfrm>
            <a:off x="-122400" y="0"/>
            <a:ext cx="8107560" cy="1974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143000" y="2500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many debates on the future of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3357720"/>
          <a:ext cx="8358120" cy="27511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 TV whenever you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on hosting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range of vi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cent video’s may pass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opies of video’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y write infrin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control on viewing  censor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accessi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in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sto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cy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1085760" y="2243160"/>
            <a:ext cx="6515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508464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071720" y="214308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ing larger screens than a majority of CRT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they project the original image onto a larger screen through a le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-19080" y="152280"/>
            <a:ext cx="5359320" cy="1189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1500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HD is high definition – meaning mainly higher resolutions and clearer sound over standard-definition 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643040" y="314316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is th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because with HD there is no conversion from digital to analog signals all signals are sent digitally hence no “error in translat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-30240" y="182520"/>
            <a:ext cx="540072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2286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tegral part of digital television, there are many types of surround sound from 3.0 to 22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786040" y="42861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round sound simply gives sound a 3D effect giving movies more depth and imm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79200" y="146160"/>
            <a:ext cx="4194360" cy="113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5880" y="1428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n passing a current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43200" y="521496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ifferent shades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re changed due to intensity not changing the cur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xenon.jpg"/>
          <p:cNvPicPr/>
          <p:nvPr/>
        </p:nvPicPr>
        <p:blipFill>
          <a:blip r:embed="rId2"/>
          <a:stretch/>
        </p:blipFill>
        <p:spPr>
          <a:xfrm>
            <a:off x="214200" y="2357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neon_advertisement_5.jpg"/>
          <p:cNvPicPr/>
          <p:nvPr/>
        </p:nvPicPr>
        <p:blipFill>
          <a:blip r:embed="rId3"/>
          <a:stretch/>
        </p:blipFill>
        <p:spPr>
          <a:xfrm>
            <a:off x="5715000" y="357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357720" y="3643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t releases electrons hitting the screen causing it to light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1" descr=""/>
          <p:cNvPicPr/>
          <p:nvPr/>
        </p:nvPicPr>
        <p:blipFill>
          <a:blip r:embed="rId1"/>
          <a:stretch/>
        </p:blipFill>
        <p:spPr>
          <a:xfrm>
            <a:off x="96840" y="396720"/>
            <a:ext cx="192708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CD TV.bmp"/>
          <p:cNvPicPr/>
          <p:nvPr/>
        </p:nvPicPr>
        <p:blipFill>
          <a:blip r:embed="rId2"/>
          <a:stretch/>
        </p:blipFill>
        <p:spPr>
          <a:xfrm>
            <a:off x="214200" y="2857680"/>
            <a:ext cx="3619440" cy="31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enQ_LCD_V2400W-thumb-450x400.jpg"/>
          <p:cNvPicPr/>
          <p:nvPr/>
        </p:nvPicPr>
        <p:blipFill>
          <a:blip r:embed="rId3"/>
          <a:stretch/>
        </p:blipFill>
        <p:spPr>
          <a:xfrm>
            <a:off x="5429160" y="214200"/>
            <a:ext cx="3516480" cy="312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3929040" y="3357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e popular display in TV’s and computer scre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asus-mw221-lcd.jpg"/>
          <p:cNvPicPr/>
          <p:nvPr/>
        </p:nvPicPr>
        <p:blipFill>
          <a:blip r:embed="rId4"/>
          <a:stretch/>
        </p:blipFill>
        <p:spPr>
          <a:xfrm>
            <a:off x="5286240" y="4017960"/>
            <a:ext cx="3341880" cy="284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00160" y="2000160"/>
            <a:ext cx="1042920" cy="3129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200" y="50004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D’s have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ackl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diffus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front of it which spreads the light across the screen eve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000680" y="171468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olariz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s the liquid crystal to change the shade and depth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color’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each pix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29080" y="4929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the backlight does have a half life of close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0,000 hou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"/>
          <p:cNvCxnSpPr/>
          <p:nvPr/>
        </p:nvCxnSpPr>
        <p:spPr>
          <a:xfrm>
            <a:off x="1285920" y="1500120"/>
            <a:ext cx="643320" cy="1286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3071520" y="2713680"/>
            <a:ext cx="135792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-92160" y="19080"/>
            <a:ext cx="2470320" cy="115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571680" y="11430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c light emitting di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oled-cell.gif"/>
          <p:cNvPicPr/>
          <p:nvPr/>
        </p:nvPicPr>
        <p:blipFill>
          <a:blip r:embed="rId2"/>
          <a:stretch/>
        </p:blipFill>
        <p:spPr>
          <a:xfrm>
            <a:off x="500040" y="1857240"/>
            <a:ext cx="4143240" cy="3853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429160" y="16430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nly screen that is roll able  and 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reen that i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200 tim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ner than a human 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04:55Z</dcterms:created>
  <dc:creator>Dell XPS</dc:creator>
  <dc:description/>
  <dc:language>en-US</dc:language>
  <cp:lastModifiedBy>Dell XPS</cp:lastModifiedBy>
  <dcterms:modified xsi:type="dcterms:W3CDTF">2008-12-02T22:48:39Z</dcterms:modified>
  <cp:revision>65</cp:revision>
  <dc:subject/>
  <dc:title>Slide 1</dc:title>
</cp:coreProperties>
</file>