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11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44D2-1906-4C23-AFDF-EB010FAA133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3D37-463C-4C7B-BCD6-4481D5C2919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ic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D87E-7062-4216-88F4-1158A81940F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4217-6970-443C-B15D-B638CF30A96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HD video 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AA33-51CE-45D8-9FA0-D9D132E7C3C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GB analog multi m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BC74-963C-4090-A6F6-40FC27E02703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7FF8-8E92-47B4-8A84-7EA0B5B31C3D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299C-6756-4836-AA0B-2D13F2EE4F5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ile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A442-C618-4E2A-BFF2-6243582541A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SPDA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02B2-7E0C-4614-8D7F-40FDC8C0B4DD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 on dem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D299-F974-4404-B571-4B556EE0232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3F79-89C2-41BE-8475-CD6D5778BC0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FD12-8BCA-4BD7-A704-5753AE211DD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LC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62B-68C8-49B3-9662-381B5AEAEA4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6411-B061-4761-867F-B47C2186284C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D85-A4F5-44FA-9A99-7C4B13E9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0E6-9BF5-43E5-AE32-873DB072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1C6-E914-450B-9B3C-EF6FAD41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159-4376-414A-83A5-8EBB1789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A2C-78FA-4CDC-A773-ECAE79AB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F54-FF79-4256-BC6C-4CD6203D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298-0150-4939-AFB8-3E5ED56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657-E97E-4917-BFB6-D53BA662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EB3-3571-451F-97C5-E6270FBB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584-29EE-4CB0-9A12-34D4EE2B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08F-6124-492E-9BFF-1A7D0027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EF2-029C-41DB-AD88-75A3AA8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A205-1319-4BBE-8C2B-38DD4DB4C6D8}" type="slidenum">
              <a:rPr b="0" lang="en-S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RT.jpg"/>
          <p:cNvPicPr/>
          <p:nvPr/>
        </p:nvPicPr>
        <p:blipFill>
          <a:blip r:embed="rId1"/>
          <a:stretch/>
        </p:blipFill>
        <p:spPr>
          <a:xfrm>
            <a:off x="1143000" y="1357200"/>
            <a:ext cx="262584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water LCD TV.jpg"/>
          <p:cNvPicPr/>
          <p:nvPr/>
        </p:nvPicPr>
        <p:blipFill>
          <a:blip r:embed="rId2"/>
          <a:stretch/>
        </p:blipFill>
        <p:spPr>
          <a:xfrm>
            <a:off x="1000080" y="3776760"/>
            <a:ext cx="2786040" cy="30812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" descr=""/>
          <p:cNvPicPr/>
          <p:nvPr/>
        </p:nvPicPr>
        <p:blipFill>
          <a:blip r:embed="rId3"/>
          <a:stretch/>
        </p:blipFill>
        <p:spPr>
          <a:xfrm>
            <a:off x="0" y="103320"/>
            <a:ext cx="568152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4"/>
          <a:stretch/>
        </p:blipFill>
        <p:spPr>
          <a:xfrm>
            <a:off x="2292480" y="1146240"/>
            <a:ext cx="3932280" cy="113976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5"/>
          <a:stretch/>
        </p:blipFill>
        <p:spPr>
          <a:xfrm>
            <a:off x="3754440" y="5181480"/>
            <a:ext cx="2506680" cy="1103400"/>
          </a:xfrm>
          <a:prstGeom prst="rect">
            <a:avLst/>
          </a:prstGeom>
          <a:ln w="0">
            <a:noFill/>
          </a:ln>
        </p:spPr>
      </p:pic>
      <p:sp>
        <p:nvSpPr>
          <p:cNvPr id="53" name="Down Arrow 4"/>
          <p:cNvSpPr/>
          <p:nvPr/>
        </p:nvSpPr>
        <p:spPr>
          <a:xfrm rot="20742000">
            <a:off x="3933360" y="2071440"/>
            <a:ext cx="1040040" cy="3641760"/>
          </a:xfrm>
          <a:prstGeom prst="downArrow">
            <a:avLst>
              <a:gd name="adj1" fmla="val 48741"/>
              <a:gd name="adj2" fmla="val 786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athode ray tube.jpg"/>
          <p:cNvPicPr/>
          <p:nvPr/>
        </p:nvPicPr>
        <p:blipFill>
          <a:blip r:embed="rId6"/>
          <a:stretch/>
        </p:blipFill>
        <p:spPr>
          <a:xfrm>
            <a:off x="6072120" y="785880"/>
            <a:ext cx="2295720" cy="199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CD TV.jpg"/>
          <p:cNvPicPr/>
          <p:nvPr/>
        </p:nvPicPr>
        <p:blipFill>
          <a:blip r:embed="rId7"/>
          <a:stretch/>
        </p:blipFill>
        <p:spPr>
          <a:xfrm>
            <a:off x="6072120" y="4429080"/>
            <a:ext cx="2714760" cy="2165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-171360" y="353880"/>
            <a:ext cx="5664240" cy="12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071720" y="22860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t 26% more backlighting to the user over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143000" y="400068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efully they will find their way into computers and will still give bright images in direct sunlight as opposed to current LCD’s and also reduce the 30% battery usage of conventional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pixel2-1.jpg"/>
          <p:cNvPicPr/>
          <p:nvPr/>
        </p:nvPicPr>
        <p:blipFill>
          <a:blip r:embed="rId1"/>
          <a:stretch/>
        </p:blipFill>
        <p:spPr>
          <a:xfrm>
            <a:off x="4143240" y="2357280"/>
            <a:ext cx="2820960" cy="3757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714240" y="71424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current is passed the primary mirror will form a parabola which focuses light onto the secondary mirror which will then reflect light out of the hole in the midd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HDMI.png"/>
          <p:cNvPicPr/>
          <p:nvPr/>
        </p:nvPicPr>
        <p:blipFill>
          <a:blip r:embed="rId1"/>
          <a:stretch/>
        </p:blipFill>
        <p:spPr>
          <a:xfrm>
            <a:off x="1214280" y="1357200"/>
            <a:ext cx="6953400" cy="1625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85920" y="41432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is i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are it’s altern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dmi_000.jpg"/>
          <p:cNvPicPr/>
          <p:nvPr/>
        </p:nvPicPr>
        <p:blipFill>
          <a:blip r:embed="rId2"/>
          <a:stretch/>
        </p:blipFill>
        <p:spPr>
          <a:xfrm>
            <a:off x="6643800" y="450072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071720" y="8571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DMI is a single output which sends out HD video and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8 channe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ound digitally the cable is similar in look to a USB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71680" y="1571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DMI cable comprises of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19 wi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a single cable transferring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GB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DR_Game_PS3_HDMI_G4cl.jpg"/>
          <p:cNvPicPr/>
          <p:nvPr/>
        </p:nvPicPr>
        <p:blipFill>
          <a:blip r:embed="rId1"/>
          <a:stretch/>
        </p:blipFill>
        <p:spPr>
          <a:xfrm>
            <a:off x="4000680" y="2224080"/>
            <a:ext cx="4714560" cy="431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RGB.jpg"/>
          <p:cNvPicPr/>
          <p:nvPr/>
        </p:nvPicPr>
        <p:blipFill>
          <a:blip r:embed="rId1"/>
          <a:stretch/>
        </p:blipFill>
        <p:spPr>
          <a:xfrm>
            <a:off x="214200" y="1071720"/>
            <a:ext cx="4610160" cy="46432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-384120" y="-73080"/>
            <a:ext cx="6242040" cy="1200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4857840" y="1285920"/>
            <a:ext cx="350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monly seen analog version called an RGB that only supports 2 channels of audio, supporting only stere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you-tube-logo-with-rss.png"/>
          <p:cNvPicPr/>
          <p:nvPr/>
        </p:nvPicPr>
        <p:blipFill>
          <a:blip r:embed="rId1"/>
          <a:stretch/>
        </p:blipFill>
        <p:spPr>
          <a:xfrm>
            <a:off x="714240" y="214200"/>
            <a:ext cx="7929720" cy="41324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3" descr=""/>
          <p:cNvPicPr/>
          <p:nvPr/>
        </p:nvPicPr>
        <p:blipFill>
          <a:blip r:embed="rId2"/>
          <a:stretch/>
        </p:blipFill>
        <p:spPr>
          <a:xfrm>
            <a:off x="-182520" y="165240"/>
            <a:ext cx="699120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etacafe-logo.jpg"/>
          <p:cNvPicPr/>
          <p:nvPr/>
        </p:nvPicPr>
        <p:blipFill>
          <a:blip r:embed="rId3"/>
          <a:stretch/>
        </p:blipFill>
        <p:spPr>
          <a:xfrm>
            <a:off x="714240" y="4429080"/>
            <a:ext cx="7572600" cy="209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28760" y="1857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YouTube hosts over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six million videos</a:t>
            </a:r>
            <a:r>
              <a:rPr b="0" i="1" lang="en-SG" sz="1800" spc="-1" strike="noStrike">
                <a:solidFill>
                  <a:srgbClr val="c0504d"/>
                </a:solidFill>
                <a:latin typeface="Calibri"/>
              </a:rPr>
              <a:t>,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growing at about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20 percent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every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4857840" y="3286080"/>
            <a:ext cx="37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Takes up to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45 terabytes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of stor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00040" y="5072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SG" sz="2000" spc="-1" strike="noStrike">
                <a:solidFill>
                  <a:srgbClr val="000000"/>
                </a:solidFill>
                <a:latin typeface="Calibri"/>
              </a:rPr>
              <a:t>one terabyte is 1000 gigab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328680" y="171360"/>
            <a:ext cx="24145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5" descr=""/>
          <p:cNvPicPr/>
          <p:nvPr/>
        </p:nvPicPr>
        <p:blipFill>
          <a:blip r:embed="rId2"/>
          <a:stretch/>
        </p:blipFill>
        <p:spPr>
          <a:xfrm>
            <a:off x="1596960" y="201600"/>
            <a:ext cx="270684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73080" y="139680"/>
            <a:ext cx="3846600" cy="114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2981160"/>
            <a:ext cx="1476360" cy="3876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untitled.bmp"/>
          <p:cNvPicPr/>
          <p:nvPr/>
        </p:nvPicPr>
        <p:blipFill>
          <a:blip r:embed="rId3"/>
          <a:stretch/>
        </p:blipFill>
        <p:spPr>
          <a:xfrm>
            <a:off x="6429240" y="2786040"/>
            <a:ext cx="2333880" cy="3857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1857240" y="357192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ing Tv in the palm of your hand is the dream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3.5G and HSPD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he realization of tha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-96840" y="96840"/>
            <a:ext cx="7077240" cy="1951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071720" y="40719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practically mobile broad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new protocol for mobile communications which allows faster data transfer speed between 1.8-42Mb/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-85680" y="85680"/>
            <a:ext cx="5095800" cy="11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357880" y="2714760"/>
            <a:ext cx="3143160" cy="3495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928800" y="164304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does it me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ere is it g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-42840" y="219240"/>
            <a:ext cx="8139240" cy="113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RT.png"/>
          <p:cNvPicPr/>
          <p:nvPr/>
        </p:nvPicPr>
        <p:blipFill>
          <a:blip r:embed="rId2"/>
          <a:stretch/>
        </p:blipFill>
        <p:spPr>
          <a:xfrm>
            <a:off x="311040" y="1262160"/>
            <a:ext cx="60897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2286000" y="54291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en electrons hit the screen the phosphor lights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V="1">
            <a:off x="5285160" y="2642760"/>
            <a:ext cx="786600" cy="26438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285920" y="928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put TV when you wan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two was of getting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 streaming (e.g youtub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1520" y="2714760"/>
            <a:ext cx="9042480" cy="3929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643280" y="23572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tw that idiot is 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5"/>
          <p:cNvCxnSpPr/>
          <p:nvPr/>
        </p:nvCxnSpPr>
        <p:spPr>
          <a:xfrm flipH="1">
            <a:off x="2499480" y="2713680"/>
            <a:ext cx="2644200" cy="1572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107172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By downloading the video’s and saving them in a device (e.g . Ipod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57280" y="135720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786040" y="1357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421_nokia_n95_camera.jpg"/>
          <p:cNvPicPr/>
          <p:nvPr/>
        </p:nvPicPr>
        <p:blipFill>
          <a:blip r:embed="rId1"/>
          <a:stretch/>
        </p:blipFill>
        <p:spPr>
          <a:xfrm>
            <a:off x="6786720" y="1444680"/>
            <a:ext cx="1792080" cy="427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ELL XPSM1330.bmp"/>
          <p:cNvPicPr/>
          <p:nvPr/>
        </p:nvPicPr>
        <p:blipFill>
          <a:blip r:embed="rId2"/>
          <a:stretch/>
        </p:blipFill>
        <p:spPr>
          <a:xfrm>
            <a:off x="214200" y="4143240"/>
            <a:ext cx="493416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pod_l.jpg"/>
          <p:cNvPicPr/>
          <p:nvPr/>
        </p:nvPicPr>
        <p:blipFill>
          <a:blip r:embed="rId3"/>
          <a:stretch/>
        </p:blipFill>
        <p:spPr>
          <a:xfrm>
            <a:off x="4143240" y="142884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" descr=""/>
          <p:cNvPicPr/>
          <p:nvPr/>
        </p:nvPicPr>
        <p:blipFill>
          <a:blip r:embed="rId1"/>
          <a:stretch/>
        </p:blipFill>
        <p:spPr>
          <a:xfrm>
            <a:off x="-122400" y="0"/>
            <a:ext cx="8107560" cy="1974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143000" y="25002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many debates on the future of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0040" y="3357720"/>
          <a:ext cx="8358120" cy="27511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ch TV whenever you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on hosting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range of vid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cent video’s may pass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copies of video’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y write infrin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control on viewing  censorin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accessibi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intr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stor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acy la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1085760" y="2243160"/>
            <a:ext cx="6515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1" descr=""/>
          <p:cNvPicPr/>
          <p:nvPr/>
        </p:nvPicPr>
        <p:blipFill>
          <a:blip r:embed="rId1"/>
          <a:stretch/>
        </p:blipFill>
        <p:spPr>
          <a:xfrm>
            <a:off x="401760" y="255600"/>
            <a:ext cx="5084640" cy="1103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071720" y="214308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ing larger screens than a majority of CRT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they project the original image onto a larger screen through a le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1" descr=""/>
          <p:cNvPicPr/>
          <p:nvPr/>
        </p:nvPicPr>
        <p:blipFill>
          <a:blip r:embed="rId1"/>
          <a:stretch/>
        </p:blipFill>
        <p:spPr>
          <a:xfrm>
            <a:off x="-19080" y="152280"/>
            <a:ext cx="5359320" cy="1189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1720" y="150012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HD is high definition – meaning mainly higher resolutions and clearer sound over standard-definition 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643040" y="314316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is th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because with HD there is no conversion from digital to analog signals all signals are sent digitally hence no “error in translatio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-30240" y="182520"/>
            <a:ext cx="5400720" cy="1103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00080" y="2286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tegral part of digital television, there are many types of surround sound from 3.0 to 22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786040" y="428616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round sound simply gives sound a 3D effect giving movies more depth and imm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79200" y="146160"/>
            <a:ext cx="4194360" cy="113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785880" y="14288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n passing a current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643200" y="521496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ifferent shades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re changed due to intensity not changing the cur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xenon.jpg"/>
          <p:cNvPicPr/>
          <p:nvPr/>
        </p:nvPicPr>
        <p:blipFill>
          <a:blip r:embed="rId2"/>
          <a:stretch/>
        </p:blipFill>
        <p:spPr>
          <a:xfrm>
            <a:off x="214200" y="235728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neon_advertisement_5.jpg"/>
          <p:cNvPicPr/>
          <p:nvPr/>
        </p:nvPicPr>
        <p:blipFill>
          <a:blip r:embed="rId3"/>
          <a:stretch/>
        </p:blipFill>
        <p:spPr>
          <a:xfrm>
            <a:off x="5715000" y="357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357720" y="3643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t releases electrons hitting the screen causing it to light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1" descr=""/>
          <p:cNvPicPr/>
          <p:nvPr/>
        </p:nvPicPr>
        <p:blipFill>
          <a:blip r:embed="rId1"/>
          <a:stretch/>
        </p:blipFill>
        <p:spPr>
          <a:xfrm>
            <a:off x="96840" y="396720"/>
            <a:ext cx="192708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LCD TV.bmp"/>
          <p:cNvPicPr/>
          <p:nvPr/>
        </p:nvPicPr>
        <p:blipFill>
          <a:blip r:embed="rId2"/>
          <a:stretch/>
        </p:blipFill>
        <p:spPr>
          <a:xfrm>
            <a:off x="214200" y="2857680"/>
            <a:ext cx="3619440" cy="315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enQ_LCD_V2400W-thumb-450x400.jpg"/>
          <p:cNvPicPr/>
          <p:nvPr/>
        </p:nvPicPr>
        <p:blipFill>
          <a:blip r:embed="rId3"/>
          <a:stretch/>
        </p:blipFill>
        <p:spPr>
          <a:xfrm>
            <a:off x="5429160" y="214200"/>
            <a:ext cx="3516480" cy="3125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3929040" y="3357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e popular display in TV’s and computer scre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asus-mw221-lcd.jpg"/>
          <p:cNvPicPr/>
          <p:nvPr/>
        </p:nvPicPr>
        <p:blipFill>
          <a:blip r:embed="rId4"/>
          <a:stretch/>
        </p:blipFill>
        <p:spPr>
          <a:xfrm>
            <a:off x="5286240" y="4017960"/>
            <a:ext cx="3341880" cy="284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00160" y="2000160"/>
            <a:ext cx="1042920" cy="3129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14200" y="50004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D’s have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ackl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diffus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front of it which spreads the light across the screen eve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000680" y="171468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polariz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ves the liquid crystal to change the shade and depth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color’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each pix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429080" y="4929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the backlight does have a half life of close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0,000 hou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"/>
          <p:cNvCxnSpPr/>
          <p:nvPr/>
        </p:nvCxnSpPr>
        <p:spPr>
          <a:xfrm>
            <a:off x="1285920" y="1500120"/>
            <a:ext cx="643320" cy="1286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3071520" y="2713680"/>
            <a:ext cx="135792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-92160" y="19080"/>
            <a:ext cx="2470320" cy="115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571680" y="114300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c light emitting di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oled-cell.gif"/>
          <p:cNvPicPr/>
          <p:nvPr/>
        </p:nvPicPr>
        <p:blipFill>
          <a:blip r:embed="rId2"/>
          <a:stretch/>
        </p:blipFill>
        <p:spPr>
          <a:xfrm>
            <a:off x="500040" y="1857240"/>
            <a:ext cx="4143240" cy="3853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5429160" y="16430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nly screen that is roll able  and flexi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reen that i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200 tim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ner than a human 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3:04:55Z</dcterms:created>
  <dc:creator>Dell XPS</dc:creator>
  <dc:description/>
  <dc:language>en-US</dc:language>
  <cp:lastModifiedBy>Dell XPS</cp:lastModifiedBy>
  <dcterms:modified xsi:type="dcterms:W3CDTF">2008-12-02T22:48:39Z</dcterms:modified>
  <cp:revision>65</cp:revision>
  <dc:subject/>
  <dc:title>Slide 1</dc:title>
</cp:coreProperties>
</file>