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31.png" ContentType="image/png"/>
  <Override PartName="/ppt/media/image43.png" ContentType="image/png"/>
  <Override PartName="/ppt/media/image37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11.png" ContentType="image/png"/>
  <Override PartName="/ppt/media/image7.jpeg" ContentType="image/jpeg"/>
  <Override PartName="/ppt/media/image28.jpeg" ContentType="image/jpeg"/>
  <Override PartName="/ppt/media/image1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618E-CED9-4E11-B1C3-B302BD9529E7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F895-6C5E-4CAD-8686-2299FA30159C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ic pix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C2E0-27C2-4D92-89A6-DF92FC961CBF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D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0646-0444-4F56-BEDB-2564EF5153E6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HD video m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6745-6978-4A75-9549-BFE2EB665704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GB analog multi me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8C7A-8811-4E68-8A45-38BD35064CC8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tu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F2CF-5624-4466-A7CF-84D979FCEE44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tube sto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F9D6-7CA3-4981-B4ED-C7FC29CDD1F4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bile 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495D-16CF-4CC5-BE24-E0E21EDA7A0B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SPDA how it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5C1A-EA52-4F22-9D97-2C6F2AFECF32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V on dem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E6D9-90BC-4C3D-92C7-E948BE21CFF4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6C19-5C83-45A3-82A5-4482A237CD7E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F6E4-D8DF-4809-A54A-1EEF9AEAFCEB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LCD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CF40-625D-4334-B3EB-D2B286101846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E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83BC-95C9-4193-AAF4-851CB5D07248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9393-DF26-4F63-8DBB-244B217D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824-34AC-4390-BC38-09D784C4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914-74ED-4E6E-A6AD-3989AC7E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368-C0E6-46E6-A0E7-AFCDB0BB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69B-4000-401D-BC16-27E630C5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9EC8-EC01-4209-AECA-38A5A09A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5176-BC9A-4977-899C-741B3020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9F5-4AAB-40C2-AA3D-38F4565A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BF65-F0A8-4180-9767-0BEF3AC4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AF8-B1DC-4D86-B345-04D76ED0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4BA6-A561-4A42-9D75-3B0BECF2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5B14-B790-4961-99D3-9411A24D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F7C1-6AD1-4A35-9554-41082978493D}" type="slidenum">
              <a:rPr b="0" lang="en-S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CRT.jpg"/>
          <p:cNvPicPr/>
          <p:nvPr/>
        </p:nvPicPr>
        <p:blipFill>
          <a:blip r:embed="rId1"/>
          <a:stretch/>
        </p:blipFill>
        <p:spPr>
          <a:xfrm>
            <a:off x="1143000" y="1357200"/>
            <a:ext cx="2625840" cy="242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water LCD TV.jpg"/>
          <p:cNvPicPr/>
          <p:nvPr/>
        </p:nvPicPr>
        <p:blipFill>
          <a:blip r:embed="rId2"/>
          <a:stretch/>
        </p:blipFill>
        <p:spPr>
          <a:xfrm>
            <a:off x="1000080" y="3776760"/>
            <a:ext cx="2786040" cy="308124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1" descr=""/>
          <p:cNvPicPr/>
          <p:nvPr/>
        </p:nvPicPr>
        <p:blipFill>
          <a:blip r:embed="rId3"/>
          <a:stretch/>
        </p:blipFill>
        <p:spPr>
          <a:xfrm>
            <a:off x="0" y="103320"/>
            <a:ext cx="5681520" cy="113508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2" descr=""/>
          <p:cNvPicPr/>
          <p:nvPr/>
        </p:nvPicPr>
        <p:blipFill>
          <a:blip r:embed="rId4"/>
          <a:stretch/>
        </p:blipFill>
        <p:spPr>
          <a:xfrm>
            <a:off x="2292480" y="1146240"/>
            <a:ext cx="3932280" cy="113976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3" descr=""/>
          <p:cNvPicPr/>
          <p:nvPr/>
        </p:nvPicPr>
        <p:blipFill>
          <a:blip r:embed="rId5"/>
          <a:stretch/>
        </p:blipFill>
        <p:spPr>
          <a:xfrm>
            <a:off x="3754440" y="5181480"/>
            <a:ext cx="2506680" cy="1103400"/>
          </a:xfrm>
          <a:prstGeom prst="rect">
            <a:avLst/>
          </a:prstGeom>
          <a:ln w="0">
            <a:noFill/>
          </a:ln>
        </p:spPr>
      </p:pic>
      <p:sp>
        <p:nvSpPr>
          <p:cNvPr id="53" name="Down Arrow 4"/>
          <p:cNvSpPr/>
          <p:nvPr/>
        </p:nvSpPr>
        <p:spPr>
          <a:xfrm rot="20742000">
            <a:off x="3933360" y="2071440"/>
            <a:ext cx="1040040" cy="3641760"/>
          </a:xfrm>
          <a:prstGeom prst="downArrow">
            <a:avLst>
              <a:gd name="adj1" fmla="val 48741"/>
              <a:gd name="adj2" fmla="val 786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athode ray tube.jpg"/>
          <p:cNvPicPr/>
          <p:nvPr/>
        </p:nvPicPr>
        <p:blipFill>
          <a:blip r:embed="rId6"/>
          <a:stretch/>
        </p:blipFill>
        <p:spPr>
          <a:xfrm>
            <a:off x="6072120" y="785880"/>
            <a:ext cx="2295720" cy="199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LCD TV.jpg"/>
          <p:cNvPicPr/>
          <p:nvPr/>
        </p:nvPicPr>
        <p:blipFill>
          <a:blip r:embed="rId7"/>
          <a:stretch/>
        </p:blipFill>
        <p:spPr>
          <a:xfrm>
            <a:off x="6072120" y="4429080"/>
            <a:ext cx="2714760" cy="2165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-171360" y="353880"/>
            <a:ext cx="5664240" cy="1200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1071720" y="22860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mit 26% more backlighting to the user over LCD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143000" y="4000680"/>
            <a:ext cx="46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efully they will find their way into computers and will still give bright images in direct sunlight as opposed to current LCD’s and also reduce the 30% battery usage of conventional LCD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pixel2-1.jpg"/>
          <p:cNvPicPr/>
          <p:nvPr/>
        </p:nvPicPr>
        <p:blipFill>
          <a:blip r:embed="rId1"/>
          <a:stretch/>
        </p:blipFill>
        <p:spPr>
          <a:xfrm>
            <a:off x="4143240" y="2357280"/>
            <a:ext cx="2820960" cy="375768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714240" y="714240"/>
            <a:ext cx="600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a current is passed the primary mirror will form a parabola which focuses light onto the secondary mirror which will then reflect light out of the hole in the midd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HDMI.png"/>
          <p:cNvPicPr/>
          <p:nvPr/>
        </p:nvPicPr>
        <p:blipFill>
          <a:blip r:embed="rId1"/>
          <a:stretch/>
        </p:blipFill>
        <p:spPr>
          <a:xfrm>
            <a:off x="1214280" y="1357200"/>
            <a:ext cx="6953400" cy="1625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1285920" y="414324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hat is i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hat are it’s altern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hdmi_000.jpg"/>
          <p:cNvPicPr/>
          <p:nvPr/>
        </p:nvPicPr>
        <p:blipFill>
          <a:blip r:embed="rId2"/>
          <a:stretch/>
        </p:blipFill>
        <p:spPr>
          <a:xfrm>
            <a:off x="6643800" y="4500720"/>
            <a:ext cx="2119320" cy="2119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1071720" y="85716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DMI is a single output which sends out HD video and up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8 channel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ound digitally the cable is similar in look to a USB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571680" y="157176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HDMI cable comprises of up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19 wir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a single cable transferring up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5GB per sec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HDR_Game_PS3_HDMI_G4cl.jpg"/>
          <p:cNvPicPr/>
          <p:nvPr/>
        </p:nvPicPr>
        <p:blipFill>
          <a:blip r:embed="rId1"/>
          <a:stretch/>
        </p:blipFill>
        <p:spPr>
          <a:xfrm>
            <a:off x="4000680" y="2224080"/>
            <a:ext cx="4714560" cy="4317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RGB.jpg"/>
          <p:cNvPicPr/>
          <p:nvPr/>
        </p:nvPicPr>
        <p:blipFill>
          <a:blip r:embed="rId1"/>
          <a:stretch/>
        </p:blipFill>
        <p:spPr>
          <a:xfrm>
            <a:off x="214200" y="1071720"/>
            <a:ext cx="4610160" cy="464328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2" descr=""/>
          <p:cNvPicPr/>
          <p:nvPr/>
        </p:nvPicPr>
        <p:blipFill>
          <a:blip r:embed="rId2"/>
          <a:stretch/>
        </p:blipFill>
        <p:spPr>
          <a:xfrm>
            <a:off x="-384120" y="-73080"/>
            <a:ext cx="6242040" cy="1200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4857840" y="1285920"/>
            <a:ext cx="350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mmonly seen analog version called an RGB that only supports 2 channels of audio, supporting only stere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you-tube-logo-with-rss.png"/>
          <p:cNvPicPr/>
          <p:nvPr/>
        </p:nvPicPr>
        <p:blipFill>
          <a:blip r:embed="rId1"/>
          <a:stretch/>
        </p:blipFill>
        <p:spPr>
          <a:xfrm>
            <a:off x="714240" y="214200"/>
            <a:ext cx="7929720" cy="413244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3" descr=""/>
          <p:cNvPicPr/>
          <p:nvPr/>
        </p:nvPicPr>
        <p:blipFill>
          <a:blip r:embed="rId2"/>
          <a:stretch/>
        </p:blipFill>
        <p:spPr>
          <a:xfrm>
            <a:off x="-182520" y="165240"/>
            <a:ext cx="699120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metacafe-logo.jpg"/>
          <p:cNvPicPr/>
          <p:nvPr/>
        </p:nvPicPr>
        <p:blipFill>
          <a:blip r:embed="rId3"/>
          <a:stretch/>
        </p:blipFill>
        <p:spPr>
          <a:xfrm>
            <a:off x="714240" y="4429080"/>
            <a:ext cx="7572600" cy="2092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428760" y="1857240"/>
            <a:ext cx="50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YouTube hosts over </a:t>
            </a:r>
            <a:r>
              <a:rPr b="0" i="1" lang="en-SG" sz="3200" spc="-1" strike="noStrike">
                <a:solidFill>
                  <a:srgbClr val="ff0000"/>
                </a:solidFill>
                <a:latin typeface="Calibri"/>
              </a:rPr>
              <a:t>six million videos</a:t>
            </a:r>
            <a:r>
              <a:rPr b="0" i="1" lang="en-SG" sz="1800" spc="-1" strike="noStrike">
                <a:solidFill>
                  <a:srgbClr val="c0504d"/>
                </a:solidFill>
                <a:latin typeface="Calibri"/>
              </a:rPr>
              <a:t>, </a:t>
            </a: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growing at about </a:t>
            </a:r>
            <a:r>
              <a:rPr b="0" i="1" lang="en-SG" sz="3200" spc="-1" strike="noStrike">
                <a:solidFill>
                  <a:srgbClr val="ff0000"/>
                </a:solidFill>
                <a:latin typeface="Calibri"/>
              </a:rPr>
              <a:t>20 percent </a:t>
            </a: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every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4857840" y="3286080"/>
            <a:ext cx="371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Takes up to </a:t>
            </a:r>
            <a:r>
              <a:rPr b="0" i="1" lang="en-SG" sz="3200" spc="-1" strike="noStrike">
                <a:solidFill>
                  <a:srgbClr val="ff0000"/>
                </a:solidFill>
                <a:latin typeface="Calibri"/>
              </a:rPr>
              <a:t>45 terabytes </a:t>
            </a: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of stor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00040" y="50720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0" lang="en-SG" sz="2000" spc="-1" strike="noStrike">
                <a:solidFill>
                  <a:srgbClr val="000000"/>
                </a:solidFill>
                <a:latin typeface="Calibri"/>
              </a:rPr>
              <a:t>one terabyte is 1000 gigaby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Rectangle 4" descr=""/>
          <p:cNvPicPr/>
          <p:nvPr/>
        </p:nvPicPr>
        <p:blipFill>
          <a:blip r:embed="rId1"/>
          <a:stretch/>
        </p:blipFill>
        <p:spPr>
          <a:xfrm>
            <a:off x="328680" y="171360"/>
            <a:ext cx="2414520" cy="137160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5" descr=""/>
          <p:cNvPicPr/>
          <p:nvPr/>
        </p:nvPicPr>
        <p:blipFill>
          <a:blip r:embed="rId2"/>
          <a:stretch/>
        </p:blipFill>
        <p:spPr>
          <a:xfrm>
            <a:off x="1596960" y="201600"/>
            <a:ext cx="2706840" cy="1341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1"/>
          <a:stretch/>
        </p:blipFill>
        <p:spPr>
          <a:xfrm>
            <a:off x="73080" y="139680"/>
            <a:ext cx="3846600" cy="1146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214200" y="2981160"/>
            <a:ext cx="1476360" cy="3876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untitled.bmp"/>
          <p:cNvPicPr/>
          <p:nvPr/>
        </p:nvPicPr>
        <p:blipFill>
          <a:blip r:embed="rId3"/>
          <a:stretch/>
        </p:blipFill>
        <p:spPr>
          <a:xfrm>
            <a:off x="6429240" y="2786040"/>
            <a:ext cx="2333880" cy="38577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6"/>
          <p:cNvSpPr/>
          <p:nvPr/>
        </p:nvSpPr>
        <p:spPr>
          <a:xfrm>
            <a:off x="1857240" y="3571920"/>
            <a:ext cx="44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ching Tv in the palm of your hand is the dream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3.5G and HSPD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the realization of tha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-96840" y="96840"/>
            <a:ext cx="7077240" cy="1951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1071720" y="407196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practically mobile broad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a new protocol for mobile communications which allows faster data transfer speed between 1.8-42Mb/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3" descr=""/>
          <p:cNvPicPr/>
          <p:nvPr/>
        </p:nvPicPr>
        <p:blipFill>
          <a:blip r:embed="rId1"/>
          <a:stretch/>
        </p:blipFill>
        <p:spPr>
          <a:xfrm>
            <a:off x="-85680" y="85680"/>
            <a:ext cx="5095800" cy="115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5357880" y="2714760"/>
            <a:ext cx="3143160" cy="34956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928800" y="164304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does it mea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ere is it go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1" descr=""/>
          <p:cNvPicPr/>
          <p:nvPr/>
        </p:nvPicPr>
        <p:blipFill>
          <a:blip r:embed="rId1"/>
          <a:stretch/>
        </p:blipFill>
        <p:spPr>
          <a:xfrm>
            <a:off x="-42840" y="219240"/>
            <a:ext cx="8139240" cy="1139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RT.png"/>
          <p:cNvPicPr/>
          <p:nvPr/>
        </p:nvPicPr>
        <p:blipFill>
          <a:blip r:embed="rId2"/>
          <a:stretch/>
        </p:blipFill>
        <p:spPr>
          <a:xfrm>
            <a:off x="311040" y="1262160"/>
            <a:ext cx="608976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2286000" y="542916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When electrons hit the screen the phosphor lights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5"/>
          <p:cNvCxnSpPr/>
          <p:nvPr/>
        </p:nvCxnSpPr>
        <p:spPr>
          <a:xfrm flipV="1">
            <a:off x="5285160" y="2642760"/>
            <a:ext cx="786600" cy="264384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285920" y="92880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y put TV when you wan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are two was of getting TV on dem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deo streaming (e.g youtub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01520" y="2714760"/>
            <a:ext cx="9042480" cy="39290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4643280" y="235728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tw that idiot is m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5"/>
          <p:cNvCxnSpPr/>
          <p:nvPr/>
        </p:nvCxnSpPr>
        <p:spPr>
          <a:xfrm flipH="1">
            <a:off x="2499480" y="2713680"/>
            <a:ext cx="2644200" cy="15721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571680" y="1071720"/>
            <a:ext cx="53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) By downloading the video’s and saving them in a device (e.g . Ipod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357280" y="1357200"/>
            <a:ext cx="5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c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2786040" y="13572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o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00421_nokia_n95_camera.jpg"/>
          <p:cNvPicPr/>
          <p:nvPr/>
        </p:nvPicPr>
        <p:blipFill>
          <a:blip r:embed="rId1"/>
          <a:stretch/>
        </p:blipFill>
        <p:spPr>
          <a:xfrm>
            <a:off x="6786720" y="1444680"/>
            <a:ext cx="1792080" cy="4270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DELL XPSM1330.bmp"/>
          <p:cNvPicPr/>
          <p:nvPr/>
        </p:nvPicPr>
        <p:blipFill>
          <a:blip r:embed="rId2"/>
          <a:stretch/>
        </p:blipFill>
        <p:spPr>
          <a:xfrm>
            <a:off x="214200" y="4143240"/>
            <a:ext cx="4934160" cy="2552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pod_l.jpg"/>
          <p:cNvPicPr/>
          <p:nvPr/>
        </p:nvPicPr>
        <p:blipFill>
          <a:blip r:embed="rId3"/>
          <a:stretch/>
        </p:blipFill>
        <p:spPr>
          <a:xfrm>
            <a:off x="4143240" y="142884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1" descr=""/>
          <p:cNvPicPr/>
          <p:nvPr/>
        </p:nvPicPr>
        <p:blipFill>
          <a:blip r:embed="rId1"/>
          <a:stretch/>
        </p:blipFill>
        <p:spPr>
          <a:xfrm>
            <a:off x="-122400" y="0"/>
            <a:ext cx="8107560" cy="19749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1143000" y="250020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are many debates on the future of TV on dem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00040" y="3357720"/>
          <a:ext cx="8358120" cy="2751120"/>
        </p:xfrm>
        <a:graphic>
          <a:graphicData uri="http://schemas.openxmlformats.org/drawingml/2006/table">
            <a:tbl>
              <a:tblPr/>
              <a:tblGrid>
                <a:gridCol w="4179960"/>
                <a:gridCol w="417816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ch TV whenever you w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on hosting 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de range of vide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cent video’s may pass scree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copies of video’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py write infring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 scree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 control on viewing  censoring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de accessibi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vacy intr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 stor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racy la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tangle 1" descr=""/>
          <p:cNvPicPr/>
          <p:nvPr/>
        </p:nvPicPr>
        <p:blipFill>
          <a:blip r:embed="rId1"/>
          <a:stretch/>
        </p:blipFill>
        <p:spPr>
          <a:xfrm>
            <a:off x="1085760" y="2243160"/>
            <a:ext cx="6515280" cy="2462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1" descr=""/>
          <p:cNvPicPr/>
          <p:nvPr/>
        </p:nvPicPr>
        <p:blipFill>
          <a:blip r:embed="rId1"/>
          <a:stretch/>
        </p:blipFill>
        <p:spPr>
          <a:xfrm>
            <a:off x="401760" y="255600"/>
            <a:ext cx="5084640" cy="11034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071720" y="2143080"/>
            <a:ext cx="578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ing larger screens than a majority of CRT tele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y they project the original image onto a larger screen through a le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Rectangle 1" descr=""/>
          <p:cNvPicPr/>
          <p:nvPr/>
        </p:nvPicPr>
        <p:blipFill>
          <a:blip r:embed="rId1"/>
          <a:stretch/>
        </p:blipFill>
        <p:spPr>
          <a:xfrm>
            <a:off x="-19080" y="152280"/>
            <a:ext cx="5359320" cy="11890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71720" y="150012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HD is high definition – meaning mainly higher resolutions and clearer sound over standard-definition T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1643040" y="3143160"/>
            <a:ext cx="51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 is th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because with HD there is no conversion from digital to analog signals all signals are sent digitally hence no “error in translation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1" descr=""/>
          <p:cNvPicPr/>
          <p:nvPr/>
        </p:nvPicPr>
        <p:blipFill>
          <a:blip r:embed="rId1"/>
          <a:stretch/>
        </p:blipFill>
        <p:spPr>
          <a:xfrm>
            <a:off x="-30240" y="182520"/>
            <a:ext cx="5400720" cy="1103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000080" y="228600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tegral part of digital television, there are many types of surround sound from 3.0 to 22.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2786040" y="428616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round sound simply gives sound a 3D effect giving movies more depth and immer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ectangle 1" descr=""/>
          <p:cNvPicPr/>
          <p:nvPr/>
        </p:nvPicPr>
        <p:blipFill>
          <a:blip r:embed="rId1"/>
          <a:stretch/>
        </p:blipFill>
        <p:spPr>
          <a:xfrm>
            <a:off x="79200" y="146160"/>
            <a:ext cx="4194360" cy="1139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785880" y="14288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When passing a current thro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643200" y="521496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different shades of the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re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bas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92d050"/>
                </a:solidFill>
                <a:latin typeface="Calibri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are changed due to intensity not changing the curr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xenon.jpg"/>
          <p:cNvPicPr/>
          <p:nvPr/>
        </p:nvPicPr>
        <p:blipFill>
          <a:blip r:embed="rId2"/>
          <a:stretch/>
        </p:blipFill>
        <p:spPr>
          <a:xfrm>
            <a:off x="214200" y="2357280"/>
            <a:ext cx="2143080" cy="16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neon_advertisement_5.jpg"/>
          <p:cNvPicPr/>
          <p:nvPr/>
        </p:nvPicPr>
        <p:blipFill>
          <a:blip r:embed="rId3"/>
          <a:stretch/>
        </p:blipFill>
        <p:spPr>
          <a:xfrm>
            <a:off x="5715000" y="35712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3357720" y="364320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It releases electrons hitting the screen causing it to light 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ctangle 1" descr=""/>
          <p:cNvPicPr/>
          <p:nvPr/>
        </p:nvPicPr>
        <p:blipFill>
          <a:blip r:embed="rId1"/>
          <a:stretch/>
        </p:blipFill>
        <p:spPr>
          <a:xfrm>
            <a:off x="96840" y="396720"/>
            <a:ext cx="1927080" cy="110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LCD TV.bmp"/>
          <p:cNvPicPr/>
          <p:nvPr/>
        </p:nvPicPr>
        <p:blipFill>
          <a:blip r:embed="rId2"/>
          <a:stretch/>
        </p:blipFill>
        <p:spPr>
          <a:xfrm>
            <a:off x="214200" y="2857680"/>
            <a:ext cx="3619440" cy="3152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BenQ_LCD_V2400W-thumb-450x400.jpg"/>
          <p:cNvPicPr/>
          <p:nvPr/>
        </p:nvPicPr>
        <p:blipFill>
          <a:blip r:embed="rId3"/>
          <a:stretch/>
        </p:blipFill>
        <p:spPr>
          <a:xfrm>
            <a:off x="5429160" y="214200"/>
            <a:ext cx="3516480" cy="312588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3929040" y="3357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ore popular display in TV’s and computer scre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asus-mw221-lcd.jpg"/>
          <p:cNvPicPr/>
          <p:nvPr/>
        </p:nvPicPr>
        <p:blipFill>
          <a:blip r:embed="rId4"/>
          <a:stretch/>
        </p:blipFill>
        <p:spPr>
          <a:xfrm>
            <a:off x="5286240" y="4017960"/>
            <a:ext cx="3341880" cy="2840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000160" y="2000160"/>
            <a:ext cx="1042920" cy="31291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14200" y="500040"/>
            <a:ext cx="40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D’s have a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backligh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a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diffus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front of it which spreads the light across the screen eve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000680" y="1714680"/>
            <a:ext cx="43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polariz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oves the liquid crystal to change the shade and depth of the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ree </a:t>
            </a:r>
            <a:r>
              <a:rPr b="1" lang="en-US" sz="1800" spc="-1" strike="noStrike">
                <a:solidFill>
                  <a:srgbClr val="92d050"/>
                </a:solidFill>
                <a:latin typeface="Calibri"/>
              </a:rPr>
              <a:t>bas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color’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each pix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429080" y="492912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the backlight does have a half life of close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50,000 hou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Straight Arrow Connector 6"/>
          <p:cNvCxnSpPr/>
          <p:nvPr/>
        </p:nvCxnSpPr>
        <p:spPr>
          <a:xfrm>
            <a:off x="1285920" y="1500120"/>
            <a:ext cx="643320" cy="12866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84" name="Straight Arrow Connector 8"/>
          <p:cNvCxnSpPr/>
          <p:nvPr/>
        </p:nvCxnSpPr>
        <p:spPr>
          <a:xfrm flipH="1">
            <a:off x="3071520" y="2713680"/>
            <a:ext cx="1357920" cy="500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1" descr=""/>
          <p:cNvPicPr/>
          <p:nvPr/>
        </p:nvPicPr>
        <p:blipFill>
          <a:blip r:embed="rId1"/>
          <a:stretch/>
        </p:blipFill>
        <p:spPr>
          <a:xfrm>
            <a:off x="-92160" y="19080"/>
            <a:ext cx="2470320" cy="1150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571680" y="114300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ganic light emitting di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oled-cell.gif"/>
          <p:cNvPicPr/>
          <p:nvPr/>
        </p:nvPicPr>
        <p:blipFill>
          <a:blip r:embed="rId2"/>
          <a:stretch/>
        </p:blipFill>
        <p:spPr>
          <a:xfrm>
            <a:off x="500040" y="1857240"/>
            <a:ext cx="4143240" cy="38530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5429160" y="1643040"/>
            <a:ext cx="28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nly screen that is roll able  and flexib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creen that is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200 tim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ner than a human 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3:04:55Z</dcterms:created>
  <dc:creator>Dell XPS</dc:creator>
  <dc:description/>
  <dc:language>en-US</dc:language>
  <cp:lastModifiedBy>Dell XPS</cp:lastModifiedBy>
  <dcterms:modified xsi:type="dcterms:W3CDTF">2008-12-02T22:48:39Z</dcterms:modified>
  <cp:revision>65</cp:revision>
  <dc:subject/>
  <dc:title>Slide 1</dc:title>
</cp:coreProperties>
</file>