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9.gif" ContentType="image/gif"/>
  <Override PartName="/ppt/media/image9.png" ContentType="image/png"/>
  <Override PartName="/ppt/media/image6.gif" ContentType="image/gif"/>
  <Override PartName="/ppt/media/image10.gif" ContentType="image/gif"/>
  <Override PartName="/ppt/media/image13.png" ContentType="image/png"/>
  <Override PartName="/ppt/media/image27.gif" ContentType="image/gif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11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21.png" ContentType="image/png"/>
  <Override PartName="/ppt/media/image22.png" ContentType="image/png"/>
  <Override PartName="/ppt/media/image28.png" ContentType="image/png"/>
  <Override PartName="/ppt/media/image5.gif" ContentType="image/gif"/>
  <Override PartName="/ppt/media/image30.gif" ContentType="image/gif"/>
  <Override PartName="/ppt/media/image23.png" ContentType="image/png"/>
  <Override PartName="/ppt/media/image24.png" ContentType="image/png"/>
  <Override PartName="/ppt/media/image25.png" ContentType="image/png"/>
  <Override PartName="/ppt/media/image19.png" ContentType="image/pn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CFD-18CA-48D2-9104-EA19459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EB6-684F-496D-825E-471C2525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CCE-C290-4902-BF86-26B8AC80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357-E0AC-4868-9335-8EDD6921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5A35-01AA-4F94-8FC2-C60DC36E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8D0E-31F8-4FBD-B263-A5C4699E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BF7-C8A6-4D7F-9A82-30B7ED60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E28B-F160-416A-B001-DC263CDE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3AF6-949C-4F0B-9CDD-9309B68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9E1E-B26B-4403-8A6C-8BF264A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DF59-B94B-41B1-B25D-9016067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3BE-38A2-490E-A347-1521362F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6000-D954-4BED-B2DD-1DD3FD9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52C-18E8-4298-9CE5-4DECACC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3930-F8A9-451D-BCF4-BB0664B2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8641-9C94-44BA-B1CD-9C543BFD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6FB4-06AB-4549-968A-238BE5E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6F4-BAE4-43BE-88AF-C98ADF1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28B-2803-485D-94E7-AB3DA0A8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A12-ED5A-4268-B319-FCC26E7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00A-3DAE-4DE3-BFAB-F8DEC73D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E1E-0493-49CE-B3F7-6C9CE758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1B0-F6E8-42DC-8B31-04E03BBA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0F6-2710-4556-9790-6E418721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DBA-7E80-4D45-8855-1EEB92D78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5C7-F28E-4A0B-8565-FD23F499A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wstuffworks.com/" TargetMode="Externa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M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3800" y="304776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al actor simulations, characters and 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0720" y="13712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toscop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Painting, drawing or overlaying images on to the frames of the mov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ion stand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a camera that can move up and down to film animations, the paper cut outs needs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xi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used to blend live actors with animated 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uter animation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use a computer to produce a animation frame by frame sequence. Tweening is essential to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ed drawing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the same character on different pages of paper with different posi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awing and etching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and etch directly onto fil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46664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46664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1466640" cy="15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46664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88080" y="1295280"/>
            <a:ext cx="335592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ehind the scenes of ‘The Incredibles’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Greatest Challenges faced by the animators when creating the movie we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the movement of cloth and h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every human asp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king simulations very rea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cle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ing Simple (Simplicity didn’t not work it had to be complex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ght and shadow on the sk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othing change and the behaviour of cloth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68604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one –the virtual act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77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Film Simone was about a virtual actress. Simone was kept a secret for so long because it made her avoidance made her more famous and popular to the peo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dvantage for Al Pacino for using a virtual actress was so that he could edit and manipulate Simone in anyway he wanted to in the fil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 could adjust the amount of tears Simone had and have additions to her face and clothes as we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eas of Impa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62320" y="1371600"/>
            <a:ext cx="57909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KEHOLDER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mak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vie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duction compa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43200" y="4381560"/>
            <a:ext cx="2943360" cy="247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90720"/>
            <a:ext cx="175248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ital Cinema is cheap (long-term) for the movie makers and produ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quality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reputation for the production 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ivity can be expressed to a greater ex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917640"/>
            <a:ext cx="20574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ice to watch the movie will be the same for the consu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changes the role of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expectations on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cial Impa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conomic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Digital Cinema is beneficial for the movie industry as movie-makers are using a device that is efficient and cheap to use, which means more dividend for the movie industr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Films and other visual/audio content is constantly being shared over the intern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man in Hong Kong was fined and sent to jail for distributing Daredevil, Red Planet and Miss Congeniality illegally. However the file sharing rate did not decre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5334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sychologic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Movies are fictional. They could be based on a true story but what happens in the movie isn’t real. People may think that it is real.Like how children thought they could really fly after they saw superma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example, Pixar Animation ‘Finding Nemo’. In Disney land there is a projection of the character Crush the sea turtle in the tank. Through Voice recognition and animation this turtle can have a conversation with you. The children may think it’s re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oss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orp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Morphing is when you transform e.g. a Bat into a Va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wee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Tweening is an animation technique that fills in the frames from the starting shape to the ending shap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dundancy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Elements within data that are more common than others and most compression algorithms utilize this property.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ssy data Compression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re you copy an Image and/or compress it, clarity is lost everytim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121932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1e0c9"/>
                </a:solidFill>
                <a:uFillTx/>
                <a:latin typeface="Verdana"/>
                <a:hlinkClick r:id="rId2"/>
              </a:rPr>
              <a:t>http://howstuffwork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nfb.ca/animation/objanim/en/index.php?PHPSESSID=5d656b67e7e521a7bccec4be5fb9d8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credibles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one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answer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8892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lm i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eries of images projected on screen in a speed so fast the images are in motion. Hence the alternative titles “motion picture” or ‘MOVE-y’ (Movi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4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160020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digital Cinema wor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cinema is just a new form to show and film new movies. Instead of chemicals being used on film, bits and bytes are used instead to record, transmit and repla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 faster and cheaper for the movie-makers. Specialised digital camcorders is made to shoot like film camer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camcorders shoot interlaced fields at 30 frames per sec. whereas Film cameras shoot complete frames at 24 frames per sec. Another difference is the image qua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ony HDW-F900 HDCAM camcorders with high-end Pan vision lenses can shoot bo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set>
                                      <p:cBhvr>
                                        <p:cTn id="4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ge-coupled de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CDs) are used to convert incoming light from a scene into an electronic signal, and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og-to-digital conver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urn this signal into a stream of 1s and 0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e the camera, a beam splitter separates the light into red, green and blue light. The camera records each color of light with a separate CCD to capture the full color ran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recombine these colors, you retrieve the full color image. Low-end camcorders use a single CCD to capture all colors of light, which gives a good im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762120" y="12193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1371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248160" cy="552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39000" y="6521400"/>
            <a:ext cx="63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microscopy.fsu.edu/primer/digitalimaging/concepts/ccdanatomy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video technology and com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the conversion of data into a format that requires fewer bits, so that data can be stored or transmitted more efficie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reversible, howe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Lossy data 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usually affects Imag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Example on Left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ette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dundanc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ithin the data, the more successful the compression of the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ital video contains a great deal of redundancy and thus is very suitable for compres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00" y="3275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249 b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0" y="6399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869 by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development of lossy data compression specifically for Images have contributed greatly to the realisation of digital video applications. E.g. Video conferencing, live access to content and HD-TV based cinem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hre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ain Compression techniques used for digital vide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neral purpos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an be used for any kind of da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ra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 sequences rather than individual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360440" cy="2895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640080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534520" cy="555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imations are sequences of Images or cartoons displayed one after anothe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eigh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ifferent animation techniques that are used. These ar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ject anim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basically a puppet animation; filming object and sending them through the process of pixil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nscre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a</a:t>
            </a:r>
            <a:r>
              <a:rPr b="0" lang="en" sz="1800" spc="-1" strike="noStrike">
                <a:solidFill>
                  <a:srgbClr val="ffffff"/>
                </a:solidFill>
                <a:latin typeface="Verdana"/>
              </a:rPr>
              <a:t> white screen that is pierced by hundreds of thousands of pins that can slide back and forth, in its own hole. When lit from the side, each pin casts a shadow, and when all the pins are pushed out, there is total darkness and vice versa. But when pins are pushed in, their shadows are shorter, and the black become gre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aper cut out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he cheapest for of animation, this is when you cut out characters and move them on a background to form a shadow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91520" y="1752480"/>
            <a:ext cx="1752480" cy="150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5200" y="5334120"/>
            <a:ext cx="182880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3:10:25Z</dcterms:created>
  <dc:creator>Denyse</dc:creator>
  <dc:description/>
  <cp:keywords/>
  <dc:language>en-US</dc:language>
  <cp:lastModifiedBy>ISB</cp:lastModifiedBy>
  <dcterms:modified xsi:type="dcterms:W3CDTF">2006-11-22T03:02:11Z</dcterms:modified>
  <cp:revision>18</cp:revision>
  <dc:subject/>
  <dc:title>FILM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21033</vt:lpwstr>
  </property>
</Properties>
</file>