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9.gif" ContentType="image/gif"/>
  <Override PartName="/ppt/media/image9.png" ContentType="image/png"/>
  <Override PartName="/ppt/media/image6.gif" ContentType="image/gif"/>
  <Override PartName="/ppt/media/image10.gif" ContentType="image/gif"/>
  <Override PartName="/ppt/media/image13.png" ContentType="image/png"/>
  <Override PartName="/ppt/media/image27.gif" ContentType="image/gif"/>
  <Override PartName="/ppt/media/image1.jpeg" ContentType="image/jpeg"/>
  <Override PartName="/ppt/media/image4.gif" ContentType="image/gif"/>
  <Override PartName="/ppt/media/image7.png" ContentType="image/png"/>
  <Override PartName="/ppt/media/image12.png" ContentType="image/png"/>
  <Override PartName="/ppt/media/image8.gif" ContentType="image/gif"/>
  <Override PartName="/ppt/media/image11.png" ContentType="image/png"/>
  <Override PartName="/ppt/media/image14.gif" ContentType="image/gif"/>
  <Override PartName="/ppt/media/image17.png" ContentType="image/png"/>
  <Override PartName="/ppt/media/image15.gif" ContentType="image/gif"/>
  <Override PartName="/ppt/media/image18.png" ContentType="image/png"/>
  <Override PartName="/ppt/media/image20.png" ContentType="image/png"/>
  <Override PartName="/ppt/media/image2.jpeg" ContentType="image/jpeg"/>
  <Override PartName="/ppt/media/image16.png" ContentType="image/png"/>
  <Override PartName="/ppt/media/image21.png" ContentType="image/png"/>
  <Override PartName="/ppt/media/image22.png" ContentType="image/png"/>
  <Override PartName="/ppt/media/image28.png" ContentType="image/png"/>
  <Override PartName="/ppt/media/image5.gif" ContentType="image/gif"/>
  <Override PartName="/ppt/media/image30.gif" ContentType="image/gif"/>
  <Override PartName="/ppt/media/image23.png" ContentType="image/png"/>
  <Override PartName="/ppt/media/image24.png" ContentType="image/png"/>
  <Override PartName="/ppt/media/image25.png" ContentType="image/png"/>
  <Override PartName="/ppt/media/image19.png" ContentType="image/png"/>
  <Override PartName="/ppt/media/image2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24C5-B6C2-45B7-9A53-BEBD7B65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4077720"/>
            <a:ext cx="6858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0E3D-0277-419F-8C88-7AC66D25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9540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408-F1F1-44DC-8101-7AFCF783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99840" y="137124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8240" y="137124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407772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99840" y="407772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8240" y="407772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E76C-8C22-474D-8283-A3717B4A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46E2-66D2-49DF-9068-AA541A7A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900E-7FA6-4E53-8F4E-E0B2CF1E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D190-A7DD-4856-A437-4F8F16BD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7833-05F2-4A77-9EDF-AD8AA641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6B80-57B3-4624-9B7C-0CEBBBB3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0720" y="151920"/>
            <a:ext cx="6782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CAAD-2ABC-45E6-A6ED-1B730DFF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B991-6AF2-4878-BB7F-957AAE70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1345-E8EB-4D9D-A3D3-9A3EC588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9540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85AC-6D46-4E5B-9C64-A237D6F3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4077720"/>
            <a:ext cx="6858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AD2C-F43C-4FE6-A7EE-B1F047ED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4077720"/>
            <a:ext cx="6858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E29F-125A-49DC-994F-71C1BD5F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9540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4F83-DD50-4D86-AB16-C7FD170A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99840" y="137124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8240" y="137124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407772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99840" y="407772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8240" y="407772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1157-1364-42D5-90AB-400C23BA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A3E7-DBB2-405F-9742-47C37843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483A-6B0A-44C0-9E49-066A1873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FF4-02AD-4CF0-B10D-3380C360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151920"/>
            <a:ext cx="6782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E8F8-E39E-43BF-93E7-38ECFF46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62CE-4960-41F9-87AE-FD76CD49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9540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262F-ACF9-47F3-AC7E-052B1915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4077720"/>
            <a:ext cx="6858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4B7F-F735-4119-A069-C69ED99D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C05B-931A-4077-A2FE-557235163A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0920" y="2285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14D1-F2F4-481E-9C2E-A8B9F01F76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owstuffworks.com/" TargetMode="External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90920" y="2285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ILM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93800" y="3047760"/>
            <a:ext cx="6321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gital actor simulations, characters and anim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705720" y="50292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980720" y="137124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otoscop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Painting, drawing or overlaying images on to the frames of the movi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imation stand-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s a camera that can move up and down to film animations, the paper cut outs needs thi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xila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used to blend live actors with animated o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puter animation-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when you use a computer to produce a animation frame by frame sequence. Tweening is essential to thi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imated drawings-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When you draw the same character on different pages of paper with different position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rawing and etching-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When you draw and etch directly onto fil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4920" y="5257800"/>
            <a:ext cx="1466640" cy="1352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04920" y="3962520"/>
            <a:ext cx="1466640" cy="1123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04920" y="2286000"/>
            <a:ext cx="1466640" cy="1552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04920" y="990720"/>
            <a:ext cx="1466640" cy="108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788080" y="1295280"/>
            <a:ext cx="3355920" cy="49672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ehind the scenes of ‘The Incredibles’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60199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he Greatest Challenges faced by the animators when creating the movie we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mulating the movement of cloth and hai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mulating every human aspe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king simulations very realist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scle mov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racter mov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ing Simple (Simplicity didn’t not work it had to be complex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ight and shadow on the sk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othing change and the behaviour of cloth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3686040" cy="4724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one –the virtual actr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7760" y="137124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Film Simone was about a virtual actress. Simone was kept a secret for so long because it made her avoidance made her more famous and popular to the peop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advantage for Al Pacino for using a virtual actress was so that he could edit and manipulate Simone in anyway he wanted to in the fil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e could adjust the amount of tears Simone had and have additions to her face and clothes as wel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reas of Impac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362320" y="1371600"/>
            <a:ext cx="579096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KEHOLDERS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vie-mak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vie-view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to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duction compan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743200" y="4381560"/>
            <a:ext cx="2943360" cy="2476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990720"/>
            <a:ext cx="1752480" cy="60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gital Cinema is cheap (long-term) for the movie makers and produc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tter quality fil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od reputation for the production compan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ivity can be expressed to a greater ext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917640"/>
            <a:ext cx="20574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advantag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rice to watch the movie will be the same for the consum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ology changes the role of 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er expectations on fil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6782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ocial Impac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68580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conomicall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Digital Cinema is beneficial for the movie industry as movie-makers are using a device that is efficient and cheap to use, which means more dividend for the movie industr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egall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– Films and other visual/audio content is constantly being shared over the interne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man in Hong Kong was fined and sent to jail for distributing Daredevil, Red Planet and Miss Congeniality illegally. However the file sharing rate did not decrea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209680" y="4724280"/>
            <a:ext cx="533412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sychologica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Movies are fictional. They could be based on a true story but what happens in the movie isn’t real. People may think that it is real.Like how children thought they could really fly after they saw superma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 example, Pixar Animation ‘Finding Nemo’. In Disney land there is a projection of the character Crush the sea turtle in the tank. Through Voice recognition and animation this turtle can have a conversation with you. The children may think it’s rea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579132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lossar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orph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Morphing is when you transform e.g. a Bat into a Vampi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weening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Tweening is an animation technique that fills in the frames from the starting shape to the ending shape (back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Redundancy-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me Elements within data that are more common than others and most compression algorithms utilize this property. (back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Lossy data Compression-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more you copy an Image and/or compress it, clarity is lost everytime (back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924680" y="4038480"/>
            <a:ext cx="1219320" cy="15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bliograph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1e0c9"/>
                </a:solidFill>
                <a:uFillTx/>
                <a:latin typeface="Verdana"/>
                <a:hlinkClick r:id="rId2"/>
              </a:rPr>
              <a:t>http://howstuffworks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tp://www.nfb.ca/animation/objanim/en/index.php?PHPSESSID=5d656b67e7e521a7bccec4be5fb9d82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Incredibles Mov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mone Mov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tp://answers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553080" y="4038480"/>
            <a:ext cx="188928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ilm is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eries of images projected on screen in a speed so fast the images are in motion. Hence the alternative titles “motion picture” or ‘MOVE-y’ (Movie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409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57200" y="2057400"/>
            <a:ext cx="1600200" cy="11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ow digital Cinema wor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cinema is just a new form to show and film new movies. Instead of chemicals being used on film, bits and bytes are used instead to record, transmit and repla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orks faster and cheaper for the movie-makers. Specialised digital camcorders is made to shoot like film camer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 camcorders shoot interlaced fields at 30 frames per sec. whereas Film cameras shoot complete frames at 24 frames per sec. Another difference is the image qualit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Sony HDW-F900 HDCAM camcorders with high-end Pan vision lenses can shoot bo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4876920"/>
            <a:ext cx="2095560" cy="1666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33520" y="1676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88800"/>
                                      </p:to>
                                    </p:animClr>
                                    <p:animClr clrSpc="rgb">
                                      <p:cBhvr>
                                        <p:cTn id="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88800"/>
                                      </p:to>
                                    </p:animClr>
                                    <p:set>
                                      <p:cBhvr>
                                        <p:cTn id="46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ge-coupled devic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CCDs) are used to convert incoming light from a scene into an electronic signal, and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og-to-digital conver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urn this signal into a stream of 1s and 0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ide the camera, a beam splitter separates the light into red, green and blue light. The camera records each color of light with a separate CCD to capture the full color rang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you recombine these colors, you retrieve the full color image. Low-end camcorders use a single CCD to capture all colors of light, which gives a good imag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762120" y="1219320"/>
            <a:ext cx="2857680" cy="1904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04920" y="3733920"/>
            <a:ext cx="1371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6248160" cy="5524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39000" y="6521400"/>
            <a:ext cx="63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microscopy.fsu.edu/primer/digitalimaging/concepts/ccdanatomy.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 video technology and compre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Compress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is the conversion of data into a format that requires fewer bits, so that data can be stored or transmitted more efficientl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s is reversible, howev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Lossy data compress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usually affects Imag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Example on Left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better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redundanc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ithin the data, the more successful the compression of the da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gital video contains a great deal of redundancy and thus is very suitable for compressio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41911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00" y="327564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,249 by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0" y="63997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869 byt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development of lossy data compression specifically for Images have contributed greatly to the realisation of digital video applications. E.g. Video conferencing, live access to content and HD-TV based cinem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re are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thre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main Compression techniques used for digital video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eneral purpose compression techniqu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can be used for any kind of dat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traframe compression techniqu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ork on imag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terframe compression techniqu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ork on image sequences rather than individual imag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1360440" cy="2895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209680" y="0"/>
            <a:ext cx="6400800" cy="94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534520" cy="5559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nima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imations are sequences of Images or cartoons displayed one after another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re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eigh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ifferent animation techniques that are used. These are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bject anima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basically a puppet animation; filming object and sending them through the process of pixilatio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nscre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a</a:t>
            </a:r>
            <a:r>
              <a:rPr b="0" lang="en" sz="1800" spc="-1" strike="noStrike">
                <a:solidFill>
                  <a:srgbClr val="ffffff"/>
                </a:solidFill>
                <a:latin typeface="Verdana"/>
              </a:rPr>
              <a:t> white screen that is pierced by hundreds of thousands of pins that can slide back and forth, in its own hole. When lit from the side, each pin casts a shadow, and when all the pins are pushed out, there is total darkness and vice versa. But when pins are pushed in, their shadows are shorter, and the black become grey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aper cut outs-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the cheapest for of animation, this is when you cut out characters and move them on a background to form a shadow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391520" y="3429000"/>
            <a:ext cx="1752480" cy="1447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391520" y="1752480"/>
            <a:ext cx="1752480" cy="1508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7315200" y="5334120"/>
            <a:ext cx="1828800" cy="13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03:10:25Z</dcterms:created>
  <dc:creator>Denyse</dc:creator>
  <dc:description/>
  <cp:keywords/>
  <dc:language>en-US</dc:language>
  <cp:lastModifiedBy>ISB</cp:lastModifiedBy>
  <dcterms:modified xsi:type="dcterms:W3CDTF">2006-11-22T03:02:11Z</dcterms:modified>
  <cp:revision>18</cp:revision>
  <dc:subject/>
  <dc:title>FILM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21033</vt:lpwstr>
  </property>
</Properties>
</file>