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9.gif" ContentType="image/gif"/>
  <Override PartName="/ppt/media/image9.png" ContentType="image/png"/>
  <Override PartName="/ppt/media/image6.gif" ContentType="image/gif"/>
  <Override PartName="/ppt/media/image10.gif" ContentType="image/gif"/>
  <Override PartName="/ppt/media/image13.png" ContentType="image/png"/>
  <Override PartName="/ppt/media/image27.gif" ContentType="image/gif"/>
  <Override PartName="/ppt/media/image1.jpeg" ContentType="image/jpeg"/>
  <Override PartName="/ppt/media/image4.gif" ContentType="image/gif"/>
  <Override PartName="/ppt/media/image7.png" ContentType="image/png"/>
  <Override PartName="/ppt/media/image12.png" ContentType="image/png"/>
  <Override PartName="/ppt/media/image8.gif" ContentType="image/gif"/>
  <Override PartName="/ppt/media/image11.png" ContentType="image/png"/>
  <Override PartName="/ppt/media/image14.gif" ContentType="image/gif"/>
  <Override PartName="/ppt/media/image17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.jpeg" ContentType="image/jpeg"/>
  <Override PartName="/ppt/media/image16.png" ContentType="image/png"/>
  <Override PartName="/ppt/media/image21.png" ContentType="image/png"/>
  <Override PartName="/ppt/media/image22.png" ContentType="image/png"/>
  <Override PartName="/ppt/media/image28.png" ContentType="image/png"/>
  <Override PartName="/ppt/media/image5.gif" ContentType="image/gif"/>
  <Override PartName="/ppt/media/image30.gif" ContentType="image/gif"/>
  <Override PartName="/ppt/media/image23.png" ContentType="image/png"/>
  <Override PartName="/ppt/media/image24.png" ContentType="image/png"/>
  <Override PartName="/ppt/media/image25.png" ContentType="image/png"/>
  <Override PartName="/ppt/media/image19.png" ContentType="image/png"/>
  <Override PartName="/ppt/media/image2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BE5-44D1-4338-B033-0F128F04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15A3-A21E-43FD-89B9-B2767C0C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AAC-E5B4-4499-86C4-D049EBB9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98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82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98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82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EBB-B5AC-470B-AA88-CB043B18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839A-FBFD-444B-8BA9-8775CF5A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261A-4D2F-48C3-A595-1C8415BF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D00E-4718-4A62-932E-0AD8C80E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ACE5-32D0-4B9A-8A07-1299C94F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BF5B-FAED-40F4-8A8C-C8C1A99D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0720" y="151920"/>
            <a:ext cx="6782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7864-519A-4628-9FFE-72ACAC6E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DD4E-28E8-46E6-8137-B2372875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2EE-9626-4527-A5AF-EFF3D67E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BD65-B8AD-4DD2-8C2A-A551739A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C31C-F542-44DD-9C80-5132B80C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74D8-94E1-4E69-8466-C39B0D95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74C9-946B-4404-AF9C-9FF363B0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998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82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998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82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6767-606C-4934-B8C8-5DA356A5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9BD-053E-4F6F-8972-DF7B9871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46C-FED1-4BF0-8E01-A3AD00A4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5D5-4B90-4E5B-AAF7-8EAE2183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151920"/>
            <a:ext cx="6782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CA9-D659-441A-BEB5-01180549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F30-1489-4F56-A9CF-860C65D1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98B-AA11-4162-864F-3F005305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3EA-D8A7-48CB-B570-0081A1E4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218E-99CA-4DF1-9820-EBAF27EC3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920" y="2285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24D8-0B0A-4AF7-8816-FD2934E2E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owstuffworks.com/" TargetMode="External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920" y="2285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M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3800" y="3047760"/>
            <a:ext cx="632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ital actor simulations, characters and ani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705720" y="5029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80720" y="13712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otoscop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Painting, drawing or overlaying images on to the frames of the mov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imation stand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s a camera that can move up and down to film animations, the paper cut outs needs thi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xil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used to blend live actors with animated 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uter animation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hen you use a computer to produce a animation frame by frame sequence. Tweening is essential to thi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imated drawings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hen you draw the same character on different pages of paper with different position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rawing and etching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hen you draw and etch directly onto fil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1466640" cy="1352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1466640" cy="1123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04920" y="2286000"/>
            <a:ext cx="1466640" cy="1552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04920" y="990720"/>
            <a:ext cx="1466640" cy="10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88080" y="1295280"/>
            <a:ext cx="3355920" cy="49672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ehind the scenes of ‘The Incredibles’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6019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 Greatest Challenges faced by the animators when creating the movie we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mulating the movement of cloth and ha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mulating every human asp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king simulations very realist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cle m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acter m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ing Simple (Simplicity didn’t not work it had to be complex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ght and shadow on the sk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othing change and the behaviour of cloth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3686040" cy="4724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one –the virtual actr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7760" y="13712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Film Simone was about a virtual actress. Simone was kept a secret for so long because it made her avoidance made her more famous and popular to the peop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dvantage for Al Pacino for using a virtual actress was so that he could edit and manipulate Simone in anyway he wanted to in the fil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 could adjust the amount of tears Simone had and have additions to her face and clothes as wel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eas of Impac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362320" y="1371600"/>
            <a:ext cx="57909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KEHOLDER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vie-mak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vie-view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duction compan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43200" y="4381560"/>
            <a:ext cx="2943360" cy="2476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990720"/>
            <a:ext cx="1752480" cy="60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gital Cinema is cheap (long-term) for the movie makers and produc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ter quality fil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reputation for the production compa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ivity can be expressed to a greater ext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917640"/>
            <a:ext cx="20574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advanta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ice to watch the movie will be the same for the consum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ology changes the role of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er expectations on fil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cial Impa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conomical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Digital Cinema is beneficial for the movie industry as movie-makers are using a device that is efficient and cheap to use, which means more dividend for the movie industr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gal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Films and other visual/audio content is constantly being shared over the interne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man in Hong Kong was fined and sent to jail for distributing Daredevil, Red Planet and Miss Congeniality illegally. However the file sharing rate did not decrea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09680" y="4724280"/>
            <a:ext cx="53341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sychologica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Movies are fictional. They could be based on a true story but what happens in the movie isn’t real. People may think that it is real.Like how children thought they could really fly after they saw superma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 example, Pixar Animation ‘Finding Nemo’. In Disney land there is a projection of the character Crush the sea turtle in the tank. Through Voice recognition and animation this turtle can have a conversation with you. The children may think it’s re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57913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loss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orp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Morphing is when you transform e.g. a Bat into a Vampi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ween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Tweening is an animation technique that fills in the frames from the starting shape to the ending shape (bac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Redundancy-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me Elements within data that are more common than others and most compression algorithms utilize this property. (bac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Lossy data Compression-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more you copy an Image and/or compress it, clarity is lost everytime (bac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924680" y="4038480"/>
            <a:ext cx="1219320" cy="15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bliograph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1e0c9"/>
                </a:solidFill>
                <a:uFillTx/>
                <a:latin typeface="Verdana"/>
                <a:hlinkClick r:id="rId2"/>
              </a:rPr>
              <a:t>http://howstuffworks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www.nfb.ca/animation/objanim/en/index.php?PHPSESSID=5d656b67e7e521a7bccec4be5fb9d82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Incredibles Mov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one Mov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answers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553080" y="4038480"/>
            <a:ext cx="18892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ilm is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eries of images projected on screen in a speed so fast the images are in motion. Hence the alternative titles “motion picture” or ‘MOVE-y’ (Movi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40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" y="2057400"/>
            <a:ext cx="1600200" cy="11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w digital Cinema wor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cinema is just a new form to show and film new movies. Instead of chemicals being used on film, bits and bytes are used instead to record, transmit and repla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orks faster and cheaper for the movie-makers. Specialised digital camcorders is made to shoot like film camer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camcorders shoot interlaced fields at 30 frames per sec. whereas Film cameras shoot complete frames at 24 frames per sec. Another difference is the image quali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ony HDW-F900 HDCAM camcorders with high-end Pan vision lenses can shoot bo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2095560" cy="1666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800"/>
                                      </p:to>
                                    </p:animClr>
                                    <p:animClr clrSpc="rgb"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800"/>
                                      </p:to>
                                    </p:animClr>
                                    <p:set>
                                      <p:cBhvr>
                                        <p:cTn id="4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ge-coupled devi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CCDs) are used to convert incoming light from a scene into an electronic signal, and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og-to-digital conver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urn this signal into a stream of 1s and 0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ide the camera, a beam splitter separates the light into red, green and blue light. The camera records each color of light with a separate CCD to capture the full color rang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you recombine these colors, you retrieve the full color image. Low-end camcorders use a single CCD to capture all colors of light, which gives a good imag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762120" y="121932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920" y="3733920"/>
            <a:ext cx="1371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6248160" cy="552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39000" y="6521400"/>
            <a:ext cx="63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microscopy.fsu.edu/primer/digitalimaging/concepts/ccdanatomy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video technology and compr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Compress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s the conversion of data into a format that requires fewer bits, so that data can be stored or transmitted more efficient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reversible, howev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Lossy data compress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usually affects Imag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Example on Left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etter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redundanc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ithin the data, the more successful the compression of the da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gital video contains a great deal of redundancy and thus is very suitable for compressio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00" y="32756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,249 by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0" y="6399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869 byt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development of lossy data compression specifically for Images have contributed greatly to the realisation of digital video applications. E.g. Video conferencing, live access to content and HD-TV based cinem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e are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thre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main Compression techniques used for digital vide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neral purpose compression techniqu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an be used for any kind of dat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raframe compression techniqu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rk on imag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erframe compression techniqu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rk on image sequences rather than individual imag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1360440" cy="2895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209680" y="0"/>
            <a:ext cx="6400800" cy="9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534520" cy="5559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ima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imations are sequences of Images or cartoons displayed one after another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re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eigh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ifferent animation techniques that are used. These ar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bject anim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basically a puppet animation; filming object and sending them through the process of pixilatio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nscre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a</a:t>
            </a:r>
            <a:r>
              <a:rPr b="0" lang="en" sz="1800" spc="-1" strike="noStrike">
                <a:solidFill>
                  <a:srgbClr val="ffffff"/>
                </a:solidFill>
                <a:latin typeface="Verdana"/>
              </a:rPr>
              <a:t> white screen that is pierced by hundreds of thousands of pins that can slide back and forth, in its own hole. When lit from the side, each pin casts a shadow, and when all the pins are pushed out, there is total darkness and vice versa. But when pins are pushed in, their shadows are shorter, and the black become grey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aper cut outs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he cheapest for of animation, this is when you cut out characters and move them on a background to form a shadow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391520" y="34290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391520" y="1752480"/>
            <a:ext cx="1752480" cy="1508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315200" y="5334120"/>
            <a:ext cx="1828800" cy="13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03:10:25Z</dcterms:created>
  <dc:creator>Denyse</dc:creator>
  <dc:description/>
  <cp:keywords/>
  <dc:language>en-US</dc:language>
  <cp:lastModifiedBy>ISB</cp:lastModifiedBy>
  <dcterms:modified xsi:type="dcterms:W3CDTF">2006-11-22T03:02:11Z</dcterms:modified>
  <cp:revision>18</cp:revision>
  <dc:subject/>
  <dc:title>FILM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21033</vt:lpwstr>
  </property>
</Properties>
</file>