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BBA-1BCE-4801-86C9-C050C10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A2E-9C41-45CB-8401-5F80A245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E79-1414-4A9F-B661-7778EF98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77E-0676-41EA-8EAD-83CF11DF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BF1-38D7-4DBA-9A7E-6469302D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D66-3D88-4F14-802A-29B9174F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231-8BC6-4594-A6FF-BD42AAA1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809-FBBB-431E-89ED-A2A0ED41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EB4-181D-4AA8-970E-FB709C4C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5CF-F6F9-4884-A06B-36FC040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726-CCC1-43A0-B1DF-288E849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711-374B-4CB1-8395-0B4F09E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13E-3D74-4993-80A0-64667F79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</a:rPr>
              <a:t>Fil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gital actor simulations, characters and anima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2600" y="3600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An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The Incre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fini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w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IT and film m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T in recording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How is it being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 is it an important part of digital video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28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Use of IT in film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GI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– Computer-Generate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ample: Gollum from </a:t>
            </a:r>
            <a:r>
              <a:rPr b="0" i="1" lang="en-GB" sz="2800" spc="-1" strike="noStrike">
                <a:solidFill>
                  <a:srgbClr val="000000"/>
                </a:solidFill>
                <a:latin typeface="Century Gothic"/>
              </a:rPr>
              <a:t>Lord of th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651120"/>
            <a:ext cx="3887640" cy="258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07324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22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entury Gothic"/>
              </a:rPr>
              <a:t>Distribution of film med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gital distribution of film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s and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67440" y="3610080"/>
            <a:ext cx="30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Thank You for 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By: Allison &amp;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h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Year 12 ITG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04:01Z</dcterms:created>
  <dc:creator>Owner</dc:creator>
  <dc:description/>
  <dc:language>en-US</dc:language>
  <cp:lastModifiedBy>jtuah</cp:lastModifiedBy>
  <dcterms:modified xsi:type="dcterms:W3CDTF">2008-12-02T23:33:53Z</dcterms:modified>
  <cp:revision>9</cp:revision>
  <dc:subject/>
  <dc:title>Film</dc:title>
</cp:coreProperties>
</file>