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3E33-22F4-4634-8460-10E2AC82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4D48-226F-4EE7-BDEA-3F726AEC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833C-82A8-499B-BBCC-ABF9B546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E3F5-48DA-4A9D-979E-5AE0615E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6C04-E354-409F-9439-F70B8B6A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30F1-A1FB-47BF-8104-B729FC81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E52C-5B50-41D4-842E-71B2EAE5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817E-F518-4275-888F-352FF76E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FADE-4D4D-44EE-A6A2-B6B2A2EB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1CCA-08A2-4D7D-A657-F27234E5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EE75-C61C-4A13-8FEF-81CD2EDB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3B4D-EB32-4F0D-B8F0-6FB195A0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D23A-5F5D-46AD-86AA-38FA4EB5F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entury Gothic"/>
              </a:rPr>
              <a:t>Fil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Digital actor simulations, characters and animation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762600" y="3600360"/>
            <a:ext cx="2381400" cy="3257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entury Gothic"/>
              </a:rPr>
              <a:t>Anim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Example: The Incred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Creating ani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Definition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r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we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entury Gothic"/>
              </a:rPr>
              <a:t>IT and film mak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IT in recording fil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How is it being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Imag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hy is it an important part of digital video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24289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entury Gothic"/>
              </a:rPr>
              <a:t>Use of IT in film effec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Example: Sim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CGI</a:t>
            </a: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 – Computer-Generated Ima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xample: Gollum from </a:t>
            </a:r>
            <a:r>
              <a:rPr b="0" i="1" lang="en-GB" sz="2800" spc="-1" strike="noStrike">
                <a:solidFill>
                  <a:srgbClr val="000000"/>
                </a:solidFill>
                <a:latin typeface="Century Gothic"/>
              </a:rPr>
              <a:t>Lord of the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3651120"/>
            <a:ext cx="3887640" cy="2586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00720" y="3500280"/>
            <a:ext cx="2073240" cy="3024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2287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entury Gothic"/>
              </a:rPr>
              <a:t>Distribution of film medi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Digital distribution of film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Pros and 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67440" y="3610080"/>
            <a:ext cx="307656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entury Gothic"/>
              </a:rPr>
              <a:t>Thank You for liste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By: Allison &amp; 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Sha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Year 12 ITGS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9:04:01Z</dcterms:created>
  <dc:creator>Owner</dc:creator>
  <dc:description/>
  <dc:language>en-US</dc:language>
  <cp:lastModifiedBy>jtuah</cp:lastModifiedBy>
  <dcterms:modified xsi:type="dcterms:W3CDTF">2008-12-02T23:33:53Z</dcterms:modified>
  <cp:revision>9</cp:revision>
  <dc:subject/>
  <dc:title>Film</dc:title>
</cp:coreProperties>
</file>