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C10-2F59-4E8D-8602-FE9B6990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769-0A22-448B-B4A2-200A4E71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921-B131-41BC-87D2-E981DFF8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FCB-4E12-4999-B79F-0F84D57B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3D3-7FA7-4888-9729-993F1B43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CE2-4A0A-41AE-A9D1-34CA7990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D38-8CA4-42F9-AD80-33BC3C3D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B6A-64A7-497F-924D-8709902A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4EF-4855-493D-BAC0-B5033164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E67-B069-436F-9FF8-9729D32C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045-8347-4269-9367-76D20B84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965-05B4-4DD3-B521-01E7617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4064-2450-4C5F-A295-D18A2C1AE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entury Gothic"/>
              </a:rPr>
              <a:t>Fil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igital actor simulations, characters and anima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62600" y="3600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An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The Incred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reating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efinitio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w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IT and film ma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T in recording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How is it being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mag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y is it an important part of digital video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428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Use of IT in film eff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Si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CGI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 – Computer-Generated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ample: Gollum from </a:t>
            </a:r>
            <a:r>
              <a:rPr b="0" i="1" lang="en-GB" sz="2800" spc="-1" strike="noStrike">
                <a:solidFill>
                  <a:srgbClr val="000000"/>
                </a:solidFill>
                <a:latin typeface="Century Gothic"/>
              </a:rPr>
              <a:t>Lord of the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651120"/>
            <a:ext cx="3887640" cy="258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07324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228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entury Gothic"/>
              </a:rPr>
              <a:t>Distribution of film med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Digital distribution of film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s and 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67440" y="3610080"/>
            <a:ext cx="30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Thank You for list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By: Allison &amp;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ha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Year 12 ITG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04:01Z</dcterms:created>
  <dc:creator>Owner</dc:creator>
  <dc:description/>
  <dc:language>en-US</dc:language>
  <cp:lastModifiedBy>jtuah</cp:lastModifiedBy>
  <dcterms:modified xsi:type="dcterms:W3CDTF">2008-12-02T23:33:53Z</dcterms:modified>
  <cp:revision>9</cp:revision>
  <dc:subject/>
  <dc:title>Film</dc:title>
</cp:coreProperties>
</file>