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B5A5-4B29-4960-8C3F-64B6EE5FC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991B-DB32-4320-B2D5-33730333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8D50-B09F-4DA6-BC9B-883799601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C343-3D62-4DE7-AA3C-6FABE0EAD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422B-02B2-49C2-8688-FABAB126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FD91-FD50-45AE-8EA7-F0AA8839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AA4B-DF3B-4437-8302-E4E9F174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B5A7-E3EC-47C1-ACC4-F794657C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BB68-F1A2-45BF-871A-E561A141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3564-5D20-4182-AC82-D5AF18BB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1D68-5EF2-47BC-BE55-C0FC5846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8DEA-D9E1-4FB4-B942-FC53BDB9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1B3C-A87A-401F-8766-45A24B012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entury Gothic"/>
              </a:rPr>
              <a:t>Fil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Digital actor simulations, characters and animation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762600" y="3600360"/>
            <a:ext cx="2381400" cy="3257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entury Gothic"/>
              </a:rPr>
              <a:t>Anim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Example: The Incred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Creating ani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Definitions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or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we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entury Gothic"/>
              </a:rPr>
              <a:t>IT and film mak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IT in recording fil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How is it being u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Imag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Why is it an important part of digital video techn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435640" y="1557360"/>
            <a:ext cx="24289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entury Gothic"/>
              </a:rPr>
              <a:t>Use of IT in film effec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Example: Sim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CGI</a:t>
            </a: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 – Computer-Generated Ima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xample: Gollum from </a:t>
            </a:r>
            <a:r>
              <a:rPr b="0" i="1" lang="en-GB" sz="2800" spc="-1" strike="noStrike">
                <a:solidFill>
                  <a:srgbClr val="000000"/>
                </a:solidFill>
                <a:latin typeface="Century Gothic"/>
              </a:rPr>
              <a:t>Lord of the 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3651120"/>
            <a:ext cx="3887640" cy="2586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500720" y="3500280"/>
            <a:ext cx="2073240" cy="3024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2287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entury Gothic"/>
              </a:rPr>
              <a:t>Distribution of film medi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Digital distribution of film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Pros and 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Conseq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67440" y="3610080"/>
            <a:ext cx="307656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entury Gothic"/>
              </a:rPr>
              <a:t>Thank You for listen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By: Allison &amp; </a:t>
            </a: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Sha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Year 12 ITGS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9:04:01Z</dcterms:created>
  <dc:creator>Owner</dc:creator>
  <dc:description/>
  <dc:language>en-US</dc:language>
  <cp:lastModifiedBy>jtuah</cp:lastModifiedBy>
  <dcterms:modified xsi:type="dcterms:W3CDTF">2008-12-02T23:33:53Z</dcterms:modified>
  <cp:revision>9</cp:revision>
  <dc:subject/>
  <dc:title>Film</dc:title>
</cp:coreProperties>
</file>