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6D5-5090-4691-BDBB-B8B83535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3AB-728C-43F8-8B2A-AF0D97A4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BC7-99D7-4D96-AECE-0FE01EE8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F95-6612-464C-A5D9-20DC16FA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BFD-A3A4-441E-B5A5-1903776A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E45-1D88-43CD-A672-38940864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896-58F3-4BC8-ADC3-EC9A3BF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9E7-96C0-4534-BE12-0262125E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FA0-780C-4235-B25F-E475B2FC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79C-E22B-4E37-B94C-91AC76D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E1E-5C47-4869-9214-9616BA6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36F-C226-479F-A868-87DBC2CC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4EA-4EBA-4D00-90D1-C71106B7B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</a:rPr>
              <a:t>Fil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gital actor simulations, characters and anima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2600" y="3600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An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The Incre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fini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w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IT and film m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T in recording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How is it being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 is it an important part of digital video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28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Use of IT in film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GI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– Computer-Generate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ample: Gollum from </a:t>
            </a:r>
            <a:r>
              <a:rPr b="0" i="1" lang="en-GB" sz="2800" spc="-1" strike="noStrike">
                <a:solidFill>
                  <a:srgbClr val="000000"/>
                </a:solidFill>
                <a:latin typeface="Century Gothic"/>
              </a:rPr>
              <a:t>Lord of th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651120"/>
            <a:ext cx="3887640" cy="258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07324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22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entury Gothic"/>
              </a:rPr>
              <a:t>Distribution of film med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gital distribution of film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s and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67440" y="3610080"/>
            <a:ext cx="30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Thank You for 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By: Allison &amp;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h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Year 12 ITG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04:01Z</dcterms:created>
  <dc:creator>Owner</dc:creator>
  <dc:description/>
  <dc:language>en-US</dc:language>
  <cp:lastModifiedBy>jtuah</cp:lastModifiedBy>
  <dcterms:modified xsi:type="dcterms:W3CDTF">2008-12-02T23:33:53Z</dcterms:modified>
  <cp:revision>9</cp:revision>
  <dc:subject/>
  <dc:title>Film</dc:title>
</cp:coreProperties>
</file>