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F00-4356-43E4-BCDC-9228BAA3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42F-E6CB-4911-91A2-9A31C9D9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F0B-48F0-4548-B8B3-45B7BAA3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2D0-15F2-4740-A1DE-552CC66C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C5F-67CD-4DD8-9FF9-C19CCF9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B22-2A1C-4A2E-A13B-82068979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309-2291-4776-901F-CEA24FAE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7B7-F34B-4D4F-B45F-13BC1251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7A0-257C-4AD1-A084-B40CF61B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D7E-F4E8-4B09-A3B9-8EAACDB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72C-FFAC-444A-A11B-8D5DC22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32A-E77F-4546-9412-AD53D5C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4595-E0F8-4958-B063-BB0A7C875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</a:rPr>
              <a:t>Fil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igital actor simulations, characters and anima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62600" y="3600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Ani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The Incred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reating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Definitio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w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IT and film m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T in recording fil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How is it being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mag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y is it an important part of digital video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428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</a:rPr>
              <a:t>Use of IT in film eff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Example: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CGI</a:t>
            </a: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 – Computer-Generated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ample: Gollum from </a:t>
            </a:r>
            <a:r>
              <a:rPr b="0" i="1" lang="en-GB" sz="2800" spc="-1" strike="noStrike">
                <a:solidFill>
                  <a:srgbClr val="000000"/>
                </a:solidFill>
                <a:latin typeface="Century Gothic"/>
              </a:rPr>
              <a:t>Lord of th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651120"/>
            <a:ext cx="3887640" cy="258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07324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22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entury Gothic"/>
              </a:rPr>
              <a:t>Distribution of film med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Digital distribution of film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s and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67440" y="3610080"/>
            <a:ext cx="30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Thank You for list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By: Allison &amp; </a:t>
            </a: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h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Year 12 ITG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04:01Z</dcterms:created>
  <dc:creator>Owner</dc:creator>
  <dc:description/>
  <dc:language>en-US</dc:language>
  <cp:lastModifiedBy>jtuah</cp:lastModifiedBy>
  <dcterms:modified xsi:type="dcterms:W3CDTF">2008-12-02T23:33:53Z</dcterms:modified>
  <cp:revision>9</cp:revision>
  <dc:subject/>
  <dc:title>Film</dc:title>
</cp:coreProperties>
</file>