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A148-A2C8-48E9-90EF-A19CB7D2C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F5EA-80B6-46D6-B86E-DD78ACEF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336B-86F0-4BA9-9B0B-B602E55C7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5C595-209C-4C6F-A5FA-C7C9A8D2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F3E63-3A66-4760-A067-6FDC3864E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2B2F7-5182-42AF-83B4-D4C74D567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7E8A7-4657-4ADD-9CBE-655A55C82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FACF8-0615-439A-9B27-AD6E3CD03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42EB8-7794-47EC-93B7-0A680BCAE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615E6-20E2-4398-A374-9550D7FE3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12B2F-B256-443A-B219-F79EDC2F2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FF44B-8176-460D-9EDE-67E6522C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A0386-FB1B-42BB-9314-18EA64745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CAEBC-D243-49F6-A768-E9212A22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01D45-57BE-4014-9A2E-1D193E038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B72C4-3EFD-446A-A802-0CA41A947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77748-8ECB-4167-A0B6-100C4DFE5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C6A26-EDAE-45B2-8849-05D68E084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8F16-8FAF-4883-B663-C4FCDC9EC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8C61-86C5-4A72-AF6B-496F15C47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26E40-8B13-4A0A-87FC-69968FB19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76B0B-3181-46D6-B770-79394ED7E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5FDC-597E-47D6-8017-825C521B4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F31F-38A2-4EE0-9F59-247EBF61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8BF2-449D-49E4-A7EA-FC6F191AE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3CED-EFC4-4366-A50C-FE7C7EFC48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93AA-D0B3-46C2-BBF0-71C1484E92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767ff"/>
                </a:solidFill>
                <a:latin typeface="Verdana"/>
              </a:rPr>
              <a:t>Digital Arts</a:t>
            </a:r>
            <a:endParaRPr b="0" lang="en-US" sz="8000" spc="-1" strike="noStrike">
              <a:solidFill>
                <a:srgbClr val="000000"/>
              </a:solidFill>
              <a:latin typeface="Arial"/>
            </a:endParaRPr>
          </a:p>
        </p:txBody>
      </p:sp>
      <p:sp>
        <p:nvSpPr>
          <p:cNvPr id="103" name="PlaceHolder 2"/>
          <p:cNvSpPr>
            <a:spLocks noGrp="1"/>
          </p:cNvSpPr>
          <p:nvPr>
            <p:ph type="subTitle"/>
          </p:nvPr>
        </p:nvSpPr>
        <p:spPr>
          <a:xfrm>
            <a:off x="2057400" y="3200040"/>
            <a:ext cx="6477120" cy="350532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1" action="ppaction://hlinksldjump"/>
              </a:rPr>
              <a:t>What is the difference between Bitmap &amp; Vector graphics or Object Oriented Graphic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2" action="ppaction://hlinksldjump"/>
              </a:rPr>
              <a:t>Glossary</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767ff"/>
                </a:solidFill>
                <a:uFillTx/>
                <a:latin typeface="Verdana"/>
                <a:hlinkClick r:id="rId3" action="ppaction://hlinksldjump"/>
              </a:rPr>
              <a:t>Table of content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	</a:t>
            </a:r>
            <a:r>
              <a:rPr b="1"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Websites for different artists that may already be dead with a photo of their artwork and information about the artist. For example, Mozart’s manuscripts can be found online.</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ona Lisa’s smile is decoded by computer. The computer software developer loaded average, neutral expressions of female faces into a database, which the software used to compare the painting again.</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original manuscript of Alice in Wonderland posted online by the British Library using software to virtually turn the pages.</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anadian scientists used laser and infrared scans to produce a 3D image of the Mona Lis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ction="ppaction://hlinksldjump"/>
              </a:rPr>
              <a:t>Social Issu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ction="ppaction://hlinksldjump"/>
              </a:rPr>
              <a:t>Social Impac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ction="ppaction://hlinksldjump"/>
              </a:rPr>
              <a:t>Stakehold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38"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9" name=""/>
          <p:cNvGraphicFramePr/>
          <p:nvPr/>
        </p:nvGraphicFramePr>
        <p:xfrm>
          <a:off x="152280" y="914400"/>
          <a:ext cx="8915400" cy="5176800"/>
        </p:xfrm>
        <a:graphic>
          <a:graphicData uri="http://schemas.openxmlformats.org/drawingml/2006/table">
            <a:tbl>
              <a:tblPr/>
              <a:tblGrid>
                <a:gridCol w="2057400"/>
                <a:gridCol w="3200400"/>
                <a:gridCol w="3657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artwork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pieces of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obscene pieces may be broadcasted and promoted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umanita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hanges the way we appreciate art, people will have to face art m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 may be the mediocre rubbish because it can just be found anywhere, before to view art we had to go to an art gall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 for e.g. online art gall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 for people to manually do the job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2"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Intellectual Property</a:t>
            </a:r>
            <a:r>
              <a:rPr b="0" lang="en-US" sz="2400" spc="-1" strike="noStrike">
                <a:solidFill>
                  <a:srgbClr val="808080"/>
                </a:solidFill>
                <a:latin typeface="Verdana"/>
              </a:rPr>
              <a:t> – ICT has helped by broadcasting art work online. Viewers can right-click and save the image and use it in many situations without crediting the author. The piece of work can also be tweaked to make it different using a Photoshop softwar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Globalization and Cultural Diversity</a:t>
            </a:r>
            <a:r>
              <a:rPr b="0" lang="en-US" sz="2400" spc="-1" strike="noStrike">
                <a:solidFill>
                  <a:srgbClr val="808080"/>
                </a:solidFill>
                <a:latin typeface="Verdana"/>
              </a:rPr>
              <a:t> – Art work can be published easily and more people may be able to see artwork depicting different cultures but may lead to cultural homogeneity and less diversity as one culture’s art work will be broadcasted on a wider ran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Policies</a:t>
            </a:r>
            <a:r>
              <a:rPr b="0" lang="en-US" sz="2400" spc="-1" strike="noStrike">
                <a:solidFill>
                  <a:srgbClr val="808080"/>
                </a:solidFill>
                <a:latin typeface="Verdana"/>
              </a:rPr>
              <a:t> – Art work will have to be subject to copyright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ist</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View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useums</a:t>
            </a:r>
            <a:endParaRPr b="0" lang="en-US" sz="1800" spc="-1" strike="noStrike">
              <a:solidFill>
                <a:srgbClr val="000000"/>
              </a:solidFill>
              <a:latin typeface="Arial"/>
            </a:endParaRPr>
          </a:p>
        </p:txBody>
      </p:sp>
      <p:graphicFrame>
        <p:nvGraphicFramePr>
          <p:cNvPr id="146" name=""/>
          <p:cNvGraphicFramePr/>
          <p:nvPr/>
        </p:nvGraphicFramePr>
        <p:xfrm>
          <a:off x="152280" y="2438280"/>
          <a:ext cx="8839440" cy="3760920"/>
        </p:xfrm>
        <a:graphic>
          <a:graphicData uri="http://schemas.openxmlformats.org/drawingml/2006/table">
            <a:tbl>
              <a:tblPr/>
              <a:tblGrid>
                <a:gridCol w="1143000"/>
                <a:gridCol w="3657600"/>
                <a:gridCol w="40388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rti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worry whether their piece of art will get into a museum.</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use programs such as Macromedia Flash to make their artwork very interactiv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hey can sell art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One of the millions of artists uploading art work on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View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go all the way to Paris to look at art work when they can find a copy of the piece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oo much to look throug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Museums/Art galler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find artists want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me art pieces can be found online, viewers simply may want to go look at art pieces over the 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4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Live Art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0"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	</a:t>
            </a:r>
            <a:r>
              <a:rPr b="0" lang="en-US" sz="2400" spc="-1" strike="noStrike">
                <a:solidFill>
                  <a:srgbClr val="808080"/>
                </a:solidFill>
                <a:latin typeface="Verdana"/>
              </a:rPr>
              <a:t>Live arts –  Live Performances in front of an audience. Can be a play, concert, musical &amp; etc.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Verdana"/>
              </a:rPr>
              <a:t>Different areas of live ar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Digital Effects</a:t>
            </a:r>
            <a:r>
              <a:rPr b="0" lang="en-GB" sz="2400" spc="-1" strike="noStrike">
                <a:solidFill>
                  <a:srgbClr val="808080"/>
                </a:solidFill>
                <a:latin typeface="Verdana"/>
              </a:rPr>
              <a:t> –</a:t>
            </a:r>
            <a:r>
              <a:rPr b="0" lang="en-GB" sz="2400" spc="-1" strike="noStrike">
                <a:solidFill>
                  <a:srgbClr val="808080"/>
                </a:solidFill>
                <a:latin typeface="Verdana"/>
              </a:rPr>
              <a:t>	</a:t>
            </a:r>
            <a:r>
              <a:rPr b="0" lang="en-GB" sz="2400" spc="-1" strike="noStrike">
                <a:solidFill>
                  <a:srgbClr val="808080"/>
                </a:solidFill>
                <a:latin typeface="Verdana"/>
              </a:rPr>
              <a:t>Realization of </a:t>
            </a:r>
            <a:r>
              <a:rPr b="0" lang="en-US" sz="2400" spc="-1" strike="noStrike">
                <a:solidFill>
                  <a:srgbClr val="808080"/>
                </a:solidFill>
                <a:latin typeface="Verdana"/>
              </a:rPr>
              <a:t>scenes that cannot be achieved by normal means, such as space trave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Choreography</a:t>
            </a:r>
            <a:r>
              <a:rPr b="0" lang="en-GB" sz="2400" spc="-1" strike="noStrike">
                <a:solidFill>
                  <a:srgbClr val="808080"/>
                </a:solidFill>
                <a:latin typeface="Verdana"/>
              </a:rPr>
              <a:t> – D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r>
              <a:rPr b="0" lang="en-GB" sz="2400" spc="-1" strike="noStrike">
                <a:solidFill>
                  <a:srgbClr val="808080"/>
                </a:solidFill>
                <a:latin typeface="Verdana"/>
              </a:rPr>
              <a:t> –Lighting on stag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r>
              <a:rPr b="0" lang="en-GB" sz="2400" spc="-1" strike="noStrike">
                <a:solidFill>
                  <a:srgbClr val="808080"/>
                </a:solidFill>
                <a:latin typeface="Verdana"/>
              </a:rPr>
              <a:t> – Promotion of an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2" name="PlaceHolder 2"/>
          <p:cNvSpPr>
            <a:spLocks noGrp="1"/>
          </p:cNvSpPr>
          <p:nvPr>
            <p:ph/>
          </p:nvPr>
        </p:nvSpPr>
        <p:spPr>
          <a:xfrm>
            <a:off x="0" y="533520"/>
            <a:ext cx="86868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Tickets can be sold 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produced with better quality using a better pri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mass produced and produced at a faster r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Information about a performance can be found online.</a:t>
            </a: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This can be done through a control computer where the stage lights can be rotated 360° and rotated all at the same time or in a sequence. Colour filters also can be changed automatically from the control computer all at the same time. This is less time consuming and safer.</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2" action="ppaction://hlinksldjump"/>
              </a:rPr>
              <a:t>N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4" name="PlaceHolder 2"/>
          <p:cNvSpPr>
            <a:spLocks noGrp="1"/>
          </p:cNvSpPr>
          <p:nvPr>
            <p:ph/>
          </p:nvPr>
        </p:nvSpPr>
        <p:spPr>
          <a:xfrm>
            <a:off x="0" y="685800"/>
            <a:ext cx="7315200" cy="5943600"/>
          </a:xfrm>
          <a:prstGeom prst="rect">
            <a:avLst/>
          </a:prstGeom>
          <a:noFill/>
          <a:ln w="0">
            <a:noFill/>
          </a:ln>
        </p:spPr>
        <p:txBody>
          <a:bodyPr lIns="90000" rIns="90000" tIns="46800" bIns="46800" anchor="t">
            <a:normAutofit fontScale="96000"/>
          </a:bodyPr>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767ff"/>
                </a:solidFill>
                <a:uFillTx/>
                <a:latin typeface="Verdana"/>
                <a:hlinkClick r:id="rId1" action="ppaction://hlinksldjump"/>
              </a:rPr>
              <a:t>Back</a:t>
            </a:r>
            <a:endParaRPr b="0" lang="en-US" sz="10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Choreography</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Many new softwares arise like a ‘dance dance revolution’ which people can dance on their own to practice. Practice dances can be recorded on camera and played later on TV to show individuals what they are doing wrong or lacking.</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igital effects</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Laser lights can be used during performances. Sound effects can be played from a computer connected to speakers, sounds that humans normally cannot make to a certain volume or pitch. Sounds can be played from a selection of sound effects. </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2"/>
          <a:stretch/>
        </p:blipFill>
        <p:spPr>
          <a:xfrm>
            <a:off x="7086600" y="4876920"/>
            <a:ext cx="182880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2" action="ppaction://hlinksldjump"/>
              </a:rPr>
              <a:t>Social Issue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Social Impa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4" action="ppaction://hlinksldjump"/>
              </a:rPr>
              <a:t>Stakehold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767ff"/>
                </a:solidFill>
                <a:latin typeface="Verdana"/>
              </a:rPr>
              <a:t>What is the difference between Bitmap &amp; Vector graphics or Object Oriented Graphic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itmap graphics are made up of group of small dots called pixel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Vector graphics are made up of lines, curves, and fills. </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0"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152280" y="914400"/>
          <a:ext cx="8915400" cy="4368960"/>
        </p:xfrm>
        <a:graphic>
          <a:graphicData uri="http://schemas.openxmlformats.org/drawingml/2006/table">
            <a:tbl>
              <a:tblPr/>
              <a:tblGrid>
                <a:gridCol w="1752840"/>
                <a:gridCol w="3200400"/>
                <a:gridCol w="3962160"/>
              </a:tblGrid>
              <a:tr h="37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performances such as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Live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opyright iss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ealt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rg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No more use for gasoline onstage. It is also safer for backstage cr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ights can be presented in more vibrant and richer colours, therefore eye-sights may wors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s for people to manually do the jobs. Less need for backstage cr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4"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808080"/>
                </a:solidFill>
                <a:latin typeface="Verdana"/>
              </a:rPr>
              <a:t>Intellectual Property</a:t>
            </a:r>
            <a:r>
              <a:rPr b="0" lang="en-US" sz="2000" spc="-1" strike="noStrike">
                <a:solidFill>
                  <a:srgbClr val="808080"/>
                </a:solidFill>
                <a:latin typeface="Verdana"/>
              </a:rPr>
              <a:t> - It is so easy to come to a performance and bring a camera phone with video-recording capabilities and record small scenes and upload them in websites and video album websites such as Youtube.</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000" spc="-1" strike="noStrike">
                <a:solidFill>
                  <a:srgbClr val="808080"/>
                </a:solidFill>
                <a:latin typeface="Verdana"/>
              </a:rPr>
              <a:t>Globalization and Cultural Diversity</a:t>
            </a:r>
            <a:r>
              <a:rPr b="0" lang="en-US" sz="2000" spc="-1" strike="noStrike">
                <a:solidFill>
                  <a:srgbClr val="808080"/>
                </a:solidFill>
                <a:latin typeface="Verdana"/>
              </a:rPr>
              <a:t> – Technology has helped the recording of different performances and uploading them. Different performances such as cultural dances can be recorded and uploaded. This may lead to less diversity and cultural homogeneity as what makes a group of people different will reach more people. Everyone may want to live a certain lifestyle as people may like to live ghetto because of their love for hip-hop dance and music. People may want to start learning how to salsa because of adoration for adoration.</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7"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erformer</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udience</a:t>
            </a:r>
            <a:endParaRPr b="0" lang="en-US" sz="1800" spc="-1" strike="noStrike">
              <a:solidFill>
                <a:srgbClr val="000000"/>
              </a:solidFill>
              <a:latin typeface="Arial"/>
            </a:endParaRPr>
          </a:p>
        </p:txBody>
      </p:sp>
      <p:graphicFrame>
        <p:nvGraphicFramePr>
          <p:cNvPr id="168" name=""/>
          <p:cNvGraphicFramePr/>
          <p:nvPr/>
        </p:nvGraphicFramePr>
        <p:xfrm>
          <a:off x="76320" y="2438280"/>
          <a:ext cx="8991360" cy="2911680"/>
        </p:xfrm>
        <a:graphic>
          <a:graphicData uri="http://schemas.openxmlformats.org/drawingml/2006/table">
            <a:tbl>
              <a:tblPr/>
              <a:tblGrid>
                <a:gridCol w="1218960"/>
                <a:gridCol w="3657600"/>
                <a:gridCol w="41148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3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erform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Information about their performance will reach more people. More chances of people coming to watch the performa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sol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People can just watch their performance online and they would have less audie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More attention to special effects than performan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udi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 much information online about a performance coming up. There are websites with schedules of when bands or performance groups are coming to town.</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purchas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 Interactive Arts</a:t>
            </a:r>
            <a:endParaRPr b="0" lang="en-US" sz="4000" spc="-1" strike="noStrike">
              <a:solidFill>
                <a:srgbClr val="000000"/>
              </a:solidFill>
              <a:latin typeface="Arial"/>
            </a:endParaRPr>
          </a:p>
        </p:txBody>
      </p:sp>
      <p:sp>
        <p:nvSpPr>
          <p:cNvPr id="171"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2" name=""/>
          <p:cNvGraphicFramePr/>
          <p:nvPr/>
        </p:nvGraphicFramePr>
        <p:xfrm>
          <a:off x="76320" y="1066680"/>
          <a:ext cx="8991360" cy="5322960"/>
        </p:xfrm>
        <a:graphic>
          <a:graphicData uri="http://schemas.openxmlformats.org/drawingml/2006/table">
            <a:tbl>
              <a:tblPr/>
              <a:tblGrid>
                <a:gridCol w="1981080"/>
                <a:gridCol w="3886200"/>
                <a:gridCol w="3124080"/>
              </a:tblGrid>
              <a:tr h="381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images to look at. More interactive where one can mouse over something and the piece of art changes in some wa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rt won’t be exposed as much as more people would view the art online instead of physically going th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One may not go out to an art gallery but just online on the compu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jobs created to develop the technology. For example, online art galle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useums/Galleries may have redundancies as galleries may have less f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8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nd more photos and sources online, aids art re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deas may come from what one has discovered not oneself. Someone may adapt different artwork into their own. Causes plagiaris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Live Arts</a:t>
            </a:r>
            <a:endParaRPr b="0" lang="en-US" sz="4000" spc="-1" strike="noStrike">
              <a:solidFill>
                <a:srgbClr val="000000"/>
              </a:solidFill>
              <a:latin typeface="Arial"/>
            </a:endParaRPr>
          </a:p>
        </p:txBody>
      </p:sp>
      <p:sp>
        <p:nvSpPr>
          <p:cNvPr id="17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6" name=""/>
          <p:cNvGraphicFramePr/>
          <p:nvPr/>
        </p:nvGraphicFramePr>
        <p:xfrm>
          <a:off x="76320" y="914400"/>
          <a:ext cx="8991360" cy="5622840"/>
        </p:xfrm>
        <a:graphic>
          <a:graphicData uri="http://schemas.openxmlformats.org/drawingml/2006/table">
            <a:tbl>
              <a:tblPr/>
              <a:tblGrid>
                <a:gridCol w="2666880"/>
                <a:gridCol w="3200400"/>
                <a:gridCol w="3124080"/>
              </a:tblGrid>
              <a:tr h="484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effects on stage may be more inter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auses pulling away from the actual performance but on the special effe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6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r>
                        <a:rPr b="0" lang="en-US" sz="1600" spc="-1" strike="noStrike">
                          <a:solidFill>
                            <a:srgbClr val="808080"/>
                          </a:solidFill>
                          <a:latin typeface="Verdana"/>
                        </a:rPr>
                        <a:t>More jobs created controlling the technology. For example controlling the lights and sound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heaper also as a full on set doesn’t have to be bui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aybe more redundancies as jobs may be replaced by mach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opportunities to find out about different productions being held around the region. More opportunities for Drama classes to watch.</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People may understand literature better by watching a perform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nstead of reading a book on a play, students may choose just to watch the play to avoid hours of rea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Glossary</a:t>
            </a:r>
            <a:endParaRPr b="0" lang="en-US" sz="4000" spc="-1" strike="noStrike">
              <a:solidFill>
                <a:srgbClr val="000000"/>
              </a:solidFill>
              <a:latin typeface="Arial"/>
            </a:endParaRPr>
          </a:p>
        </p:txBody>
      </p:sp>
      <p:sp>
        <p:nvSpPr>
          <p:cNvPr id="107"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lipart – A collection of icons, pictures, buttons and other useful image files along with sound and video files that can be embedded or inserted into web pages.</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Pixels – The small dots that make up an electronic image; equivalent in memory to a 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Resolution – The number of pixels displayed per unit of printed length in an image, usually measured in pixels per inch (ppi) or dots per inch (dp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olour depth – An indication of the number of colours that can be stored in an image. 8 bits gives 256 colours, 24 bits gives 16 million colou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3200"/>
            <a:ext cx="3657600" cy="152388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Social &amp; Ethical Aspe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5029200" y="2743200"/>
            <a:ext cx="3657600" cy="152388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IT systems in a social 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0" name=""/>
          <p:cNvSpPr/>
          <p:nvPr/>
        </p:nvSpPr>
        <p:spPr>
          <a:xfrm>
            <a:off x="2666880" y="5181480"/>
            <a:ext cx="3810240" cy="144792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Areas Of I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1"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666880" y="533520"/>
            <a:ext cx="3810240" cy="144756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News Artic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flipH="1" flipV="1">
            <a:off x="26668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954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14800" y="342900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114800" y="358128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9132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6236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Interactive Arts</a:t>
            </a:r>
            <a:endParaRPr b="0" lang="en-US" sz="4000" spc="-1" strike="noStrike">
              <a:solidFill>
                <a:srgbClr val="000000"/>
              </a:solidFill>
              <a:latin typeface="Arial"/>
            </a:endParaRPr>
          </a:p>
        </p:txBody>
      </p:sp>
      <p:sp>
        <p:nvSpPr>
          <p:cNvPr id="12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121" name=""/>
          <p:cNvGraphicFramePr/>
          <p:nvPr/>
        </p:nvGraphicFramePr>
        <p:xfrm>
          <a:off x="76320" y="914400"/>
          <a:ext cx="8915400" cy="5516640"/>
        </p:xfrm>
        <a:graphic>
          <a:graphicData uri="http://schemas.openxmlformats.org/drawingml/2006/table">
            <a:tbl>
              <a:tblPr/>
              <a:tblGrid>
                <a:gridCol w="1295280"/>
                <a:gridCol w="7620120"/>
              </a:tblGrid>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nadian scienti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roduced a 3D image of the pain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Louvre museum Par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Used laser and infrared scans using resolution 10 times finer than a human h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uncover the mystery behind the Mona Lis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Live Arts</a:t>
            </a:r>
            <a:endParaRPr b="0" lang="en-US" sz="4000" spc="-1" strike="noStrike">
              <a:solidFill>
                <a:srgbClr val="000000"/>
              </a:solidFill>
              <a:latin typeface="Arial"/>
            </a:endParaRPr>
          </a:p>
        </p:txBody>
      </p:sp>
      <p:sp>
        <p:nvSpPr>
          <p:cNvPr id="12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graphicFrame>
        <p:nvGraphicFramePr>
          <p:cNvPr id="124" name=""/>
          <p:cNvGraphicFramePr/>
          <p:nvPr/>
        </p:nvGraphicFramePr>
        <p:xfrm>
          <a:off x="76320" y="914400"/>
          <a:ext cx="8915400" cy="5486400"/>
        </p:xfrm>
        <a:graphic>
          <a:graphicData uri="http://schemas.openxmlformats.org/drawingml/2006/table">
            <a:tbl>
              <a:tblPr/>
              <a:tblGrid>
                <a:gridCol w="1295280"/>
                <a:gridCol w="76201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Interactive ar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808080"/>
                </a:solidFill>
                <a:latin typeface="Verdana"/>
              </a:rPr>
              <a:t>Definition: </a:t>
            </a:r>
            <a:r>
              <a:rPr b="0" lang="en-US" sz="2400" spc="-1" strike="noStrike">
                <a:solidFill>
                  <a:srgbClr val="808080"/>
                </a:solidFill>
                <a:latin typeface="Verdana"/>
              </a:rPr>
              <a:t>Interactive art is a piece of art that involves the spectator in some way. Some sculptures achieve this by letting the observer walk in, on, and around the piece. Other works include computers and sensors to respond to motion, heat or other types of input. Many pieces of Internet art and electronic art are highly interactive. </a:t>
            </a:r>
            <a:endParaRPr b="0" lang="en-US" sz="2400" spc="-1" strike="noStrike">
              <a:solidFill>
                <a:srgbClr val="000000"/>
              </a:solidFill>
              <a:latin typeface="Arial"/>
            </a:endParaRPr>
          </a:p>
        </p:txBody>
      </p:sp>
      <p:pic>
        <p:nvPicPr>
          <p:cNvPr id="129" name="" descr=""/>
          <p:cNvPicPr/>
          <p:nvPr/>
        </p:nvPicPr>
        <p:blipFill>
          <a:blip r:embed="rId1"/>
          <a:stretch/>
        </p:blipFill>
        <p:spPr>
          <a:xfrm>
            <a:off x="4648320" y="3276720"/>
            <a:ext cx="4333680" cy="308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ree online galleries e.g. deviantAR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uring the Venice Biennale, there are different locals talking and singing about their home. Visitors are despatched with mobile phones equipped with Bluetooth and GPS. There are hand-drawn maps on screen. The navigational technology on the mobile phone means that the guide structures itself around the route visitors choose to take as they walk around the area.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ommunity portal, Area, is open free to artists and developers. Central repository of content created using modelling and rendering software, character animation software and 3D modelling rendering and presentation software. The site also has tips and tutorials, discussion forums, blogs, downloads, galleries, member portfolios and feature stories on artists and developer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200" spc="-1" strike="noStrike" u="sng">
                <a:solidFill>
                  <a:srgbClr val="6767ff"/>
                </a:solidFill>
                <a:uFillTx/>
                <a:latin typeface="Verdana"/>
                <a:hlinkClick r:id="rId1" action="ppaction://hlinksldjump"/>
              </a:rPr>
              <a:t>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2:41:37Z</dcterms:created>
  <dc:creator>jtuah</dc:creator>
  <dc:description/>
  <dc:language>en-US</dc:language>
  <cp:lastModifiedBy>jtuah</cp:lastModifiedBy>
  <dcterms:modified xsi:type="dcterms:W3CDTF">2006-11-22T03:49:39Z</dcterms:modified>
  <cp:revision>24</cp:revision>
  <dc:subject/>
  <dc:title>Digital Arts</dc:title>
</cp:coreProperties>
</file>