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19C-9830-4BC1-B35B-4EF191F0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AB2-69C1-41CC-BB65-7CDFA5B4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C5C-976D-43CD-9B43-E3CBF497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F23-4051-4C81-AC8A-EB02F1D7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8DD-4D4E-480C-9650-6BE0DE82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D4F-E8D8-477A-8FDA-F77B9863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20C-4833-4A86-9823-479EBFD4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CC1-C3F1-47C6-BB45-E965286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F55-614E-4051-8717-2EF46E76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1BF-19C4-4950-987A-E33ECF22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110-5B72-4D7B-BFDF-E46760D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4AB-D233-4003-82FE-44FF31B1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CF6-9C9B-4824-B19F-7DD50C342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Digital Art</a:t>
            </a:r>
            <a:br>
              <a:rPr sz="5400"/>
            </a:br>
            <a:r>
              <a:rPr b="1" lang="en-US" sz="5400" spc="-1" strike="noStrike">
                <a:solidFill>
                  <a:srgbClr val="ccff33"/>
                </a:solidFill>
                <a:latin typeface="Bradley Hand ITC"/>
              </a:rPr>
              <a:t>is</a:t>
            </a:r>
            <a:br>
              <a:rPr sz="5400"/>
            </a:br>
            <a:r>
              <a:rPr b="1" lang="en-US" sz="6000" spc="-1" strike="noStrike">
                <a:solidFill>
                  <a:srgbClr val="ff3399"/>
                </a:solidFill>
                <a:latin typeface="Bradley Hand ITC"/>
              </a:rPr>
              <a:t>Interactive Visual A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In vector graphics the objects contained in the file are being stored as mathematical equations, so-called vec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Bitmaps store the image data as so-called 'pixels' [short for 'picture element'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Plain text files, and the compression is much more efficient than in bitmaps, because it is not necessary to store each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Only the mathematical description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colour information is either being stored in a colour palette, or together with each pixel.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Bradley Hand IT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GB" sz="3600" spc="-1" strike="noStrike">
                <a:solidFill>
                  <a:srgbClr val="ccff33"/>
                </a:solidFill>
                <a:latin typeface="Bradley Hand ITC"/>
              </a:rPr>
              <a:t>A catchall term for several types of non-photographic graphic imag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Pix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Individual tiny dots of light which display colours, images and text on a screen. Most images and font sizes used in websites are measured in pix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For monitors, resolution is the maximum number of displayable pixels in the horizontal and vertical directions. For printers, resolution is the maximum number of pixels per i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olour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number of distinct colours that can be represented by a piece of hardware or software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33"/>
                </a:solidFill>
                <a:latin typeface="Bradley Hand ITC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558972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By: 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A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Chui H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has art been changed because of technology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Restoration and Digit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New kinds of 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Fusion of art sty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technology is being used in the display of art work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Online art galle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Categor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The Difference between Bitmap and Vector graphics or Object Oriented Graphic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1:34:21Z</dcterms:created>
  <dc:creator>e1694-3</dc:creator>
  <dc:description/>
  <dc:language>en-US</dc:language>
  <cp:lastModifiedBy>e1291-1</cp:lastModifiedBy>
  <dcterms:modified xsi:type="dcterms:W3CDTF">2007-12-03T00:40:07Z</dcterms:modified>
  <cp:revision>10</cp:revision>
  <dc:subject/>
  <dc:title>Digital Art:   Interactive Visual Art </dc:title>
</cp:coreProperties>
</file>