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522-C5FD-484D-BA08-B06386A7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226-E3AB-4275-A4AF-B8A7D89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693-AD1D-4B8E-8533-040F44C1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752-FEC8-4664-8D09-9EAFB5F9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12A-2495-48B0-B41C-44CE013B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586-B342-4226-8265-9716FFD5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C54-C911-42A9-B667-9DA8E5C9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702-C3AF-437E-B7DD-01190E5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F77-DC9C-4C9C-BE6E-E4DE5516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A1F-D0C3-46A5-AE75-15DDD746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BE4-5A8E-49DF-8D51-2E7A8C82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FB2-C09C-40C4-AE40-28C510C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BEC9-26A1-4748-B202-E15E6DC5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Digital Art</a:t>
            </a:r>
            <a:br>
              <a:rPr sz="5400"/>
            </a:br>
            <a:r>
              <a:rPr b="1" lang="en-US" sz="5400" spc="-1" strike="noStrike">
                <a:solidFill>
                  <a:srgbClr val="ccff33"/>
                </a:solidFill>
                <a:latin typeface="Bradley Hand ITC"/>
              </a:rPr>
              <a:t>is</a:t>
            </a:r>
            <a:br>
              <a:rPr sz="5400"/>
            </a:br>
            <a:r>
              <a:rPr b="1" lang="en-US" sz="6000" spc="-1" strike="noStrike">
                <a:solidFill>
                  <a:srgbClr val="ff3399"/>
                </a:solidFill>
                <a:latin typeface="Bradley Hand ITC"/>
              </a:rPr>
              <a:t>Interactive Visual 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In vector graphics the objects contained in the file are being stored as mathematical equations, so-called vec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Bitmaps store the image data as so-called 'pixels' [short for 'picture element'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Plain text files, and the compression is much more efficient than in bitmaps, because it is not necessary to store each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Only the mathematical description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colour information is either being stored in a colour palette, or together with each pixel.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radley Hand IT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GB" sz="3600" spc="-1" strike="noStrike">
                <a:solidFill>
                  <a:srgbClr val="ccff33"/>
                </a:solidFill>
                <a:latin typeface="Bradley Hand ITC"/>
              </a:rPr>
              <a:t>A catchall term for several types of non-photographic graphic imag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Pix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Individual tiny dots of light which display colours, images and text on a screen. Most images and font sizes used in websites are measured in pix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For monitors, resolution is the maximum number of displayable pixels in the horizontal and vertical directions. For printers, resolution is the maximum number of pixels per i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olour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number of distinct colours that can be represented by a piece of hardware or softwar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33"/>
                </a:solidFill>
                <a:latin typeface="Bradley Hand ITC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558972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By: 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A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Chui H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has art been changed because of technology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Restoration and Digit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New kinds of 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Fusion of art sty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technology is being used in the display of art work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Online art galle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Categor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The Difference between Bitmap and Vector graphics or Object Oriented Graphic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1:34:21Z</dcterms:created>
  <dc:creator>e1694-3</dc:creator>
  <dc:description/>
  <dc:language>en-US</dc:language>
  <cp:lastModifiedBy>e1291-1</cp:lastModifiedBy>
  <dcterms:modified xsi:type="dcterms:W3CDTF">2007-12-03T00:40:07Z</dcterms:modified>
  <cp:revision>10</cp:revision>
  <dc:subject/>
  <dc:title>Digital Art:   Interactive Visual Art </dc:title>
</cp:coreProperties>
</file>