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1FF-0E4A-4720-B1BB-7E3E6E97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883-D570-4AC2-BD7E-205A4DFC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8466-DC5D-473E-BED8-F02907AA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9410-1DDA-4F24-8503-4559C50A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704-367D-40FC-A760-7E527D1A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EF90-FCBD-460A-891B-9907CBEC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9B4-4C41-4B8F-9478-4C5EBB67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A038-F135-4A00-A78A-62CE29A5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F43F-F3A5-434C-842A-0481C0AB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D02-2963-4238-9ADE-A4540ACE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09B-637B-49F9-A0D2-E6295F32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D091-5954-4A5C-AFF0-A5ED2264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7B86-EBA6-4384-8AAD-8595DDC1D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Digital Art</a:t>
            </a:r>
            <a:br>
              <a:rPr sz="5400"/>
            </a:br>
            <a:r>
              <a:rPr b="1" lang="en-US" sz="5400" spc="-1" strike="noStrike">
                <a:solidFill>
                  <a:srgbClr val="ccff33"/>
                </a:solidFill>
                <a:latin typeface="Bradley Hand ITC"/>
              </a:rPr>
              <a:t>is</a:t>
            </a:r>
            <a:br>
              <a:rPr sz="5400"/>
            </a:br>
            <a:r>
              <a:rPr b="1" lang="en-US" sz="6000" spc="-1" strike="noStrike">
                <a:solidFill>
                  <a:srgbClr val="ff3399"/>
                </a:solidFill>
                <a:latin typeface="Bradley Hand ITC"/>
              </a:rPr>
              <a:t>Interactive Visual Ar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Vector Graph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In vector graphics the objects contained in the file are being stored as mathematical equations, so-called vecto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Bitmap Graph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Bitmaps store the image data as so-called 'pixels' [short for 'picture element'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Vector Graphic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Plain text files, and the compression is much more efficient than in bitmaps, because it is not necessary to store each pix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 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Only the mathematical description of the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Bitmap Graphic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The colour information is either being stored in a colour palette, or together with each pixel.</a:t>
            </a:r>
            <a:r>
              <a:rPr b="0" lang="en-US" sz="3200" spc="-1" strike="noStrike">
                <a:solidFill>
                  <a:srgbClr val="ccff33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Bradley Hand ITC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cff33"/>
                </a:solidFill>
                <a:uFillTx/>
                <a:latin typeface="Bradley Hand ITC"/>
              </a:rPr>
              <a:t>Clip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GB" sz="3600" spc="-1" strike="noStrike">
                <a:solidFill>
                  <a:srgbClr val="ccff33"/>
                </a:solidFill>
                <a:latin typeface="Bradley Hand ITC"/>
              </a:rPr>
              <a:t>A catchall term for several types of non-photographic graphic images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33"/>
                </a:solidFill>
                <a:uFillTx/>
                <a:latin typeface="Bradley Hand ITC"/>
              </a:rPr>
              <a:t>Pix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US" sz="3200" spc="-1" strike="noStrike">
                <a:solidFill>
                  <a:srgbClr val="ccff33"/>
                </a:solidFill>
                <a:latin typeface="Bradley Hand ITC"/>
              </a:rPr>
              <a:t>Individual tiny dots of light which display colours, images and text on a screen. Most images and font sizes used in websites are measured in pix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33"/>
                </a:solidFill>
                <a:uFillTx/>
                <a:latin typeface="Bradley Hand ITC"/>
              </a:rPr>
              <a:t>Re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For monitors, resolution is the maximum number of displayable pixels in the horizontal and vertical directions. For printers, resolution is the maximum number of pixels per in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33"/>
                </a:solidFill>
                <a:uFillTx/>
                <a:latin typeface="Bradley Hand ITC"/>
              </a:rPr>
              <a:t>Colour dep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The number of distinct colours that can be represented by a piece of hardware or software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33"/>
                </a:solidFill>
                <a:latin typeface="Bradley Hand ITC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88000" y="5589720"/>
            <a:ext cx="25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By:  </a:t>
            </a: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Ai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        </a:t>
            </a: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Chui H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Bradley Hand ITC"/>
              </a:rPr>
              <a:t>How has art been changed because of technology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Restoration and Digit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New kinds of a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Fusion of art sty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Bradley Hand ITC"/>
              </a:rPr>
              <a:t>How technology is being used in the display of art work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Online art galler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Categor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Bradley Hand ITC"/>
              </a:rPr>
              <a:t>The Difference between Bitmap and Vector graphics or Object Oriented Graphic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1:34:21Z</dcterms:created>
  <dc:creator>e1694-3</dc:creator>
  <dc:description/>
  <dc:language>en-US</dc:language>
  <cp:lastModifiedBy>e1291-1</cp:lastModifiedBy>
  <dcterms:modified xsi:type="dcterms:W3CDTF">2007-12-03T00:40:07Z</dcterms:modified>
  <cp:revision>10</cp:revision>
  <dc:subject/>
  <dc:title>Digital Art:   Interactive Visual Art </dc:title>
</cp:coreProperties>
</file>