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E02D0-5418-46A5-A79C-7CB3C6726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EFA3-F8E5-4954-A04D-C779425B6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BA87D-9E86-4DEC-AD9C-8006ADC73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20798-D5AA-48E5-BD7C-FEE829EA3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BA3F0-3156-4536-9264-662DDA85C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E9075-079B-4A79-B575-3D2D48814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A56DA-E1E8-4B1B-9DE4-4647BC9A0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8E7A1-D7F6-4DA2-AE33-7B9977E6B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1D97B-5A05-42CF-BFD0-2F17E0B81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A621D-A0AC-4F15-8662-39C367DE4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FC515-8F0C-4166-863A-FB8FEAD81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C3FF-64B8-43A9-AE24-33188751A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53F64-54DD-481B-A577-3DDB47A48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597FE-529F-4CF9-A821-D052FC582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4E470-116A-4096-B3AC-9CA4DC4E0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1B2E0-887F-460A-99E5-08458E7A5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5A80C-3985-4365-9647-70AE0207A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F262F9-39DE-4744-A8F6-205C6ED82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910F3-7B06-49A4-B4DD-F2F14F915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6C1DC-BE39-4B35-8255-11E796D90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85143-2950-42FA-9574-855BA1C2A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09ED9E-6F43-4D91-8F1B-F64EDDD55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1A0BB-2B11-4A4B-B18D-8B014DA5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00AA30-A8B8-49F3-BD62-9FA18B0DC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C3524-DDB3-44DB-B6DB-DCE819D33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50CD1-EAE0-4E62-A2CA-C24BEC9A5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F5AED-33E0-4626-8323-FDB915299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15081-F43F-4CA3-8AE9-560FE2C2D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A3F5BA-F465-4432-8E62-2CD8E6B498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9B027D-BBE1-4646-8F9E-2A2C11C1D2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22C92C-A255-441E-8C90-428F4C15C8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B8FFAD-C0E0-4F82-959F-7D0AAD09E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43B28-5463-4A8D-8EB1-ADC72717B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6DAE-D4DD-4804-8156-60CCC2CC6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019F4-8F55-4C75-889E-F8B344C0D4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882F53-942B-497A-9FBF-822AC2D4ED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56BD5-6286-4582-8AB8-2DE7E924CC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8E564-B517-48D4-B7C9-1E70C427F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F14722-6A98-4AB7-A638-31C5A15AF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D183A-B0C7-4510-9375-0D7F1D609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C4075-3801-4054-B24A-4DC9AAA5C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A2DE71-EE9A-43BD-A9B1-158DE0BEE6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B3247F-C6E3-49F9-BC49-58819197CA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10EFE2-DAA0-4CBC-AC83-B25BF3B78A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168C5-9F90-4BAF-A9BE-8FA243C07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B6118-30D8-4717-8EED-EE5608C52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E3157-B468-4B79-A78F-A32DDB274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AB31C-373B-4713-854B-A70C4F555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AFD5E8-D68C-4612-8257-364025379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35FB6-C0F3-4BA4-B821-5FE2C72A3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158E4-E09E-46ED-B6FC-8BA43D7D1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AF73D-CB48-477A-B398-D133B3B04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DD37B-F7F7-4606-A794-EC07A45DE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1B1E0B-081E-4003-BE65-067EBDA6A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1D7002-BAC1-46AB-A8AF-C31002B500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5F744-989A-4A92-ACAC-9F168A6D2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ECF9E4-F802-4B52-8064-63D68434E6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71EAEB-A9D6-47F3-B95C-B91C71B99B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3AAD1-A0F1-4899-8066-87C781DEC4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5EBBD-E43E-4AF1-9C83-B7B56667AE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52222F-E6DB-4009-AA9C-F460A0ACA3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7A220C-291A-4677-A18C-A0A5A0EAA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A0D3C8-CA18-45BF-B1BB-91A657BEB0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FD60A-B645-42E0-9846-6AFCAEE58D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72F83-185C-4EAC-93F0-F70CBCFC5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466463-422B-4D1B-AC58-9E6CCA56E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A1D2-DED9-442F-80EC-65B926DA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03707-B3E9-43D3-9911-172CA88B2A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0ADF59-40C0-4BA3-9D21-934E1F4070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00ECB0-FA94-462C-A437-56CF9A3D9F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EB085A-A247-437B-B2B7-C92D191C07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598FB-E732-4B82-8006-546727627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18D462-2EB2-4497-B4B9-026E802A4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D7C046-A007-4C5C-8AE2-26C0332F7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568024-8876-4F9B-B2C2-3D8B2F4CB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5B8183-B83D-48C5-91C5-1E323D15AA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91B28-9D03-4111-B9BD-595587458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83349-1E60-49B2-85ED-97B90D6F1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92C3A-45EC-47D1-BB15-5F075AF95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60CEBF-8EDF-4C9E-BE74-EB43D27EB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7CC97A-C81E-4631-B34A-E77A850CC8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319A73-8025-477C-9125-26CD480092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67E508-4958-41AC-BE36-4B536E153B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BED49-D740-45DE-B9C1-D6B51E3C5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2B60-945B-4029-BCC4-EF88CA234C6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09AD-081B-4464-B344-3D6592BF706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28F4-4F58-4925-B8DD-AC82B6E586C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E445-4163-40FD-8906-F68A6EC2882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0F02-EC9E-45CE-95E5-1C27D9EE909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2640-4E9D-4545-B5F2-31E3A717C75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2F55-59CE-4DB2-ABE9-781CF16870B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347760" y="208080"/>
            <a:ext cx="8119800" cy="1785960"/>
          </a:xfrm>
          <a:prstGeom prst="rect">
            <a:avLst/>
          </a:prstGeom>
          <a:ln w="0">
            <a:noFill/>
          </a:ln>
        </p:spPr>
      </p:pic>
      <p:sp>
        <p:nvSpPr>
          <p:cNvPr id="369" name="PlaceHolder 1"/>
          <p:cNvSpPr>
            <a:spLocks noGrp="1"/>
          </p:cNvSpPr>
          <p:nvPr>
            <p:ph type="subTitle"/>
          </p:nvPr>
        </p:nvSpPr>
        <p:spPr>
          <a:xfrm>
            <a:off x="990720" y="5181480"/>
            <a:ext cx="7772400" cy="1508400"/>
          </a:xfrm>
          <a:prstGeom prst="rect">
            <a:avLst/>
          </a:prstGeom>
          <a:noFill/>
          <a:ln w="0">
            <a:noFill/>
          </a:ln>
        </p:spPr>
        <p:txBody>
          <a:bodyPr lIns="100440" rIns="900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By: Miguel &amp; </a:t>
            </a:r>
            <a:endParaRPr b="0" lang="en-US" sz="3600" spc="-1" strike="noStrike">
              <a:solidFill>
                <a:srgbClr val="ffffff"/>
              </a:solidFill>
              <a:latin typeface="Corbe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rbel"/>
              </a:rPr>
              <a:t>Jeffrey</a:t>
            </a:r>
            <a:endParaRPr b="0" lang="en-US" sz="3600" spc="-1" strike="noStrike">
              <a:solidFill>
                <a:srgbClr val="ffffff"/>
              </a:solidFill>
              <a:latin typeface="Corbe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3" name="" descr=""/>
          <p:cNvPicPr/>
          <p:nvPr/>
        </p:nvPicPr>
        <p:blipFill>
          <a:blip r:embed="rId1"/>
          <a:stretch/>
        </p:blipFill>
        <p:spPr>
          <a:xfrm>
            <a:off x="914400" y="1784520"/>
            <a:ext cx="7772400" cy="4572000"/>
          </a:xfrm>
          <a:prstGeom prst="rect">
            <a:avLst/>
          </a:prstGeom>
          <a:ln w="0">
            <a:noFill/>
          </a:ln>
        </p:spPr>
      </p:pic>
      <p:pic>
        <p:nvPicPr>
          <p:cNvPr id="394" name="Picture 7" descr="full-screen version of OK Go"/>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6" name="" descr=""/>
          <p:cNvPicPr/>
          <p:nvPr/>
        </p:nvPicPr>
        <p:blipFill>
          <a:blip r:embed="rId1"/>
          <a:stretch/>
        </p:blipFill>
        <p:spPr>
          <a:xfrm>
            <a:off x="914400" y="1784520"/>
            <a:ext cx="7772400" cy="4572000"/>
          </a:xfrm>
          <a:prstGeom prst="rect">
            <a:avLst/>
          </a:prstGeom>
          <a:ln w="0">
            <a:noFill/>
          </a:ln>
        </p:spPr>
      </p:pic>
      <p:pic>
        <p:nvPicPr>
          <p:cNvPr id="397" name="Picture 15" descr="basic proces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NOW TO...</a:t>
            </a:r>
            <a:endParaRPr b="0" lang="en-US" sz="40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rbel"/>
              </a:rPr>
              <a:t>MIGUEL!</a:t>
            </a:r>
            <a:endParaRPr b="0" lang="en-US" sz="9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a3ce0"/>
                </a:solidFill>
                <a:latin typeface="Consolas"/>
              </a:rPr>
              <a:t>Radio on the Internet</a:t>
            </a:r>
            <a:endParaRPr b="0" lang="en-US" sz="4000" spc="-1" strike="noStrike">
              <a:solidFill>
                <a:srgbClr val="c1eeff"/>
              </a:solidFill>
              <a:latin typeface="Consolas"/>
            </a:endParaRPr>
          </a:p>
        </p:txBody>
      </p:sp>
      <p:sp>
        <p:nvSpPr>
          <p:cNvPr id="37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nline Radio</a:t>
            </a:r>
            <a:r>
              <a:rPr b="0" lang="en-US" sz="3000" spc="-1" strike="noStrike">
                <a:solidFill>
                  <a:srgbClr val="ffffff"/>
                </a:solidFill>
                <a:latin typeface="Corbel"/>
              </a:rPr>
              <a:t>	</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ve</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Previously recorded</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asically</a:t>
            </a:r>
            <a:endParaRPr b="0" lang="en-US" sz="4000" spc="-1" strike="noStrike">
              <a:solidFill>
                <a:srgbClr val="c1eeff"/>
              </a:solidFill>
              <a:latin typeface="Consolas"/>
            </a:endParaRPr>
          </a:p>
        </p:txBody>
      </p:sp>
      <p:sp>
        <p:nvSpPr>
          <p:cNvPr id="37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adio stations online aren’t much different from the radios that we are all used to on actual radios. The only big difference is that it’s not wireless because its online, that and instead of tuning the channel you change the web page, unless there is more than one radio station on the one site. Also there is a more precise way of choosing the music played, more precise assortments of music.</a:t>
            </a:r>
            <a:endParaRPr b="0" lang="en-US" sz="3000" spc="-1" strike="noStrike">
              <a:solidFill>
                <a:srgbClr val="ffffff"/>
              </a:solidFill>
              <a:latin typeface="Corbel"/>
            </a:endParaRPr>
          </a:p>
          <a:p>
            <a:pPr marL="394560" indent="-3286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me Examples</a:t>
            </a:r>
            <a:endParaRPr b="0" lang="en-US" sz="4000" spc="-1" strike="noStrike">
              <a:solidFill>
                <a:srgbClr val="c1eeff"/>
              </a:solidFill>
              <a:latin typeface="Consolas"/>
            </a:endParaRPr>
          </a:p>
        </p:txBody>
      </p:sp>
      <p:sp>
        <p:nvSpPr>
          <p:cNvPr id="375"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Pandora.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hitzfm.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shoutcast.com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tower.co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ww.musicgoal.com</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f200"/>
                </a:solidFill>
                <a:latin typeface="Consolas"/>
              </a:rPr>
              <a:t>Broadcasting Music</a:t>
            </a:r>
            <a:endParaRPr b="0" lang="en-US" sz="4000" spc="-1" strike="noStrike">
              <a:solidFill>
                <a:srgbClr val="c1eeff"/>
              </a:solidFill>
              <a:latin typeface="Consolas"/>
            </a:endParaRPr>
          </a:p>
        </p:txBody>
      </p:sp>
      <p:sp>
        <p:nvSpPr>
          <p:cNvPr id="37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How it all work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8" name="Picture 2" descr="C:\Users\J. Gindro\AppData\Local\Microsoft\Windows\Temporary Internet Files\Content.IE5\ECWY05XC\MCj03977760000[1].wmf"/>
          <p:cNvPicPr/>
          <p:nvPr/>
        </p:nvPicPr>
        <p:blipFill>
          <a:blip r:embed="rId1"/>
          <a:stretch/>
        </p:blipFill>
        <p:spPr>
          <a:xfrm>
            <a:off x="228600" y="4876920"/>
            <a:ext cx="1917720" cy="1573200"/>
          </a:xfrm>
          <a:prstGeom prst="rect">
            <a:avLst/>
          </a:prstGeom>
          <a:ln w="0">
            <a:noFill/>
          </a:ln>
        </p:spPr>
      </p:pic>
      <p:pic>
        <p:nvPicPr>
          <p:cNvPr id="379" name="Picture 3" descr="C:\Users\J. Gindro\AppData\Local\Microsoft\Windows\Temporary Internet Files\Content.IE5\FZUSRSKI\MCj04344110000[1].wmf"/>
          <p:cNvPicPr/>
          <p:nvPr/>
        </p:nvPicPr>
        <p:blipFill>
          <a:blip r:embed="rId2"/>
          <a:stretch/>
        </p:blipFill>
        <p:spPr>
          <a:xfrm>
            <a:off x="7518240" y="304920"/>
            <a:ext cx="1625760" cy="1828800"/>
          </a:xfrm>
          <a:prstGeom prst="rect">
            <a:avLst/>
          </a:prstGeom>
          <a:ln w="0">
            <a:noFill/>
          </a:ln>
        </p:spPr>
      </p:pic>
      <p:pic>
        <p:nvPicPr>
          <p:cNvPr id="380" name="Picture 4" descr="C:\Users\J. Gindro\AppData\Local\Microsoft\Windows\Temporary Internet Files\Content.IE5\BIIF8TZ8\MCj04099190000[1].wmf"/>
          <p:cNvPicPr/>
          <p:nvPr/>
        </p:nvPicPr>
        <p:blipFill>
          <a:blip r:embed="rId3"/>
          <a:stretch/>
        </p:blipFill>
        <p:spPr>
          <a:xfrm>
            <a:off x="7391520" y="5016600"/>
            <a:ext cx="1584360" cy="1841400"/>
          </a:xfrm>
          <a:prstGeom prst="rect">
            <a:avLst/>
          </a:prstGeom>
          <a:ln w="0">
            <a:noFill/>
          </a:ln>
        </p:spPr>
      </p:pic>
      <p:pic>
        <p:nvPicPr>
          <p:cNvPr id="381" name="Picture 5" descr="C:\Users\J. Gindro\AppData\Local\Microsoft\Windows\Temporary Internet Files\Content.IE5\FZUSRSKI\MCj03833080000[1].wmf"/>
          <p:cNvPicPr/>
          <p:nvPr/>
        </p:nvPicPr>
        <p:blipFill>
          <a:blip r:embed="rId4"/>
          <a:stretch/>
        </p:blipFill>
        <p:spPr>
          <a:xfrm>
            <a:off x="2590920" y="2362320"/>
            <a:ext cx="4552920" cy="290664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6"/>
                                        </p:tgtEl>
                                        <p:attrNameLst>
                                          <p:attrName>style.visibility</p:attrName>
                                        </p:attrNameLst>
                                      </p:cBhvr>
                                      <p:to>
                                        <p:strVal val="visible"/>
                                      </p:to>
                                    </p:set>
                                    <p:animEffect filter="checkerboard(across)" transition="in">
                                      <p:cBhvr additive="repl">
                                        <p:cTn id="7" dur="500"/>
                                        <p:tgtEl>
                                          <p:spTgt spid="37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6">
                                  <p:stCondLst>
                                    <p:cond delay="0"/>
                                  </p:stCondLst>
                                  <p:childTnLst>
                                    <p:animScale>
                                      <p:cBhvr>
                                        <p:cTn id="11" dur="2000" fill="hold"/>
                                        <p:tgtEl>
                                          <p:spTgt spid="377">
                                            <p:txEl>
                                              <p:pRg st="0" end="0"/>
                                            </p:txEl>
                                          </p:spTgt>
                                        </p:tgtEl>
                                      </p:cBhvr>
                                      <p:to x="150000" y="150000"/>
                                    </p:animScale>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79"/>
                                        </p:tgtEl>
                                        <p:attrNameLst>
                                          <p:attrName>style.visibility</p:attrName>
                                        </p:attrNameLst>
                                      </p:cBhvr>
                                      <p:to>
                                        <p:strVal val="visible"/>
                                      </p:to>
                                    </p:set>
                                    <p:anim calcmode="lin" valueType="num">
                                      <p:cBhvr additive="base">
                                        <p:cTn id="16" dur="500" fill="hold"/>
                                        <p:tgtEl>
                                          <p:spTgt spid="379"/>
                                        </p:tgtEl>
                                        <p:attrNameLst>
                                          <p:attrName>ppt_x</p:attrName>
                                        </p:attrNameLst>
                                      </p:cBhvr>
                                      <p:tavLst>
                                        <p:tav tm="0">
                                          <p:val>
                                            <p:strVal val="#ppt_x"/>
                                          </p:val>
                                        </p:tav>
                                        <p:tav tm="100000">
                                          <p:val>
                                            <p:strVal val="#ppt_x"/>
                                          </p:val>
                                        </p:tav>
                                      </p:tavLst>
                                    </p:anim>
                                    <p:anim calcmode="lin" valueType="num">
                                      <p:cBhvr additive="base">
                                        <p:cTn id="17"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78"/>
                                        </p:tgtEl>
                                        <p:attrNameLst>
                                          <p:attrName>style.visibility</p:attrName>
                                        </p:attrNameLst>
                                      </p:cBhvr>
                                      <p:to>
                                        <p:strVal val="visible"/>
                                      </p:to>
                                    </p:set>
                                    <p:animEffect filter="box(in)" transition="in">
                                      <p:cBhvr additive="repl">
                                        <p:cTn id="22" dur="500"/>
                                        <p:tgtEl>
                                          <p:spTgt spid="3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0">
                                  <p:stCondLst>
                                    <p:cond delay="0"/>
                                  </p:stCondLst>
                                  <p:childTnLst>
                                    <p:set>
                                      <p:cBhvr>
                                        <p:cTn id="26" dur="1" fill="hold">
                                          <p:stCondLst>
                                            <p:cond delay="0"/>
                                          </p:stCondLst>
                                        </p:cTn>
                                        <p:tgtEl>
                                          <p:spTgt spid="380"/>
                                        </p:tgtEl>
                                        <p:attrNameLst>
                                          <p:attrName>style.visibility</p:attrName>
                                        </p:attrNameLst>
                                      </p:cBhvr>
                                      <p:to>
                                        <p:strVal val="visible"/>
                                      </p:to>
                                    </p:set>
                                    <p:animEffect filter="wedge" transition="in">
                                      <p:cBhvr additive="repl">
                                        <p:cTn id="27" dur="2000"/>
                                        <p:tgtEl>
                                          <p:spTgt spid="38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381"/>
                                        </p:tgtEl>
                                        <p:attrNameLst>
                                          <p:attrName>style.visibility</p:attrName>
                                        </p:attrNameLst>
                                      </p:cBhvr>
                                      <p:to>
                                        <p:strVal val="visible"/>
                                      </p:to>
                                    </p:set>
                                    <p:animEffect filter="wheel(4)" transition="in">
                                      <p:cBhvr additive="repl">
                                        <p:cTn id="3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3" name="Content Placeholder 3" descr="basic streaming architectur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5" name="" descr=""/>
          <p:cNvPicPr/>
          <p:nvPr/>
        </p:nvPicPr>
        <p:blipFill>
          <a:blip r:embed="rId1"/>
          <a:stretch/>
        </p:blipFill>
        <p:spPr>
          <a:xfrm>
            <a:off x="914400" y="1784520"/>
            <a:ext cx="7772400" cy="4572000"/>
          </a:xfrm>
          <a:prstGeom prst="rect">
            <a:avLst/>
          </a:prstGeom>
          <a:ln w="0">
            <a:noFill/>
          </a:ln>
        </p:spPr>
      </p:pic>
      <p:pic>
        <p:nvPicPr>
          <p:cNvPr id="386" name="Picture 10" descr="basic streaming process"/>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88" name="Picture 2" descr="C:\Users\J. Gindro\Downloads\_775.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0" name="" descr=""/>
          <p:cNvPicPr/>
          <p:nvPr/>
        </p:nvPicPr>
        <p:blipFill>
          <a:blip r:embed="rId1"/>
          <a:stretch/>
        </p:blipFill>
        <p:spPr>
          <a:xfrm>
            <a:off x="914400" y="1784520"/>
            <a:ext cx="7772400" cy="4572000"/>
          </a:xfrm>
          <a:prstGeom prst="rect">
            <a:avLst/>
          </a:prstGeom>
          <a:ln w="0">
            <a:noFill/>
          </a:ln>
        </p:spPr>
      </p:pic>
      <p:pic>
        <p:nvPicPr>
          <p:cNvPr id="391" name="Picture 6" descr="OK Go's video on YouTube"/>
          <p:cNvPicPr/>
          <p:nvPr/>
        </p:nvPicPr>
        <p:blipFill>
          <a:blip r:embed="rId2"/>
          <a:stretch/>
        </p:blipFill>
        <p:spPr>
          <a:xfrm>
            <a:off x="0" y="0"/>
            <a:ext cx="9158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1:32:01Z</dcterms:created>
  <dc:creator>J. Gindro</dc:creator>
  <dc:description/>
  <dc:language>en-US</dc:language>
  <cp:lastModifiedBy>Dell XPS</cp:lastModifiedBy>
  <dcterms:modified xsi:type="dcterms:W3CDTF">2008-12-02T14:11:19Z</dcterms:modified>
  <cp:revision>27</cp:revision>
  <dc:subject/>
  <dc:title>Slide 1</dc:title>
</cp:coreProperties>
</file>