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7D53F-D353-4EEE-AB46-C62010CEF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BDFFB-EBEF-4241-B901-841F9B501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B785D-0C60-4F8F-BB7C-70EB614EE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D6215-5E00-468F-836E-2075FBCA8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96F12-4A61-482B-ABC0-D4D2CC59B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179C8-9377-49FD-A634-1EE1D7F1F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AF3EF-41B7-4E61-92E4-9E4527DFF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E5E44-F137-4E5C-B196-263910858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64452-7C08-42A1-BEA4-989939CBF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4986E-0D11-45C6-A95E-3B285DC17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94D60-EECB-403D-A4BB-EFE5E616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6375F-CF2F-4E88-82DB-4F9493848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9BA1-3E35-4419-ABC6-CA878D494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CD14-9563-4AC9-95AC-E65920230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3158C-E80D-4F88-890D-D8E37010A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9C32E-DB67-4AE1-8208-EE2FC7B53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C2C53-C3C5-4933-BCB7-C0E64A1C4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EB03E9-B09C-4CB2-8006-D6AB8EF376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EE268-38BD-4124-B8FA-264D4B253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B3C938-8AF9-4751-B78C-310AC4EB2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866DC-6C96-4826-9737-FAC4B328C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0CE1E-16BB-45E9-A57F-E0354586B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C440-0A6E-4743-8CCF-55ED8B2BB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63CDC-BD5E-4C56-9BB6-5414E54B9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91C94-D905-4699-B563-88ED90751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DBFB3-1272-4D9B-B221-26E1F37B2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10B45-DE09-437A-84F0-B6E2D7D49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40F7F-F768-432A-BEB9-7C60F9192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DF5D05-A05D-479F-89B3-E6357C19D8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665C1-3039-46F8-BBF6-D54715A66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08038C-6E7B-41D7-A240-078BF6E4E5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6E3F9-D864-4AA6-BCF6-E746A85BC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5C66C-296F-4772-8F7E-929CB17C0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C4455-D5C6-4317-BA2D-01A3C973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7F4AD-1D99-426C-8887-B79AE7B4D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8C95A-EB69-4826-9DB3-3068E3AC4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CC0BF-5499-430B-B9E1-F0EB3B36CC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43B92-B42B-4A3E-9E65-2C54503F5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BD9CB-A147-4153-B62E-FAF5E6462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1D31F-F447-424F-81F0-3484B8CFD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CF9D73-D255-4F41-902C-98AFECCC5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D3AF00-A14E-4969-B42E-5C5B5F712C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DA1B10-F3A1-4659-9C25-3E91BF8EF9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AD38A-FA3C-4EF1-99E2-9CF48B89E1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CB4A9-A44A-454A-9954-1C719669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579AE7-7790-4777-B87B-5AFADD6853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F1CE67-4073-454C-BB98-49850FACE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92024-2A4D-4AFA-A2A9-B27E7E2A94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05DFBB-EEAA-4320-B37A-05EE36482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96ADD-8236-42CA-A2C4-28AB022C3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0A149-B685-42CC-8EA0-7C57E6B04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7EAC0-59B6-4556-8357-297962E54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F333C-4A29-4EDF-A30D-1E714430E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552617-9A4C-463C-AC53-D4505D65E7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7CC092-052C-470E-B8BD-937F357C5E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60C40-6105-467B-B176-1EC7AAAA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626B3D-24DA-4801-A4F2-7040A268D0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0BB21-17F8-4021-85B6-FF97A995FF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0D5FF8-9B82-4021-A5E1-82C445D03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655E7A-656D-408B-8FE2-3587E7C2C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99EB37-91A5-4BC9-9077-79D44480E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CA6B1-9492-4198-8702-A54B30643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82856-66B2-4EC1-950E-F616E2DA5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F710E-5AC5-4FD5-8930-B6EE45D6E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110A3-1165-4559-8D47-D05836DA5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4CCC1-2DFF-464F-9CF7-6CC89347C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E20A-0EF2-47BB-AC9F-8105DB11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0C26D5-223B-4D7D-9C48-84E1D6D77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3C4F1A-8009-4F65-8675-EC222B920E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057E6F-B7CB-4A0E-B432-C070C8CBD8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230204-48F7-488F-8514-5BDA54C61F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BA760-A9FD-435C-AED2-E57F4A0723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AD982-F3C7-4469-92E5-EB816D869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93C017-ABC6-40B5-B314-5C0D290179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4393B0-65C0-4C85-B9E6-A77B43258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FA2C4-3775-4F44-99DD-70235FFE5D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E7B46-EF1E-4058-BDEB-5D0CF99F2B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DBF8-66CF-438B-9ECE-0DD8A8B8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F51E2-6FE5-4DEA-B1C8-65312D080A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C97EA-861A-45C1-A841-9878B497B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F8BC24-0B60-44F4-83E0-B540993D94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F76CE7-5B74-4EAD-B73F-C48A57A07F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7DB40E-0C65-41E1-8815-E030CF2204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6FEF0-70EF-420F-99EB-DF959539A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0CEA-7AA2-46EE-9E2C-03CFA95B535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71DE-D733-4540-859D-C293D269C73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1532-A0EE-4911-B1CB-56292DCF9E3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1AB6-45D5-4711-9BC9-47F7A4B72FC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6AFE-1766-42B2-A085-EC36E0D4657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374E-B64A-4CAE-BE19-2D9F15EA511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7886-2B2A-4CAD-BFC7-66D40A6737E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47760" y="208080"/>
            <a:ext cx="8119800" cy="1785960"/>
          </a:xfrm>
          <a:prstGeom prst="rect">
            <a:avLst/>
          </a:prstGeom>
          <a:ln w="0">
            <a:noFill/>
          </a:ln>
        </p:spPr>
      </p:pic>
      <p:sp>
        <p:nvSpPr>
          <p:cNvPr id="369" name="PlaceHolder 1"/>
          <p:cNvSpPr>
            <a:spLocks noGrp="1"/>
          </p:cNvSpPr>
          <p:nvPr>
            <p:ph type="subTitle"/>
          </p:nvPr>
        </p:nvSpPr>
        <p:spPr>
          <a:xfrm>
            <a:off x="990720" y="5181480"/>
            <a:ext cx="7772400" cy="1508400"/>
          </a:xfrm>
          <a:prstGeom prst="rect">
            <a:avLst/>
          </a:prstGeom>
          <a:noFill/>
          <a:ln w="0">
            <a:noFill/>
          </a:ln>
        </p:spPr>
        <p:txBody>
          <a:bodyPr lIns="100440" rIns="900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By: Miguel &amp; </a:t>
            </a:r>
            <a:endParaRPr b="0" lang="en-US" sz="36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Jeffrey</a:t>
            </a:r>
            <a:endParaRPr b="0" lang="en-US" sz="3600" spc="-1" strike="noStrike">
              <a:solidFill>
                <a:srgbClr val="ffffff"/>
              </a:solidFill>
              <a:latin typeface="Corbe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3" name="" descr=""/>
          <p:cNvPicPr/>
          <p:nvPr/>
        </p:nvPicPr>
        <p:blipFill>
          <a:blip r:embed="rId1"/>
          <a:stretch/>
        </p:blipFill>
        <p:spPr>
          <a:xfrm>
            <a:off x="914400" y="1784520"/>
            <a:ext cx="7772400" cy="4572000"/>
          </a:xfrm>
          <a:prstGeom prst="rect">
            <a:avLst/>
          </a:prstGeom>
          <a:ln w="0">
            <a:noFill/>
          </a:ln>
        </p:spPr>
      </p:pic>
      <p:pic>
        <p:nvPicPr>
          <p:cNvPr id="394" name="Picture 7" descr="full-screen version of OK G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6" name="" descr=""/>
          <p:cNvPicPr/>
          <p:nvPr/>
        </p:nvPicPr>
        <p:blipFill>
          <a:blip r:embed="rId1"/>
          <a:stretch/>
        </p:blipFill>
        <p:spPr>
          <a:xfrm>
            <a:off x="914400" y="1784520"/>
            <a:ext cx="7772400" cy="4572000"/>
          </a:xfrm>
          <a:prstGeom prst="rect">
            <a:avLst/>
          </a:prstGeom>
          <a:ln w="0">
            <a:noFill/>
          </a:ln>
        </p:spPr>
      </p:pic>
      <p:pic>
        <p:nvPicPr>
          <p:cNvPr id="397" name="Picture 15" descr="basic proces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NOW TO...</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rbel"/>
              </a:rPr>
              <a:t>MIGUEL!</a:t>
            </a:r>
            <a:endParaRPr b="0" lang="en-US" sz="9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3ce0"/>
                </a:solidFill>
                <a:latin typeface="Consolas"/>
              </a:rPr>
              <a:t>Radio on the Internet</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nline Radio</a:t>
            </a:r>
            <a:r>
              <a:rPr b="0" lang="en-US" sz="3000" spc="-1" strike="noStrike">
                <a:solidFill>
                  <a:srgbClr val="ffffff"/>
                </a:solidFill>
                <a:latin typeface="Corbel"/>
              </a:rPr>
              <a:t>	</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v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viously record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sically</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 stations online aren’t much different from the radios that we are all used to on actual radios. The only big difference is that it’s not wireless because its online, that and instead of tuning the channel you change the web page, unless there is more than one radio station on the one site. Also there is a more precise way of choosing the music played, more precise assortments of music.</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me Examples</a:t>
            </a:r>
            <a:endParaRPr b="0" lang="en-US" sz="40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Pandora.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hitzfm.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shoutcast.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tower.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goal.co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f200"/>
                </a:solidFill>
                <a:latin typeface="Consolas"/>
              </a:rPr>
              <a:t>Broadcasting Music</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How it all work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8" name="Picture 2" descr="C:\Users\J. Gindro\AppData\Local\Microsoft\Windows\Temporary Internet Files\Content.IE5\ECWY05XC\MCj03977760000[1].wmf"/>
          <p:cNvPicPr/>
          <p:nvPr/>
        </p:nvPicPr>
        <p:blipFill>
          <a:blip r:embed="rId1"/>
          <a:stretch/>
        </p:blipFill>
        <p:spPr>
          <a:xfrm>
            <a:off x="228600" y="4876920"/>
            <a:ext cx="1917720" cy="1573200"/>
          </a:xfrm>
          <a:prstGeom prst="rect">
            <a:avLst/>
          </a:prstGeom>
          <a:ln w="0">
            <a:noFill/>
          </a:ln>
        </p:spPr>
      </p:pic>
      <p:pic>
        <p:nvPicPr>
          <p:cNvPr id="379" name="Picture 3" descr="C:\Users\J. Gindro\AppData\Local\Microsoft\Windows\Temporary Internet Files\Content.IE5\FZUSRSKI\MCj04344110000[1].wmf"/>
          <p:cNvPicPr/>
          <p:nvPr/>
        </p:nvPicPr>
        <p:blipFill>
          <a:blip r:embed="rId2"/>
          <a:stretch/>
        </p:blipFill>
        <p:spPr>
          <a:xfrm>
            <a:off x="7518240" y="304920"/>
            <a:ext cx="1625760" cy="1828800"/>
          </a:xfrm>
          <a:prstGeom prst="rect">
            <a:avLst/>
          </a:prstGeom>
          <a:ln w="0">
            <a:noFill/>
          </a:ln>
        </p:spPr>
      </p:pic>
      <p:pic>
        <p:nvPicPr>
          <p:cNvPr id="380" name="Picture 4" descr="C:\Users\J. Gindro\AppData\Local\Microsoft\Windows\Temporary Internet Files\Content.IE5\BIIF8TZ8\MCj04099190000[1].wmf"/>
          <p:cNvPicPr/>
          <p:nvPr/>
        </p:nvPicPr>
        <p:blipFill>
          <a:blip r:embed="rId3"/>
          <a:stretch/>
        </p:blipFill>
        <p:spPr>
          <a:xfrm>
            <a:off x="7391520" y="5016600"/>
            <a:ext cx="1584360" cy="1841400"/>
          </a:xfrm>
          <a:prstGeom prst="rect">
            <a:avLst/>
          </a:prstGeom>
          <a:ln w="0">
            <a:noFill/>
          </a:ln>
        </p:spPr>
      </p:pic>
      <p:pic>
        <p:nvPicPr>
          <p:cNvPr id="381" name="Picture 5" descr="C:\Users\J. Gindro\AppData\Local\Microsoft\Windows\Temporary Internet Files\Content.IE5\FZUSRSKI\MCj03833080000[1].wmf"/>
          <p:cNvPicPr/>
          <p:nvPr/>
        </p:nvPicPr>
        <p:blipFill>
          <a:blip r:embed="rId4"/>
          <a:stretch/>
        </p:blipFill>
        <p:spPr>
          <a:xfrm>
            <a:off x="2590920" y="2362320"/>
            <a:ext cx="4552920" cy="29066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6"/>
                                        </p:tgtEl>
                                        <p:attrNameLst>
                                          <p:attrName>style.visibility</p:attrName>
                                        </p:attrNameLst>
                                      </p:cBhvr>
                                      <p:to>
                                        <p:strVal val="visible"/>
                                      </p:to>
                                    </p:set>
                                    <p:animEffect filter="checkerboard(across)" transition="in">
                                      <p:cBhvr additive="repl">
                                        <p:cTn id="7" dur="500"/>
                                        <p:tgtEl>
                                          <p:spTgt spid="3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377">
                                            <p:txEl>
                                              <p:pRg st="0" end="0"/>
                                            </p:txEl>
                                          </p:spTgt>
                                        </p:tgtEl>
                                      </p:cBhvr>
                                      <p:to x="150000" y="150000"/>
                                    </p:animScale>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79"/>
                                        </p:tgtEl>
                                        <p:attrNameLst>
                                          <p:attrName>style.visibility</p:attrName>
                                        </p:attrNameLst>
                                      </p:cBhvr>
                                      <p:to>
                                        <p:strVal val="visible"/>
                                      </p:to>
                                    </p:set>
                                    <p:anim calcmode="lin" valueType="num">
                                      <p:cBhvr additive="base">
                                        <p:cTn id="16" dur="500" fill="hold"/>
                                        <p:tgtEl>
                                          <p:spTgt spid="379"/>
                                        </p:tgtEl>
                                        <p:attrNameLst>
                                          <p:attrName>ppt_x</p:attrName>
                                        </p:attrNameLst>
                                      </p:cBhvr>
                                      <p:tavLst>
                                        <p:tav tm="0">
                                          <p:val>
                                            <p:strVal val="#ppt_x"/>
                                          </p:val>
                                        </p:tav>
                                        <p:tav tm="100000">
                                          <p:val>
                                            <p:strVal val="#ppt_x"/>
                                          </p:val>
                                        </p:tav>
                                      </p:tavLst>
                                    </p:anim>
                                    <p:anim calcmode="lin" valueType="num">
                                      <p:cBhvr additive="base">
                                        <p:cTn id="1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78"/>
                                        </p:tgtEl>
                                        <p:attrNameLst>
                                          <p:attrName>style.visibility</p:attrName>
                                        </p:attrNameLst>
                                      </p:cBhvr>
                                      <p:to>
                                        <p:strVal val="visible"/>
                                      </p:to>
                                    </p:set>
                                    <p:animEffect filter="box(in)" transition="in">
                                      <p:cBhvr additive="repl">
                                        <p:cTn id="22" dur="500"/>
                                        <p:tgtEl>
                                          <p:spTgt spid="3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0">
                                  <p:stCondLst>
                                    <p:cond delay="0"/>
                                  </p:stCondLst>
                                  <p:childTnLst>
                                    <p:set>
                                      <p:cBhvr>
                                        <p:cTn id="26" dur="1" fill="hold">
                                          <p:stCondLst>
                                            <p:cond delay="0"/>
                                          </p:stCondLst>
                                        </p:cTn>
                                        <p:tgtEl>
                                          <p:spTgt spid="380"/>
                                        </p:tgtEl>
                                        <p:attrNameLst>
                                          <p:attrName>style.visibility</p:attrName>
                                        </p:attrNameLst>
                                      </p:cBhvr>
                                      <p:to>
                                        <p:strVal val="visible"/>
                                      </p:to>
                                    </p:set>
                                    <p:animEffect filter="wedge" transition="in">
                                      <p:cBhvr additive="repl">
                                        <p:cTn id="27" dur="2000"/>
                                        <p:tgtEl>
                                          <p:spTgt spid="3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381"/>
                                        </p:tgtEl>
                                        <p:attrNameLst>
                                          <p:attrName>style.visibility</p:attrName>
                                        </p:attrNameLst>
                                      </p:cBhvr>
                                      <p:to>
                                        <p:strVal val="visible"/>
                                      </p:to>
                                    </p:set>
                                    <p:animEffect filter="wheel(4)" transition="in">
                                      <p:cBhvr additive="repl">
                                        <p:cTn id="3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Content Placeholder 3" descr="basic streaming architectu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5" name="" descr=""/>
          <p:cNvPicPr/>
          <p:nvPr/>
        </p:nvPicPr>
        <p:blipFill>
          <a:blip r:embed="rId1"/>
          <a:stretch/>
        </p:blipFill>
        <p:spPr>
          <a:xfrm>
            <a:off x="914400" y="1784520"/>
            <a:ext cx="7772400" cy="4572000"/>
          </a:xfrm>
          <a:prstGeom prst="rect">
            <a:avLst/>
          </a:prstGeom>
          <a:ln w="0">
            <a:noFill/>
          </a:ln>
        </p:spPr>
      </p:pic>
      <p:pic>
        <p:nvPicPr>
          <p:cNvPr id="386" name="Picture 10" descr="basic streaming process"/>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8" name="Picture 2" descr="C:\Users\J. Gindro\Downloads\_775.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0" name="" descr=""/>
          <p:cNvPicPr/>
          <p:nvPr/>
        </p:nvPicPr>
        <p:blipFill>
          <a:blip r:embed="rId1"/>
          <a:stretch/>
        </p:blipFill>
        <p:spPr>
          <a:xfrm>
            <a:off x="914400" y="1784520"/>
            <a:ext cx="7772400" cy="4572000"/>
          </a:xfrm>
          <a:prstGeom prst="rect">
            <a:avLst/>
          </a:prstGeom>
          <a:ln w="0">
            <a:noFill/>
          </a:ln>
        </p:spPr>
      </p:pic>
      <p:pic>
        <p:nvPicPr>
          <p:cNvPr id="391" name="Picture 6" descr="OK Go's video on YouTube"/>
          <p:cNvPicPr/>
          <p:nvPr/>
        </p:nvPicPr>
        <p:blipFill>
          <a:blip r:embed="rId2"/>
          <a:stretch/>
        </p:blipFill>
        <p:spPr>
          <a:xfrm>
            <a:off x="0" y="0"/>
            <a:ext cx="9158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1:32:01Z</dcterms:created>
  <dc:creator>J. Gindro</dc:creator>
  <dc:description/>
  <dc:language>en-US</dc:language>
  <cp:lastModifiedBy>Dell XPS</cp:lastModifiedBy>
  <dcterms:modified xsi:type="dcterms:W3CDTF">2008-12-02T14:11:19Z</dcterms:modified>
  <cp:revision>27</cp:revision>
  <dc:subject/>
  <dc:title>Slide 1</dc:title>
</cp:coreProperties>
</file>