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F2036-D144-498F-8745-6E659CEE8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5F017-96EE-4A7E-B876-A47031E6E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42E25-4D40-47CC-9C6B-2BDE7ED9C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68B5E-130E-411A-B1D9-A0AAC6754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82E31-A2FD-47FA-ABD4-F3E824EA3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4D7B3-9A40-419A-8849-81634EF91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E5848-FAD5-4A79-81A6-42130BACF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63783-0975-4C5A-9F55-FE5542F2B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F751C-0271-40F0-84C1-1409655E6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44C0A-7D18-4B08-A359-AF8FBD432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712C4-C228-46B9-8A45-1BDFE901F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9C577-E640-4DDC-8168-997E75041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CE5BA-3F2B-443D-AD50-28B8F405B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10194-72AE-423C-BC2F-82205E8D5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E6B13-582A-48A3-A950-9E70CC13B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5E1D6-ACE6-4679-B2F1-FF274F2F8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B9A05-BD91-4098-945E-DAB66BD79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E6436C-4504-4C20-A12F-CC968A848A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2D9FE0-3B5D-4D50-9329-3304294E3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E3052A-2472-4264-BA34-1BEF24511E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48152-AEB9-461C-8110-B38824F589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90D8C-88F8-4ED5-9B9E-61141A912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76ED-92E8-49B5-8A91-DD3645392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544DD-3EA7-44FC-A6C9-ECD79DE8DB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4941B-BF8D-48BF-B926-326C9A165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F8BEB-F70F-416D-B634-A683E0651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D4D25-F778-43DE-B27E-85C242009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AE8509-7A4E-4E1A-B3CC-9E234126D9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700B3A-8392-429C-9EFA-D6FA8429A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9F4B67-399A-42C0-AAA4-9D92413C0A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18E7B4-7521-4A17-B98C-6D3A7D00DD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AF467-DB81-4B76-88FE-EC027FA954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9B3263-21C4-4F27-8F36-8A51F1F60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0DF0-3087-45B7-8640-0D4F172BD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A9A777-DA6E-4BCA-BF30-7E23DFBF7A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91DF57-3558-4A64-BC59-A914AD918C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C4E42-5AE0-4E06-BE52-E2783F148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67372-3BC2-483D-9D36-E5806E9C9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824B4-C817-4771-A2DC-869C255FF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57CB8-BFFF-4C15-B78B-436CC538B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0475B-3D5F-4846-B704-5C30E3A8E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8B4325-F0FA-46E5-9E3E-CDBFE76D8D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C11C24-4EBE-4DD2-8140-E87DFE4575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3BD648-C57C-4834-8E03-4659689363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114E7-5171-4966-998A-F92AB6A68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ACCA73-2C3E-4E26-86FF-10DA8DAC14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14A56B-819F-4F62-8C6D-C22894BAD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7CCF48-1BB1-4584-9860-D567118DF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203FE7-EFB7-4B35-89A9-E1FEDA955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A90D41-D31D-496A-8774-2A88234236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38E7E-1B43-4796-8E56-E732B8D37F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639D7D-7F3D-4955-84E8-D0CDC26D6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8C458-661D-4515-9D07-841754437B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C1A10C-DF22-45D4-8E25-7DBC331F23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2CB70D-5848-4047-A27D-725393CE23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CDBA5-EEAD-4CF7-8585-7BB032AB6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FFA57C-7862-4E33-9228-80C5B2CBB3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2196E0-803E-4D31-8AE2-62342F45A5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20C019-34ED-4204-93C0-5C9D2B811D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71D425-D823-47B6-8776-AE1070B088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E5610C-7D98-468B-8F61-DF3AE23A47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E9717E-4EDA-40A9-89B1-711C2F409E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8FAE0A-6E15-4236-97B1-28DBA35035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7296ED-D851-4329-9D27-F08D253CD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F6FF11-64EE-4002-870D-56B4007E01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5E5352-C83B-4236-843D-5C13DCD14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36CCE-C3E0-4C17-996C-428722D95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323D0-A1AB-431C-9FAC-454EC3DCC2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F62BD6-10CE-4786-AAF6-1C85C457A0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2629D1-3E41-4153-9270-33CC64474F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336194-ADAE-44BE-B47C-E3591DE32E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667EA9-CBC5-4941-8FEC-CD59E28976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561E20-E594-402D-8762-0CC73176FC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A7F519-24F5-41D1-91FE-D88E549702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ECF5CD-3AF2-4668-9C0C-78B48C0FFB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A08185-AA15-4226-9793-EC3C4EAF61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FAA73-FFE5-42BA-B786-9E5EFDA1F3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33407-40E5-439A-898D-D189C9B32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B225A-28AA-475C-BAAE-6EACCDCF1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8DE9FA-1C24-4436-9266-A0F4D2F62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29600-2118-46DB-A576-0A754B03EA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C9CA52-776F-486A-9B40-75FF613B25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6EF9BD-3416-441F-BFE5-CAE4F278C3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B6FB7-2FF7-4FCE-86A6-2B1ED7393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F8EE-F190-42CA-B000-E6CDDA20DA8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7F9B-21FC-48EF-B8A8-334B8C6756A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1CB0-EE43-40C7-918F-51ACCB119AD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0EA2-C20F-48DA-9F92-4482C0EEEB9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7B58-0146-4CC2-9656-64F47817EFB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4698-9DF7-4267-B61F-FAE5FB58E12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03FD-49CF-4C4F-A0E3-BAB6B48D64C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47760" y="208080"/>
            <a:ext cx="8119800" cy="1785960"/>
          </a:xfrm>
          <a:prstGeom prst="rect">
            <a:avLst/>
          </a:prstGeom>
          <a:ln w="0">
            <a:noFill/>
          </a:ln>
        </p:spPr>
      </p:pic>
      <p:sp>
        <p:nvSpPr>
          <p:cNvPr id="369" name="PlaceHolder 1"/>
          <p:cNvSpPr>
            <a:spLocks noGrp="1"/>
          </p:cNvSpPr>
          <p:nvPr>
            <p:ph type="subTitle"/>
          </p:nvPr>
        </p:nvSpPr>
        <p:spPr>
          <a:xfrm>
            <a:off x="990720" y="5181480"/>
            <a:ext cx="7772400" cy="1508400"/>
          </a:xfrm>
          <a:prstGeom prst="rect">
            <a:avLst/>
          </a:prstGeom>
          <a:noFill/>
          <a:ln w="0">
            <a:noFill/>
          </a:ln>
        </p:spPr>
        <p:txBody>
          <a:bodyPr lIns="100440" rIns="900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By: Miguel &amp; </a:t>
            </a:r>
            <a:endParaRPr b="0" lang="en-US" sz="36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Jeffrey</a:t>
            </a:r>
            <a:endParaRPr b="0" lang="en-US" sz="3600" spc="-1" strike="noStrike">
              <a:solidFill>
                <a:srgbClr val="ffffff"/>
              </a:solidFill>
              <a:latin typeface="Corbe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3" name="" descr=""/>
          <p:cNvPicPr/>
          <p:nvPr/>
        </p:nvPicPr>
        <p:blipFill>
          <a:blip r:embed="rId1"/>
          <a:stretch/>
        </p:blipFill>
        <p:spPr>
          <a:xfrm>
            <a:off x="914400" y="1784520"/>
            <a:ext cx="7772400" cy="4572000"/>
          </a:xfrm>
          <a:prstGeom prst="rect">
            <a:avLst/>
          </a:prstGeom>
          <a:ln w="0">
            <a:noFill/>
          </a:ln>
        </p:spPr>
      </p:pic>
      <p:pic>
        <p:nvPicPr>
          <p:cNvPr id="394" name="Picture 7" descr="full-screen version of OK G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6" name="" descr=""/>
          <p:cNvPicPr/>
          <p:nvPr/>
        </p:nvPicPr>
        <p:blipFill>
          <a:blip r:embed="rId1"/>
          <a:stretch/>
        </p:blipFill>
        <p:spPr>
          <a:xfrm>
            <a:off x="914400" y="1784520"/>
            <a:ext cx="7772400" cy="4572000"/>
          </a:xfrm>
          <a:prstGeom prst="rect">
            <a:avLst/>
          </a:prstGeom>
          <a:ln w="0">
            <a:noFill/>
          </a:ln>
        </p:spPr>
      </p:pic>
      <p:pic>
        <p:nvPicPr>
          <p:cNvPr id="397" name="Picture 15" descr="basic process"/>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ND NOW TO...</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rbel"/>
              </a:rPr>
              <a:t>MIGUEL!</a:t>
            </a:r>
            <a:endParaRPr b="0" lang="en-US" sz="9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3ce0"/>
                </a:solidFill>
                <a:latin typeface="Consolas"/>
              </a:rPr>
              <a:t>Radio on the Internet</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nline Radio</a:t>
            </a:r>
            <a:r>
              <a:rPr b="0" lang="en-US" sz="3000" spc="-1" strike="noStrike">
                <a:solidFill>
                  <a:srgbClr val="ffffff"/>
                </a:solidFill>
                <a:latin typeface="Corbel"/>
              </a:rPr>
              <a:t>	</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Live</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reviously recorded</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asically</a:t>
            </a:r>
            <a:endParaRPr b="0" lang="en-US" sz="4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 stations online aren’t much different from the radios that we are all used to on actual radios. The only big difference is that it’s not wireless because its online, that and instead of tuning the channel you change the web page, unless there is more than one radio station on the one site. Also there is a more precise way of choosing the music played, more precise assortments of music.</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me Examples</a:t>
            </a:r>
            <a:endParaRPr b="0" lang="en-US" sz="4000" spc="-1" strike="noStrike">
              <a:solidFill>
                <a:srgbClr val="c1eeff"/>
              </a:solidFill>
              <a:latin typeface="Consolas"/>
            </a:endParaRPr>
          </a:p>
        </p:txBody>
      </p:sp>
      <p:sp>
        <p:nvSpPr>
          <p:cNvPr id="37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Pandora.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hitzfm.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shoutcast.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tower.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goal.com</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f200"/>
                </a:solidFill>
                <a:latin typeface="Consolas"/>
              </a:rPr>
              <a:t>Broadcasting Music</a:t>
            </a:r>
            <a:endParaRPr b="0" lang="en-US" sz="4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rbel"/>
              </a:rPr>
              <a:t>How it all work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pic>
        <p:nvPicPr>
          <p:cNvPr id="378" name="Picture 2" descr="C:\Users\J. Gindro\AppData\Local\Microsoft\Windows\Temporary Internet Files\Content.IE5\ECWY05XC\MCj03977760000[1].wmf"/>
          <p:cNvPicPr/>
          <p:nvPr/>
        </p:nvPicPr>
        <p:blipFill>
          <a:blip r:embed="rId1"/>
          <a:stretch/>
        </p:blipFill>
        <p:spPr>
          <a:xfrm>
            <a:off x="228600" y="4876920"/>
            <a:ext cx="1917720" cy="1573200"/>
          </a:xfrm>
          <a:prstGeom prst="rect">
            <a:avLst/>
          </a:prstGeom>
          <a:ln w="0">
            <a:noFill/>
          </a:ln>
        </p:spPr>
      </p:pic>
      <p:pic>
        <p:nvPicPr>
          <p:cNvPr id="379" name="Picture 3" descr="C:\Users\J. Gindro\AppData\Local\Microsoft\Windows\Temporary Internet Files\Content.IE5\FZUSRSKI\MCj04344110000[1].wmf"/>
          <p:cNvPicPr/>
          <p:nvPr/>
        </p:nvPicPr>
        <p:blipFill>
          <a:blip r:embed="rId2"/>
          <a:stretch/>
        </p:blipFill>
        <p:spPr>
          <a:xfrm>
            <a:off x="7518240" y="304920"/>
            <a:ext cx="1625760" cy="1828800"/>
          </a:xfrm>
          <a:prstGeom prst="rect">
            <a:avLst/>
          </a:prstGeom>
          <a:ln w="0">
            <a:noFill/>
          </a:ln>
        </p:spPr>
      </p:pic>
      <p:pic>
        <p:nvPicPr>
          <p:cNvPr id="380" name="Picture 4" descr="C:\Users\J. Gindro\AppData\Local\Microsoft\Windows\Temporary Internet Files\Content.IE5\BIIF8TZ8\MCj04099190000[1].wmf"/>
          <p:cNvPicPr/>
          <p:nvPr/>
        </p:nvPicPr>
        <p:blipFill>
          <a:blip r:embed="rId3"/>
          <a:stretch/>
        </p:blipFill>
        <p:spPr>
          <a:xfrm>
            <a:off x="7391520" y="5016600"/>
            <a:ext cx="1584360" cy="1841400"/>
          </a:xfrm>
          <a:prstGeom prst="rect">
            <a:avLst/>
          </a:prstGeom>
          <a:ln w="0">
            <a:noFill/>
          </a:ln>
        </p:spPr>
      </p:pic>
      <p:pic>
        <p:nvPicPr>
          <p:cNvPr id="381" name="Picture 5" descr="C:\Users\J. Gindro\AppData\Local\Microsoft\Windows\Temporary Internet Files\Content.IE5\FZUSRSKI\MCj03833080000[1].wmf"/>
          <p:cNvPicPr/>
          <p:nvPr/>
        </p:nvPicPr>
        <p:blipFill>
          <a:blip r:embed="rId4"/>
          <a:stretch/>
        </p:blipFill>
        <p:spPr>
          <a:xfrm>
            <a:off x="2590920" y="2362320"/>
            <a:ext cx="4552920" cy="290664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6"/>
                                        </p:tgtEl>
                                        <p:attrNameLst>
                                          <p:attrName>style.visibility</p:attrName>
                                        </p:attrNameLst>
                                      </p:cBhvr>
                                      <p:to>
                                        <p:strVal val="visible"/>
                                      </p:to>
                                    </p:set>
                                    <p:animEffect filter="checkerboard(across)" transition="in">
                                      <p:cBhvr additive="repl">
                                        <p:cTn id="7" dur="500"/>
                                        <p:tgtEl>
                                          <p:spTgt spid="37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377">
                                            <p:txEl>
                                              <p:pRg st="0" end="0"/>
                                            </p:txEl>
                                          </p:spTgt>
                                        </p:tgtEl>
                                      </p:cBhvr>
                                      <p:to x="150000" y="150000"/>
                                    </p:animScale>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79"/>
                                        </p:tgtEl>
                                        <p:attrNameLst>
                                          <p:attrName>style.visibility</p:attrName>
                                        </p:attrNameLst>
                                      </p:cBhvr>
                                      <p:to>
                                        <p:strVal val="visible"/>
                                      </p:to>
                                    </p:set>
                                    <p:anim calcmode="lin" valueType="num">
                                      <p:cBhvr additive="base">
                                        <p:cTn id="16" dur="500" fill="hold"/>
                                        <p:tgtEl>
                                          <p:spTgt spid="379"/>
                                        </p:tgtEl>
                                        <p:attrNameLst>
                                          <p:attrName>ppt_x</p:attrName>
                                        </p:attrNameLst>
                                      </p:cBhvr>
                                      <p:tavLst>
                                        <p:tav tm="0">
                                          <p:val>
                                            <p:strVal val="#ppt_x"/>
                                          </p:val>
                                        </p:tav>
                                        <p:tav tm="100000">
                                          <p:val>
                                            <p:strVal val="#ppt_x"/>
                                          </p:val>
                                        </p:tav>
                                      </p:tavLst>
                                    </p:anim>
                                    <p:anim calcmode="lin" valueType="num">
                                      <p:cBhvr additive="base">
                                        <p:cTn id="1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78"/>
                                        </p:tgtEl>
                                        <p:attrNameLst>
                                          <p:attrName>style.visibility</p:attrName>
                                        </p:attrNameLst>
                                      </p:cBhvr>
                                      <p:to>
                                        <p:strVal val="visible"/>
                                      </p:to>
                                    </p:set>
                                    <p:animEffect filter="box(in)" transition="in">
                                      <p:cBhvr additive="repl">
                                        <p:cTn id="22" dur="500"/>
                                        <p:tgtEl>
                                          <p:spTgt spid="3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0">
                                  <p:stCondLst>
                                    <p:cond delay="0"/>
                                  </p:stCondLst>
                                  <p:childTnLst>
                                    <p:set>
                                      <p:cBhvr>
                                        <p:cTn id="26" dur="1" fill="hold">
                                          <p:stCondLst>
                                            <p:cond delay="0"/>
                                          </p:stCondLst>
                                        </p:cTn>
                                        <p:tgtEl>
                                          <p:spTgt spid="380"/>
                                        </p:tgtEl>
                                        <p:attrNameLst>
                                          <p:attrName>style.visibility</p:attrName>
                                        </p:attrNameLst>
                                      </p:cBhvr>
                                      <p:to>
                                        <p:strVal val="visible"/>
                                      </p:to>
                                    </p:set>
                                    <p:animEffect filter="wedge" transition="in">
                                      <p:cBhvr additive="repl">
                                        <p:cTn id="27" dur="2000"/>
                                        <p:tgtEl>
                                          <p:spTgt spid="38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381"/>
                                        </p:tgtEl>
                                        <p:attrNameLst>
                                          <p:attrName>style.visibility</p:attrName>
                                        </p:attrNameLst>
                                      </p:cBhvr>
                                      <p:to>
                                        <p:strVal val="visible"/>
                                      </p:to>
                                    </p:set>
                                    <p:animEffect filter="wheel(4)" transition="in">
                                      <p:cBhvr additive="repl">
                                        <p:cTn id="3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3" name="Content Placeholder 3" descr="basic streaming architectu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5" name="" descr=""/>
          <p:cNvPicPr/>
          <p:nvPr/>
        </p:nvPicPr>
        <p:blipFill>
          <a:blip r:embed="rId1"/>
          <a:stretch/>
        </p:blipFill>
        <p:spPr>
          <a:xfrm>
            <a:off x="914400" y="1784520"/>
            <a:ext cx="7772400" cy="4572000"/>
          </a:xfrm>
          <a:prstGeom prst="rect">
            <a:avLst/>
          </a:prstGeom>
          <a:ln w="0">
            <a:noFill/>
          </a:ln>
        </p:spPr>
      </p:pic>
      <p:pic>
        <p:nvPicPr>
          <p:cNvPr id="386" name="Picture 10" descr="basic streaming process"/>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8" name="Picture 2" descr="C:\Users\J. Gindro\Downloads\_775.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0" name="" descr=""/>
          <p:cNvPicPr/>
          <p:nvPr/>
        </p:nvPicPr>
        <p:blipFill>
          <a:blip r:embed="rId1"/>
          <a:stretch/>
        </p:blipFill>
        <p:spPr>
          <a:xfrm>
            <a:off x="914400" y="1784520"/>
            <a:ext cx="7772400" cy="4572000"/>
          </a:xfrm>
          <a:prstGeom prst="rect">
            <a:avLst/>
          </a:prstGeom>
          <a:ln w="0">
            <a:noFill/>
          </a:ln>
        </p:spPr>
      </p:pic>
      <p:pic>
        <p:nvPicPr>
          <p:cNvPr id="391" name="Picture 6" descr="OK Go's video on YouTube"/>
          <p:cNvPicPr/>
          <p:nvPr/>
        </p:nvPicPr>
        <p:blipFill>
          <a:blip r:embed="rId2"/>
          <a:stretch/>
        </p:blipFill>
        <p:spPr>
          <a:xfrm>
            <a:off x="0" y="0"/>
            <a:ext cx="9158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1:32:01Z</dcterms:created>
  <dc:creator>J. Gindro</dc:creator>
  <dc:description/>
  <dc:language>en-US</dc:language>
  <cp:lastModifiedBy>Dell XPS</cp:lastModifiedBy>
  <dcterms:modified xsi:type="dcterms:W3CDTF">2008-12-02T14:11:19Z</dcterms:modified>
  <cp:revision>27</cp:revision>
  <dc:subject/>
  <dc:title>Slide 1</dc:title>
</cp:coreProperties>
</file>