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22FF3-A15B-473C-A739-B30A22FED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4F3A-8C40-4FE0-BFB6-6FC8CCE2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8C461-C909-4A44-8596-95B0802F2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F56B3-757C-4B6D-B019-AE0F1FC2D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37F5B-3AF1-4329-A7F2-5520EDF7E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4A916-2F49-411B-9F86-F8AF441C8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01993-1F33-4320-82CA-46D1477BA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055B4-4749-4F71-AE16-A3CE932DF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5705F-3C64-4B9A-9D2D-AC78E96CA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31B81-BD43-4A82-9E81-68BCDA6D9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87020-B16E-4D1F-B181-8620C7E2B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4AB1-5233-432C-B2C5-1D224848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E5F65-5EDC-433D-8FE7-7E560D3AC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441AF-C8BF-48B6-B8EF-A203EA189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835AA-A9CF-40D8-84BB-C426CB3CB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62725-A815-4FB9-8723-0A857CC46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8ECBD-D292-47DE-B0D9-5B49E8E34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B94A0E-7EF3-4FCF-9ADB-AF6E05357C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E1417-1BE0-4621-9851-E30A86523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4027F-0572-41D8-91E2-3A79A91BC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C0461-507F-41EB-B4B8-163F5098C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33DD4-E2B7-4DF6-9EEC-B09B2D229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8415-AA7F-45C0-94EE-8F364B2A2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C1423-8598-48FD-83F5-740F3F9AFD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765BD-07FC-419D-B463-B09E8D751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B8EF5-7392-4DA0-BD64-48F615657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FC7A8-4763-452B-B80D-627E84D9B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92374-4E3E-4FDD-8637-B9B0461B5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9CCF3F-0292-4408-A21B-DFD848CE7E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42DF03-7D50-4E7D-98D1-260131604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5108C4-5928-4717-BE8D-AE8CB326FE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D30B3A-083E-468A-BFFD-C7DA7819A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967118-0B44-4F96-8CF2-E06E072ACB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ECC01-F557-49DD-A4AF-7411E796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E47C8D-EF64-4987-BD04-F91C4953FE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759BA-E7A3-4A31-9D6E-8130072CE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81ECC-30EE-4C48-8B28-6DB839FA73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55B99-4B81-4A70-90ED-9556C80ED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B59F0-116B-46FD-AB91-8625FEB57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60F7B-7328-491C-B30A-6146EF387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DCC5C-C4DE-47CD-802E-1CB18C00A4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600238-817C-44AA-8D5D-2E1D0E86DC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1ACC2-17F3-4DAD-80AF-EAA587102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0B973-344A-4CC2-B553-F4AAABD9EF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08E95-384C-4CD6-96FE-589AFEE51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97DD5F-1BCC-4368-A509-C0E805412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11F78-33AC-4FDC-A155-D9BDA6EBD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9C3A8-D263-42B0-BAAC-183E1708E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50997-B967-409E-87A3-3051C5369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591C8-6C18-4BC2-8296-AE73E29B3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C20CF-D53D-4003-9B99-CA41BF323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9E86C-8731-4517-B481-906A8FF23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A79A9-49B1-4491-9A4C-8B6AD10E9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401B7-380D-412D-958D-66C457049D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CD2878-7484-4B88-BAE0-0AFD8D69FE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37AB6-F208-4F66-A833-93255F5A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C2D0BB-2BB8-49F7-BD22-88737125C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D8C42C-C5F0-4BAA-998D-2C6D32C968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B7996-447A-4FF6-8A8A-530A47DC7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5A639-4901-4BF6-8A43-2CAFE31A22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4053F9-D99F-476A-B5B5-C06679D9D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0D95B-1F36-4512-8E71-B190B187F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D1027-867A-4389-B4CE-C50F881A98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CB6EE-27A4-439E-9969-6030D11F3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2870B-26AA-4389-B492-0A3EA0B4C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7AFE0-5D99-4949-B5A0-040962989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74BA1-37A6-4B7C-A439-D923B4D1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03EE87-F5FC-4ABD-AAA3-97B4CE15C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9D969-9D20-46BF-8DCC-EBB6568AAD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3F9D99-AE1A-4A49-8537-2AC890BF9D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3E1C2B-71E7-4F32-8118-C88EF33271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77E5F-C0B4-40B1-87E2-AD65A3D936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EF8F24-09DF-4AD0-AFE9-C87A8E64D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3FD738-B781-4B37-B592-9C28791A0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E7F0FD-8F53-4EC7-AD1E-997E7EFDB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0F29F-9E55-4DDA-826C-4798D1B02E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EA07C-8D51-47B6-B3C3-1D73405D47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2BCC-A712-4C9A-84CA-09C1097C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C868D-3D14-4B14-B1DD-928A2CF9D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2B79BF-4429-41A6-AC3F-A4A581BD0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CF181-83E1-49A1-8FD0-ECE1E9D11E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D13E06-E189-44F9-B7F3-E6C9FFC740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E6C3A2-3A43-4091-BBDF-2DAA4A9C8D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CB6B-30DC-460E-88EC-4B25DEED9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6F49-B7D0-4896-9472-FD58B618ED6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B4A3-0CB9-4400-B2F9-7075D61335B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743F-F8C0-4151-99D7-A6759007EC0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58AB-0239-4187-A3E9-C0450CCD93F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3467-3D16-4544-945C-D9E0B340BC1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C4FC-2977-4064-ACF1-3C4D53508C4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89AB-A495-4D89-BC6C-C0DE70A732D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47760" y="208080"/>
            <a:ext cx="8119800" cy="1785960"/>
          </a:xfrm>
          <a:prstGeom prst="rect">
            <a:avLst/>
          </a:prstGeom>
          <a:ln w="0">
            <a:noFill/>
          </a:ln>
        </p:spPr>
      </p:pic>
      <p:sp>
        <p:nvSpPr>
          <p:cNvPr id="369" name="PlaceHolder 1"/>
          <p:cNvSpPr>
            <a:spLocks noGrp="1"/>
          </p:cNvSpPr>
          <p:nvPr>
            <p:ph type="subTitle"/>
          </p:nvPr>
        </p:nvSpPr>
        <p:spPr>
          <a:xfrm>
            <a:off x="990720" y="5181480"/>
            <a:ext cx="7772400" cy="1508400"/>
          </a:xfrm>
          <a:prstGeom prst="rect">
            <a:avLst/>
          </a:prstGeom>
          <a:noFill/>
          <a:ln w="0">
            <a:noFill/>
          </a:ln>
        </p:spPr>
        <p:txBody>
          <a:bodyPr lIns="100440" rIns="900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By: Miguel &amp; </a:t>
            </a:r>
            <a:endParaRPr b="0" lang="en-US" sz="36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Jeffrey</a:t>
            </a:r>
            <a:endParaRPr b="0" lang="en-US" sz="3600" spc="-1" strike="noStrike">
              <a:solidFill>
                <a:srgbClr val="ffffff"/>
              </a:solidFill>
              <a:latin typeface="Corbe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3" name="" descr=""/>
          <p:cNvPicPr/>
          <p:nvPr/>
        </p:nvPicPr>
        <p:blipFill>
          <a:blip r:embed="rId1"/>
          <a:stretch/>
        </p:blipFill>
        <p:spPr>
          <a:xfrm>
            <a:off x="914400" y="1784520"/>
            <a:ext cx="7772400" cy="4572000"/>
          </a:xfrm>
          <a:prstGeom prst="rect">
            <a:avLst/>
          </a:prstGeom>
          <a:ln w="0">
            <a:noFill/>
          </a:ln>
        </p:spPr>
      </p:pic>
      <p:pic>
        <p:nvPicPr>
          <p:cNvPr id="394" name="Picture 7" descr="full-screen version of OK G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6" name="" descr=""/>
          <p:cNvPicPr/>
          <p:nvPr/>
        </p:nvPicPr>
        <p:blipFill>
          <a:blip r:embed="rId1"/>
          <a:stretch/>
        </p:blipFill>
        <p:spPr>
          <a:xfrm>
            <a:off x="914400" y="1784520"/>
            <a:ext cx="7772400" cy="4572000"/>
          </a:xfrm>
          <a:prstGeom prst="rect">
            <a:avLst/>
          </a:prstGeom>
          <a:ln w="0">
            <a:noFill/>
          </a:ln>
        </p:spPr>
      </p:pic>
      <p:pic>
        <p:nvPicPr>
          <p:cNvPr id="397" name="Picture 15" descr="basic proces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NOW TO...</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rbel"/>
              </a:rPr>
              <a:t>MIGUEL!</a:t>
            </a:r>
            <a:endParaRPr b="0" lang="en-US" sz="9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3ce0"/>
                </a:solidFill>
                <a:latin typeface="Consolas"/>
              </a:rPr>
              <a:t>Radio on the Internet</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nline Radio</a:t>
            </a:r>
            <a:r>
              <a:rPr b="0" lang="en-US" sz="3000" spc="-1" strike="noStrike">
                <a:solidFill>
                  <a:srgbClr val="ffffff"/>
                </a:solidFill>
                <a:latin typeface="Corbel"/>
              </a:rPr>
              <a:t>	</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v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viously record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sically</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 stations online aren’t much different from the radios that we are all used to on actual radios. The only big difference is that it’s not wireless because its online, that and instead of tuning the channel you change the web page, unless there is more than one radio station on the one site. Also there is a more precise way of choosing the music played, more precise assortments of music.</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me Examples</a:t>
            </a:r>
            <a:endParaRPr b="0" lang="en-US" sz="40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Pandora.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hitzfm.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shoutcast.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tower.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goal.co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f200"/>
                </a:solidFill>
                <a:latin typeface="Consolas"/>
              </a:rPr>
              <a:t>Broadcasting Music</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How it all work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8" name="Picture 2" descr="C:\Users\J. Gindro\AppData\Local\Microsoft\Windows\Temporary Internet Files\Content.IE5\ECWY05XC\MCj03977760000[1].wmf"/>
          <p:cNvPicPr/>
          <p:nvPr/>
        </p:nvPicPr>
        <p:blipFill>
          <a:blip r:embed="rId1"/>
          <a:stretch/>
        </p:blipFill>
        <p:spPr>
          <a:xfrm>
            <a:off x="228600" y="4876920"/>
            <a:ext cx="1917720" cy="1573200"/>
          </a:xfrm>
          <a:prstGeom prst="rect">
            <a:avLst/>
          </a:prstGeom>
          <a:ln w="0">
            <a:noFill/>
          </a:ln>
        </p:spPr>
      </p:pic>
      <p:pic>
        <p:nvPicPr>
          <p:cNvPr id="379" name="Picture 3" descr="C:\Users\J. Gindro\AppData\Local\Microsoft\Windows\Temporary Internet Files\Content.IE5\FZUSRSKI\MCj04344110000[1].wmf"/>
          <p:cNvPicPr/>
          <p:nvPr/>
        </p:nvPicPr>
        <p:blipFill>
          <a:blip r:embed="rId2"/>
          <a:stretch/>
        </p:blipFill>
        <p:spPr>
          <a:xfrm>
            <a:off x="7518240" y="304920"/>
            <a:ext cx="1625760" cy="1828800"/>
          </a:xfrm>
          <a:prstGeom prst="rect">
            <a:avLst/>
          </a:prstGeom>
          <a:ln w="0">
            <a:noFill/>
          </a:ln>
        </p:spPr>
      </p:pic>
      <p:pic>
        <p:nvPicPr>
          <p:cNvPr id="380" name="Picture 4" descr="C:\Users\J. Gindro\AppData\Local\Microsoft\Windows\Temporary Internet Files\Content.IE5\BIIF8TZ8\MCj04099190000[1].wmf"/>
          <p:cNvPicPr/>
          <p:nvPr/>
        </p:nvPicPr>
        <p:blipFill>
          <a:blip r:embed="rId3"/>
          <a:stretch/>
        </p:blipFill>
        <p:spPr>
          <a:xfrm>
            <a:off x="7391520" y="5016600"/>
            <a:ext cx="1584360" cy="1841400"/>
          </a:xfrm>
          <a:prstGeom prst="rect">
            <a:avLst/>
          </a:prstGeom>
          <a:ln w="0">
            <a:noFill/>
          </a:ln>
        </p:spPr>
      </p:pic>
      <p:pic>
        <p:nvPicPr>
          <p:cNvPr id="381" name="Picture 5" descr="C:\Users\J. Gindro\AppData\Local\Microsoft\Windows\Temporary Internet Files\Content.IE5\FZUSRSKI\MCj03833080000[1].wmf"/>
          <p:cNvPicPr/>
          <p:nvPr/>
        </p:nvPicPr>
        <p:blipFill>
          <a:blip r:embed="rId4"/>
          <a:stretch/>
        </p:blipFill>
        <p:spPr>
          <a:xfrm>
            <a:off x="2590920" y="2362320"/>
            <a:ext cx="4552920" cy="29066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6"/>
                                        </p:tgtEl>
                                        <p:attrNameLst>
                                          <p:attrName>style.visibility</p:attrName>
                                        </p:attrNameLst>
                                      </p:cBhvr>
                                      <p:to>
                                        <p:strVal val="visible"/>
                                      </p:to>
                                    </p:set>
                                    <p:animEffect filter="checkerboard(across)" transition="in">
                                      <p:cBhvr additive="repl">
                                        <p:cTn id="7" dur="500"/>
                                        <p:tgtEl>
                                          <p:spTgt spid="3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377">
                                            <p:txEl>
                                              <p:pRg st="0" end="0"/>
                                            </p:txEl>
                                          </p:spTgt>
                                        </p:tgtEl>
                                      </p:cBhvr>
                                      <p:to x="150000" y="150000"/>
                                    </p:animScale>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79"/>
                                        </p:tgtEl>
                                        <p:attrNameLst>
                                          <p:attrName>style.visibility</p:attrName>
                                        </p:attrNameLst>
                                      </p:cBhvr>
                                      <p:to>
                                        <p:strVal val="visible"/>
                                      </p:to>
                                    </p:set>
                                    <p:anim calcmode="lin" valueType="num">
                                      <p:cBhvr additive="base">
                                        <p:cTn id="16" dur="500" fill="hold"/>
                                        <p:tgtEl>
                                          <p:spTgt spid="379"/>
                                        </p:tgtEl>
                                        <p:attrNameLst>
                                          <p:attrName>ppt_x</p:attrName>
                                        </p:attrNameLst>
                                      </p:cBhvr>
                                      <p:tavLst>
                                        <p:tav tm="0">
                                          <p:val>
                                            <p:strVal val="#ppt_x"/>
                                          </p:val>
                                        </p:tav>
                                        <p:tav tm="100000">
                                          <p:val>
                                            <p:strVal val="#ppt_x"/>
                                          </p:val>
                                        </p:tav>
                                      </p:tavLst>
                                    </p:anim>
                                    <p:anim calcmode="lin" valueType="num">
                                      <p:cBhvr additive="base">
                                        <p:cTn id="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78"/>
                                        </p:tgtEl>
                                        <p:attrNameLst>
                                          <p:attrName>style.visibility</p:attrName>
                                        </p:attrNameLst>
                                      </p:cBhvr>
                                      <p:to>
                                        <p:strVal val="visible"/>
                                      </p:to>
                                    </p:set>
                                    <p:animEffect filter="box(in)" transition="in">
                                      <p:cBhvr additive="repl">
                                        <p:cTn id="22" dur="500"/>
                                        <p:tgtEl>
                                          <p:spTgt spid="3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0">
                                  <p:stCondLst>
                                    <p:cond delay="0"/>
                                  </p:stCondLst>
                                  <p:childTnLst>
                                    <p:set>
                                      <p:cBhvr>
                                        <p:cTn id="26" dur="1" fill="hold">
                                          <p:stCondLst>
                                            <p:cond delay="0"/>
                                          </p:stCondLst>
                                        </p:cTn>
                                        <p:tgtEl>
                                          <p:spTgt spid="380"/>
                                        </p:tgtEl>
                                        <p:attrNameLst>
                                          <p:attrName>style.visibility</p:attrName>
                                        </p:attrNameLst>
                                      </p:cBhvr>
                                      <p:to>
                                        <p:strVal val="visible"/>
                                      </p:to>
                                    </p:set>
                                    <p:animEffect filter="wedge" transition="in">
                                      <p:cBhvr additive="repl">
                                        <p:cTn id="27" dur="2000"/>
                                        <p:tgtEl>
                                          <p:spTgt spid="3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381"/>
                                        </p:tgtEl>
                                        <p:attrNameLst>
                                          <p:attrName>style.visibility</p:attrName>
                                        </p:attrNameLst>
                                      </p:cBhvr>
                                      <p:to>
                                        <p:strVal val="visible"/>
                                      </p:to>
                                    </p:set>
                                    <p:animEffect filter="wheel(4)" transition="in">
                                      <p:cBhvr additive="repl">
                                        <p:cTn id="3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Content Placeholder 3" descr="basic streaming architect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5" name="" descr=""/>
          <p:cNvPicPr/>
          <p:nvPr/>
        </p:nvPicPr>
        <p:blipFill>
          <a:blip r:embed="rId1"/>
          <a:stretch/>
        </p:blipFill>
        <p:spPr>
          <a:xfrm>
            <a:off x="914400" y="1784520"/>
            <a:ext cx="7772400" cy="4572000"/>
          </a:xfrm>
          <a:prstGeom prst="rect">
            <a:avLst/>
          </a:prstGeom>
          <a:ln w="0">
            <a:noFill/>
          </a:ln>
        </p:spPr>
      </p:pic>
      <p:pic>
        <p:nvPicPr>
          <p:cNvPr id="386" name="Picture 10" descr="basic streaming process"/>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8" name="Picture 2" descr="C:\Users\J. Gindro\Downloads\_775.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0" name="" descr=""/>
          <p:cNvPicPr/>
          <p:nvPr/>
        </p:nvPicPr>
        <p:blipFill>
          <a:blip r:embed="rId1"/>
          <a:stretch/>
        </p:blipFill>
        <p:spPr>
          <a:xfrm>
            <a:off x="914400" y="1784520"/>
            <a:ext cx="7772400" cy="4572000"/>
          </a:xfrm>
          <a:prstGeom prst="rect">
            <a:avLst/>
          </a:prstGeom>
          <a:ln w="0">
            <a:noFill/>
          </a:ln>
        </p:spPr>
      </p:pic>
      <p:pic>
        <p:nvPicPr>
          <p:cNvPr id="391" name="Picture 6" descr="OK Go's video on YouTube"/>
          <p:cNvPicPr/>
          <p:nvPr/>
        </p:nvPicPr>
        <p:blipFill>
          <a:blip r:embed="rId2"/>
          <a:stretch/>
        </p:blipFill>
        <p:spPr>
          <a:xfrm>
            <a:off x="0" y="0"/>
            <a:ext cx="9158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1:32:01Z</dcterms:created>
  <dc:creator>J. Gindro</dc:creator>
  <dc:description/>
  <dc:language>en-US</dc:language>
  <cp:lastModifiedBy>Dell XPS</cp:lastModifiedBy>
  <dcterms:modified xsi:type="dcterms:W3CDTF">2008-12-02T14:11:19Z</dcterms:modified>
  <cp:revision>27</cp:revision>
  <dc:subject/>
  <dc:title>Slide 1</dc:title>
</cp:coreProperties>
</file>