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61CB7-1D33-414E-B6BD-AF77E1F71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08AC-A879-451A-B2E5-5871A7884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882EA-970F-4BC4-8B33-F221D66A8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BD9C5-D8C2-4DAD-BED4-0654874D9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7700F-FD65-41F4-91D7-2C01AC5BA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71A09-790F-426A-80F7-B934BA318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B8E94-4BC5-4C60-A761-E38BE8739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27002-45D6-451F-90CE-B4403AE73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188C3-FDCA-4DE1-B3FC-CE46B23A7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DF208-46E6-4A15-924B-223D81C51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CECA4-CBD6-486D-A110-E2DADA59C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E156B-09C2-49E2-9C80-FF50D363E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6EB00-4CF0-452B-9A6D-F84DE3016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65B65-29A0-45F5-9356-6CED44CC2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74812-C9C5-4C2F-BF4B-ADA683651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6169C-6D34-44CB-BA6C-047AF2C5C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90BB2-0193-4692-A9B7-76DE45E24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BC6A0-5639-489A-9BED-3D1F4A7D5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2B4EC-4A5A-4467-A394-9D3F51715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1366F-A655-4CB6-823D-46BC5C75E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79B7B-E29D-4870-A6DE-D444813D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138E-0D3D-4DB7-8259-94672890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9C31-1DBA-443D-8986-089CA395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5D008-AA93-4BF1-926A-FFF1405E5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E71F-5E80-4D1A-A1BA-8737F7DC510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8760-9985-4CB7-A125-BB9F28934CF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6.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2720"/>
            <a:ext cx="7772400" cy="3232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2b2b2"/>
                </a:solidFill>
                <a:latin typeface="Arial"/>
              </a:rPr>
              <a:t>Broadcast Media : Digital Radio and Television</a:t>
            </a:r>
            <a:endParaRPr b="0" lang="en-US" sz="72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Television</a:t>
            </a:r>
            <a:endParaRPr b="0" lang="en-US" sz="4000" spc="-1" strike="noStrike">
              <a:solidFill>
                <a:srgbClr val="b2b2b2"/>
              </a:solidFill>
              <a:latin typeface="Arial"/>
            </a:endParaRPr>
          </a:p>
        </p:txBody>
      </p:sp>
      <p:sp>
        <p:nvSpPr>
          <p:cNvPr id="13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kehold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ew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m Industry</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adcasters</a:t>
            </a:r>
            <a:endParaRPr b="0" lang="en-US" sz="1200" spc="-1" strike="noStrike">
              <a:solidFill>
                <a:srgbClr val="ffffff"/>
              </a:solidFill>
              <a:latin typeface="Arial"/>
            </a:endParaRPr>
          </a:p>
          <a:p>
            <a:pPr marL="343080"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2" name=""/>
          <p:cNvGraphicFramePr/>
          <p:nvPr/>
        </p:nvGraphicFramePr>
        <p:xfrm>
          <a:off x="152280" y="1906560"/>
          <a:ext cx="8991720" cy="4951440"/>
        </p:xfrm>
        <a:graphic>
          <a:graphicData uri="http://schemas.openxmlformats.org/drawingml/2006/table">
            <a:tbl>
              <a:tblPr/>
              <a:tblGrid>
                <a:gridCol w="1676520"/>
                <a:gridCol w="3581280"/>
                <a:gridCol w="3733920"/>
              </a:tblGrid>
              <a:tr h="354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76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d picture (e.g. no ghosting effects, true widescreen)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gital Quality sound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V and new digital only radio channels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 key" enhanced information services &amp;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active content provide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rather expensive to set u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6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 Industr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of sound and picture is bet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little detail can be seen so make-up and details being filmed has to become better.</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dustry will have to update its technology to keep up with Digital television. Expensiv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 can be offered and sold on the TV as there is an interactive servi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complicated setup to analog television. Have to upgrade system, expensive.</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may still prefer to use analog television service if it is still availabl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Globalization &amp; Cultural Diversity</a:t>
            </a:r>
            <a:r>
              <a:rPr b="0" lang="en-US" sz="2800" spc="-1" strike="noStrike">
                <a:solidFill>
                  <a:srgbClr val="ffffff"/>
                </a:solidFill>
                <a:latin typeface="Arial"/>
              </a:rPr>
              <a:t> – Leads to cultural homogeneity as television broadcasts have become better. There is less divers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ality of access – Only those that can afford it may have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7" name=""/>
          <p:cNvGraphicFramePr/>
          <p:nvPr/>
        </p:nvGraphicFramePr>
        <p:xfrm>
          <a:off x="152280" y="838080"/>
          <a:ext cx="8991720" cy="5724720"/>
        </p:xfrm>
        <a:graphic>
          <a:graphicData uri="http://schemas.openxmlformats.org/drawingml/2006/table">
            <a:tbl>
              <a:tblPr/>
              <a:tblGrid>
                <a:gridCol w="2286000"/>
                <a:gridCol w="3124440"/>
                <a:gridCol w="3581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ativ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jobs can be created to develop this technolog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re can be more channels that can be broadcasted, more cultures can be broadcast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more channels can be broadcasted, more can be exposed leading to less divers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channels can be broadcasted in one, less waste and use for pow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life span therefore causing more e-wast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gonomic/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 sight problems and RSI due to tapping on the remo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logic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n’t socialize as much as they have a form of entertain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
          <p:cNvSpPr/>
          <p:nvPr/>
        </p:nvSpPr>
        <p:spPr>
          <a:xfrm>
            <a:off x="0" y="4572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t Formats For Saving Music</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MP3 Fil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Radio Work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ction="ppaction://hlinksldjump"/>
              </a:rPr>
              <a:t>How did Digital Radio emerg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formats for saving music</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3</a:t>
            </a:r>
            <a:r>
              <a:rPr b="0" lang="en-US" sz="2400" spc="-1" strike="noStrike">
                <a:solidFill>
                  <a:srgbClr val="ffffff"/>
                </a:solidFill>
                <a:latin typeface="Arial"/>
              </a:rPr>
              <a:t> – More popular method of transfer throughout the internet.</a:t>
            </a:r>
            <a:endParaRPr b="0" lang="en-US" sz="24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u="sng">
                <a:solidFill>
                  <a:srgbClr val="ffffcc"/>
                </a:solidFill>
                <a:uFillTx/>
                <a:latin typeface="Arial"/>
                <a:hlinkClick r:id="rId2" action="ppaction://hlinksldjump"/>
              </a:rPr>
              <a:t>More Detail</a:t>
            </a:r>
            <a:r>
              <a:rPr b="0" lang="en-US" sz="1400" spc="-1" strike="noStrike" u="sng">
                <a:solidFill>
                  <a:srgbClr val="ffffff"/>
                </a:solidFill>
                <a:uFillTx/>
                <a:latin typeface="Arial"/>
              </a:rPr>
              <a:t>)</a:t>
            </a:r>
            <a:endParaRPr b="0" lang="en-US" sz="14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A</a:t>
            </a:r>
            <a:r>
              <a:rPr b="0" lang="en-US" sz="2400" spc="-1" strike="noStrike">
                <a:solidFill>
                  <a:srgbClr val="ffffff"/>
                </a:solidFill>
                <a:latin typeface="Arial"/>
              </a:rPr>
              <a:t> – Format made by Microsoft with digital rights management built-in.</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a:t>
            </a:r>
            <a:r>
              <a:rPr b="0" lang="en-US" sz="2400" spc="-1" strike="noStrike">
                <a:solidFill>
                  <a:srgbClr val="ffffff"/>
                </a:solidFill>
                <a:latin typeface="Arial"/>
              </a:rPr>
              <a:t> – Files are larger, occupies more disk space.</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GG</a:t>
            </a:r>
            <a:r>
              <a:rPr b="0" lang="en-US" sz="2400" spc="-1" strike="noStrike">
                <a:solidFill>
                  <a:srgbClr val="ffffff"/>
                </a:solidFill>
                <a:latin typeface="Arial"/>
              </a:rPr>
              <a:t> – Open source codec means that no one has to pay license fees to use unlike other form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ow do MP3 files work? </a:t>
            </a:r>
            <a:r>
              <a:rPr b="0" lang="en-US" sz="1400" spc="-1" strike="noStrike" u="sng">
                <a:solidFill>
                  <a:srgbClr val="ffffcc"/>
                </a:solidFill>
                <a:uFillTx/>
                <a:latin typeface="Arial"/>
                <a:hlinkClick r:id="rId2" action="ppaction://hlinksldjump"/>
              </a:rPr>
              <a:t>Explanation</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P3 format is a compression system for musi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hy MP3 is an advantage?</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the number of bytes in a song without hurting the quality of the song's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 a CD-quality song by a factor of 10 to 14 without noticeably affecting the CD-quality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32-megabyte (MB) song on a CD compresses down to about 3 MB.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ing download in minutes rather than hours, and more storage available as files are smaller.</a:t>
            </a:r>
            <a:endParaRPr b="0" lang="en-US" sz="2800" spc="-1" strike="noStrike">
              <a:solidFill>
                <a:srgbClr val="ffffff"/>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7" name="" descr=""/>
          <p:cNvPicPr/>
          <p:nvPr/>
        </p:nvPicPr>
        <p:blipFill>
          <a:blip r:embed="rId2"/>
          <a:stretch/>
        </p:blipFill>
        <p:spPr>
          <a:xfrm>
            <a:off x="1905120" y="533520"/>
            <a:ext cx="547524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wor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 descr=""/>
          <p:cNvPicPr/>
          <p:nvPr/>
        </p:nvPicPr>
        <p:blipFill>
          <a:blip r:embed="rId1"/>
          <a:stretch/>
        </p:blipFill>
        <p:spPr>
          <a:xfrm>
            <a:off x="2590920" y="1295280"/>
            <a:ext cx="424656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5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eme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Satellite radio is an idea over a decade in the making. In 1992, the U.S. Federal Communications Commission (FCC) allocated a spectrum in the "S" band (2.3 GHz) for nationwide broadcasting of satellite-based Digital Audio Radio Service (DA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ce between Digital &amp; Analog Television</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How Digital Television Works</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Definition TV</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Television Emerged</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7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amp; Ethical Aspec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ction="ppaction://hlinksldjump"/>
              </a:rPr>
              <a:t>Digital Televi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5029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systems in a social contex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4" action="ppaction://hlinksldjump"/>
              </a:rPr>
              <a:t>Digital Television</a:t>
            </a:r>
            <a:endParaRPr b="0" lang="en-US" sz="1800" spc="-1" strike="noStrike">
              <a:solidFill>
                <a:srgbClr val="ffffff"/>
              </a:solidFill>
              <a:latin typeface="Arial"/>
            </a:endParaRPr>
          </a:p>
        </p:txBody>
      </p:sp>
      <p:sp>
        <p:nvSpPr>
          <p:cNvPr id="101" name=""/>
          <p:cNvSpPr/>
          <p:nvPr/>
        </p:nvSpPr>
        <p:spPr>
          <a:xfrm>
            <a:off x="2666880" y="5181480"/>
            <a:ext cx="3810240" cy="144792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Impa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Television</a:t>
            </a:r>
            <a:endParaRPr b="0" lang="en-US" sz="1800" spc="-1" strike="noStrike">
              <a:solidFill>
                <a:srgbClr val="ffffff"/>
              </a:solidFill>
              <a:latin typeface="Arial"/>
            </a:endParaRPr>
          </a:p>
        </p:txBody>
      </p:sp>
      <p:sp>
        <p:nvSpPr>
          <p:cNvPr id="102"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2666880" y="533520"/>
            <a:ext cx="3810240" cy="144756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 Artic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5" action="ppaction://hlinksldjump"/>
              </a:rPr>
              <a:t>Digital Radi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6" action="ppaction://hlinksldjump"/>
              </a:rPr>
              <a:t>Digital Televis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flipH="1" flipV="1">
            <a:off x="26668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8954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114800" y="342900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4114800" y="358128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579132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6236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7"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fference between Digital &amp; Analog Television</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lu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alog TV picture is much fuzzier than the digital TV image.  There is a significant difference in picture quality that is even more obvious when the image is moving. (</a:t>
            </a:r>
            <a:r>
              <a:rPr b="0" lang="en-US" sz="1600" spc="-1" strike="noStrike" u="sng">
                <a:solidFill>
                  <a:srgbClr val="ffffcc"/>
                </a:solidFill>
                <a:uFillTx/>
                <a:latin typeface="Arial"/>
                <a:hlinkClick r:id="rId1" action="ppaction://hlinksldjump"/>
              </a:rPr>
              <a:t>Example</a:t>
            </a:r>
            <a:r>
              <a:rPr b="0" lang="en-US" sz="1600" spc="-1" strike="noStrike" u="sng">
                <a:solidFill>
                  <a:srgbClr val="ffffff"/>
                </a:solidFill>
                <a:uFillTx/>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picture that is displayed on a small analog TV is better than on a big one. A digital signal can support a higher resolution, so the picture will still look good when shown on a larger TV scre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much better soun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better aspect ratio. (</a:t>
            </a:r>
            <a:r>
              <a:rPr b="0" lang="en-US" sz="1600" spc="-1" strike="noStrike" u="sng">
                <a:solidFill>
                  <a:srgbClr val="ffffcc"/>
                </a:solidFill>
                <a:uFillTx/>
                <a:latin typeface="Arial"/>
                <a:hlinkClick r:id="rId2" action="ppaction://hlinksldjump"/>
              </a:rPr>
              <a:t>Explain</a:t>
            </a:r>
            <a:r>
              <a:rPr b="0" lang="en-US" sz="1600" spc="-1" strike="noStrike" u="sng">
                <a:solidFill>
                  <a:srgbClr val="ffffff"/>
                </a:solidFill>
                <a:uFillTx/>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ideo can be progressive rather than interlaced - the screen shows the entire picture for every frame instead of every other line of pixel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 stations can broadcast several signals using the same bandwidth. This is called </a:t>
            </a:r>
            <a:r>
              <a:rPr b="1" lang="en-US" sz="1600" spc="-1" strike="noStrike">
                <a:solidFill>
                  <a:srgbClr val="ffffff"/>
                </a:solidFill>
                <a:latin typeface="Arial"/>
              </a:rPr>
              <a:t>multicasting</a:t>
            </a:r>
            <a:r>
              <a:rPr b="0" lang="en-US" sz="1600" spc="-1" strike="noStrike">
                <a:solidFill>
                  <a:srgbClr val="ffffff"/>
                </a:solidFill>
                <a:latin typeface="Arial"/>
              </a:rPr>
              <a:t>. Frees space for more digital channel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broadcasters choose to, they can include interactive content or additional information with the DTV signal.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an support high-definition (HDTV) broadcast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hould highlight what Digital Television 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0"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Television works?</a:t>
            </a:r>
            <a:endParaRPr b="0" lang="en-US" sz="28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pictures are converted into a digital format and compressed, using as few bits as possible to convey the information on a digital signal. This technique enables several television channels to be carried in the space used by the current analogue signals to carry one channel.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signals can be received by standard aerials, satellite dishes or via cable.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ded and turned back into sound and pictures by using a separate set-top box, or a decoder built into your television.</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62"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finition Television (HDTV)</a:t>
            </a:r>
            <a:endParaRPr b="0" lang="en-US" sz="2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et of digital television (DTV) standards that offer the highest resolution and sharpest picture. Although a few HDTV sets are available in standard screen sizes, the overwhelming majority are wide screen, which eliminates the letterbox effect when watching HD programs and movies in their original form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 ratio</a:t>
            </a:r>
            <a:r>
              <a:rPr b="0" lang="en-US" sz="1800" spc="-1" strike="noStrike">
                <a:solidFill>
                  <a:srgbClr val="ffffff"/>
                </a:solidFill>
                <a:latin typeface="Arial"/>
              </a:rPr>
              <a:t> - Standard television has a 4:3 aspect ratio - it is four units wide by three units high. HDTV has a 16:9 aspect ratio, more like a movie screen.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lution</a:t>
            </a:r>
            <a:r>
              <a:rPr b="0" lang="en-US" sz="1800" spc="-1" strike="noStrike">
                <a:solidFill>
                  <a:srgbClr val="ffffff"/>
                </a:solidFill>
                <a:latin typeface="Arial"/>
              </a:rPr>
              <a:t> - The lowest standard resolution (SDTV) will be about the same as analog TV and will go up to 704 x 480 pixels. The highest HDTV resolution is 1920 x 1080 pixels. HDTV can display about ten times as many pixels as an analog TV set.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ame rate</a:t>
            </a:r>
            <a:r>
              <a:rPr b="0" lang="en-US" sz="1800" spc="-1" strike="noStrike">
                <a:solidFill>
                  <a:srgbClr val="ffffff"/>
                </a:solidFill>
                <a:latin typeface="Arial"/>
              </a:rPr>
              <a:t> - A set's frame rate describes how many times it creates a complete picture on the screen every second. DTV frame rates usually end in "i" or "p" to denote whether they are interlaced or progressive. DTV frame rates range from 24p (24 frames per second, progressive) to 60p (60 frames per second, progressive).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64" name="" descr=""/>
          <p:cNvPicPr/>
          <p:nvPr/>
        </p:nvPicPr>
        <p:blipFill>
          <a:blip r:embed="rId1"/>
          <a:stretch/>
        </p:blipFill>
        <p:spPr>
          <a:xfrm>
            <a:off x="838080" y="2057400"/>
            <a:ext cx="3333960" cy="3570120"/>
          </a:xfrm>
          <a:prstGeom prst="rect">
            <a:avLst/>
          </a:prstGeom>
          <a:ln w="0">
            <a:noFill/>
          </a:ln>
        </p:spPr>
      </p:pic>
      <p:pic>
        <p:nvPicPr>
          <p:cNvPr id="165" name="" descr=""/>
          <p:cNvPicPr/>
          <p:nvPr/>
        </p:nvPicPr>
        <p:blipFill>
          <a:blip r:embed="rId2"/>
          <a:stretch/>
        </p:blipFill>
        <p:spPr>
          <a:xfrm>
            <a:off x="4876920" y="2057400"/>
            <a:ext cx="3333600" cy="3571920"/>
          </a:xfrm>
          <a:prstGeom prst="rect">
            <a:avLst/>
          </a:prstGeom>
          <a:ln w="0">
            <a:noFill/>
          </a:ln>
        </p:spPr>
      </p:pic>
      <p:sp>
        <p:nvSpPr>
          <p:cNvPr id="166"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67"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68"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0" name="" descr=""/>
          <p:cNvPicPr/>
          <p:nvPr/>
        </p:nvPicPr>
        <p:blipFill>
          <a:blip r:embed="rId1"/>
          <a:stretch/>
        </p:blipFill>
        <p:spPr>
          <a:xfrm>
            <a:off x="838080" y="2057400"/>
            <a:ext cx="3333960" cy="3570120"/>
          </a:xfrm>
          <a:prstGeom prst="rect">
            <a:avLst/>
          </a:prstGeom>
          <a:ln w="0">
            <a:noFill/>
          </a:ln>
        </p:spPr>
      </p:pic>
      <p:pic>
        <p:nvPicPr>
          <p:cNvPr id="171" name="" descr=""/>
          <p:cNvPicPr/>
          <p:nvPr/>
        </p:nvPicPr>
        <p:blipFill>
          <a:blip r:embed="rId2"/>
          <a:stretch/>
        </p:blipFill>
        <p:spPr>
          <a:xfrm>
            <a:off x="4876920" y="2057400"/>
            <a:ext cx="3333600" cy="3571920"/>
          </a:xfrm>
          <a:prstGeom prst="rect">
            <a:avLst/>
          </a:prstGeom>
          <a:ln w="0">
            <a:noFill/>
          </a:ln>
        </p:spPr>
      </p:pic>
      <p:sp>
        <p:nvSpPr>
          <p:cNvPr id="172"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73"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74"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6" name="" descr=""/>
          <p:cNvPicPr/>
          <p:nvPr/>
        </p:nvPicPr>
        <p:blipFill>
          <a:blip r:embed="rId1"/>
          <a:stretch/>
        </p:blipFill>
        <p:spPr>
          <a:xfrm>
            <a:off x="609480" y="1981080"/>
            <a:ext cx="7925040" cy="4362480"/>
          </a:xfrm>
          <a:prstGeom prst="rect">
            <a:avLst/>
          </a:prstGeom>
          <a:ln w="0">
            <a:noFill/>
          </a:ln>
        </p:spPr>
      </p:pic>
      <p:sp>
        <p:nvSpPr>
          <p:cNvPr id="177" name=""/>
          <p:cNvSpPr/>
          <p:nvPr/>
        </p:nvSpPr>
        <p:spPr>
          <a:xfrm>
            <a:off x="0" y="10666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0" y="457200"/>
            <a:ext cx="9144000" cy="1382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pect Ratio Difference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Radio</a:t>
            </a:r>
            <a:endParaRPr b="0" lang="en-US" sz="4000" spc="-1" strike="noStrike">
              <a:solidFill>
                <a:srgbClr val="b2b2b2"/>
              </a:solidFill>
              <a:latin typeface="Arial"/>
            </a:endParaRPr>
          </a:p>
        </p:txBody>
      </p:sp>
      <p:sp>
        <p:nvSpPr>
          <p:cNvPr id="18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1"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ore channels available classed by genre, children can listen for educational reason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ime can be spent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gers clicking on buttons looking for channel may cause RSI.</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can be broadcasted and put in the right channel, things can be classed properl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may just be too much to look throug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waste, as this will replace analog radi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a lot of power.</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Television</a:t>
            </a:r>
            <a:endParaRPr b="0" lang="en-US" sz="4000" spc="-1" strike="noStrike">
              <a:solidFill>
                <a:srgbClr val="b2b2b2"/>
              </a:solidFill>
              <a:latin typeface="Arial"/>
            </a:endParaRPr>
          </a:p>
        </p:txBody>
      </p:sp>
      <p:sp>
        <p:nvSpPr>
          <p:cNvPr id="183"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4"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hings can be done on TV, telemarketing can be replaced so products can be sold on TV instead.</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ore channels can be broadcasted, more opportunities for educational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ime can be spent watching TV instead of actually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d for eyes as constantly staring at TV. RSI as flicking through remote control.</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mes can be put and played on the TV. There can be music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can be too much to look through. People may choose to find entertainment on the TV instead of going out to do so.</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short lifespan, causes e-wast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Radio</a:t>
            </a:r>
            <a:endParaRPr b="0" lang="en-US" sz="4000" spc="-1" strike="noStrike">
              <a:solidFill>
                <a:srgbClr val="b2b2b2"/>
              </a:solidFill>
              <a:latin typeface="Arial"/>
            </a:endParaRPr>
          </a:p>
        </p:txBody>
      </p:sp>
      <p:sp>
        <p:nvSpPr>
          <p:cNvPr id="111"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2"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W.</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options for cars to have a Digital Radi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adio is getting popula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ing an Extra $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Television</a:t>
            </a:r>
            <a:endParaRPr b="0" lang="en-US" sz="4000" spc="-1" strike="noStrike">
              <a:solidFill>
                <a:srgbClr val="b2b2b2"/>
              </a:solidFill>
              <a:latin typeface="Arial"/>
            </a:endParaRPr>
          </a:p>
        </p:txBody>
      </p:sp>
      <p:sp>
        <p:nvSpPr>
          <p:cNvPr id="11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graphicFrame>
        <p:nvGraphicFramePr>
          <p:cNvPr id="116"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will need substantial help to switch to digital televis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witch may not be affordable for othe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BC will pay for help for the over-75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18"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Issu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Social Impact</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Stakehold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Radio</a:t>
            </a:r>
            <a:endParaRPr b="0" lang="en-US" sz="4000" spc="-1" strike="noStrike">
              <a:solidFill>
                <a:srgbClr val="b2b2b2"/>
              </a:solidFill>
              <a:latin typeface="Arial"/>
            </a:endParaRPr>
          </a:p>
        </p:txBody>
      </p:sp>
      <p:sp>
        <p:nvSpPr>
          <p:cNvPr id="12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keholders</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eners </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adcasters</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21" name=""/>
          <p:cNvGraphicFramePr/>
          <p:nvPr/>
        </p:nvGraphicFramePr>
        <p:xfrm>
          <a:off x="152280" y="2209680"/>
          <a:ext cx="8991720" cy="4316400"/>
        </p:xfrm>
        <a:graphic>
          <a:graphicData uri="http://schemas.openxmlformats.org/drawingml/2006/table">
            <a:tbl>
              <a:tblPr/>
              <a:tblGrid>
                <a:gridCol w="1676520"/>
                <a:gridCol w="3581280"/>
                <a:gridCol w="3733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reception, not affected by area coverage &amp; atmospheric conditions, e.g. Hill or base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e of use, no problems with tuning and stations can be selected at a click of a butt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olling text, people can find out what they’re listening to while listening to the radio.</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lots more stations to choose from.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are more sophisticated and often include extra functions, such as being able to pause and record.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 won't be able to pick up local stations using satellite radio services, but they will have access to hundreds of stations offering a variety of music genres.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nsive to buy the equip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tend to consume more power than analogue ones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coverage, more people will be able to hear their stati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expensive to set up on digital Radio than Analo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3"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vacy</a:t>
            </a:r>
            <a:r>
              <a:rPr b="0" lang="en-US" sz="2800" spc="-1" strike="noStrike">
                <a:solidFill>
                  <a:srgbClr val="ffffff"/>
                </a:solidFill>
                <a:latin typeface="Arial"/>
              </a:rPr>
              <a:t> – Information can be released about someone to the extent that everyone on the internet can hear it if they access the digital radio as there are no geographic bounda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lobalization</a:t>
            </a:r>
            <a:r>
              <a:rPr b="0" lang="en-US" sz="2800" spc="-1" strike="noStrike">
                <a:solidFill>
                  <a:srgbClr val="ffffff"/>
                </a:solidFill>
                <a:latin typeface="Arial"/>
              </a:rPr>
              <a:t> – Any event can be broadcasted immediately on digital Radio and everyone can hear it. There are no geographic boundari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Equality of access</a:t>
            </a:r>
            <a:r>
              <a:rPr b="0" lang="en-US" sz="2800" spc="-1" strike="noStrike">
                <a:solidFill>
                  <a:srgbClr val="ffffff"/>
                </a:solidFill>
                <a:latin typeface="Arial"/>
              </a:rPr>
              <a:t> – Only those that can afford it may have i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5"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152280" y="838080"/>
          <a:ext cx="8991360" cy="5823000"/>
        </p:xfrm>
        <a:graphic>
          <a:graphicData uri="http://schemas.openxmlformats.org/drawingml/2006/table">
            <a:tbl>
              <a:tblPr/>
              <a:tblGrid>
                <a:gridCol w="2895480"/>
                <a:gridCol w="2971800"/>
                <a:gridCol w="3124080"/>
              </a:tblGrid>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jobs provided as there is new technolog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 sets are expensive and people can just use the normal analog radi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ming information can be released about somebody and it is easier to get away with as there are so many channel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ltur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cultures can be broadcasted, provides cultural aware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s cultures may not be broadcasted to lead to less diversity.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radios will be thrown out because of digital radio replacement causing E-was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gonomic/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ping on the screen will lead to RSI.</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 name=""/>
          <p:cNvSpPr/>
          <p:nvPr/>
        </p:nvSpPr>
        <p:spPr>
          <a:xfrm>
            <a:off x="0" y="3808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2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2" action="ppaction://hlinksldjump"/>
              </a:rPr>
              <a:t>Issu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3" action="ppaction://hlinksldjump"/>
              </a:rPr>
              <a:t>Social Impac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4" action="ppaction://hlinksldjump"/>
              </a:rPr>
              <a:t>Stakeholder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3:01:50Z</dcterms:created>
  <dc:creator>jtuah</dc:creator>
  <dc:description/>
  <dc:language>en-US</dc:language>
  <cp:lastModifiedBy>jtuah</cp:lastModifiedBy>
  <dcterms:modified xsi:type="dcterms:W3CDTF">2006-11-15T02:44:38Z</dcterms:modified>
  <cp:revision>32</cp:revision>
  <dc:subject/>
  <dc:title>Broadcast Media : Digital Radio and Television</dc:title>
</cp:coreProperties>
</file>